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CE4B-8565-4834-8EB7-5C300EB09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C734-BCBF-42F4-A82D-5CA6393D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53B4-4E82-42EA-8F75-456F42FD2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D56C-4B9B-4B23-BD21-0CEEB5F98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147A-F49D-4553-91BC-FC0214E2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31EE-FC4D-4080-98E3-02A9A434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684E-180C-4021-B2A4-3FF37DC0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544B-CEAC-463E-98D1-C1907027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49D1-2B6E-4D0D-B948-30479E48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EF70-0445-48FE-B13D-6E5BCAF6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C9CA-E192-4482-B461-ADE7E86A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DA9A-BC11-4980-AC9C-4AE5AF4E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2AA9-EF43-4AA7-9E87-B6A909D6A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4.03: Systems of Equations and Inequa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ing Systems by 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2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y + 2x =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Ink 4"/>
          <p:cNvSpPr/>
          <p:nvPr/>
        </p:nvSpPr>
        <p:spPr>
          <a:xfrm>
            <a:off x="1554120" y="2365200"/>
            <a:ext cx="1017720" cy="1224000"/>
          </a:xfrm>
          <a:custGeom>
            <a:avLst/>
            <a:gdLst/>
            <a:ahLst/>
            <a:rect l="l" t="t" r="r" b="b"/>
            <a:pathLst>
              <a:path w="2827" h="3399">
                <a:moveTo>
                  <a:pt x="5524" y="6572"/>
                </a:moveTo>
                <a:cubicBezTo>
                  <a:pt x="5545" y="6634"/>
                  <a:pt x="5552" y="6657"/>
                  <a:pt x="5556" y="6731"/>
                </a:cubicBezTo>
                <a:cubicBezTo>
                  <a:pt x="5563" y="6848"/>
                  <a:pt x="5545" y="6968"/>
                  <a:pt x="5524" y="7080"/>
                </a:cubicBezTo>
                <a:cubicBezTo>
                  <a:pt x="5497" y="7228"/>
                  <a:pt x="5488" y="7379"/>
                  <a:pt x="5461" y="7525"/>
                </a:cubicBezTo>
                <a:cubicBezTo>
                  <a:pt x="5438" y="7652"/>
                  <a:pt x="5403" y="7778"/>
                  <a:pt x="5398" y="7906"/>
                </a:cubicBezTo>
                <a:cubicBezTo>
                  <a:pt x="5394" y="8001"/>
                  <a:pt x="5398" y="8097"/>
                  <a:pt x="5398" y="8192"/>
                </a:cubicBezTo>
                <a:cubicBezTo>
                  <a:pt x="5470" y="8171"/>
                  <a:pt x="5430" y="8153"/>
                  <a:pt x="5493" y="8128"/>
                </a:cubicBezTo>
                <a:cubicBezTo>
                  <a:pt x="5571" y="8097"/>
                  <a:pt x="5668" y="8118"/>
                  <a:pt x="5747" y="8096"/>
                </a:cubicBezTo>
                <a:cubicBezTo>
                  <a:pt x="5864" y="8063"/>
                  <a:pt x="5970" y="8064"/>
                  <a:pt x="6096" y="8064"/>
                </a:cubicBezTo>
                <a:cubicBezTo>
                  <a:pt x="6344" y="8064"/>
                  <a:pt x="6585" y="8069"/>
                  <a:pt x="6826" y="8096"/>
                </a:cubicBezTo>
                <a:cubicBezTo>
                  <a:pt x="6910" y="8105"/>
                  <a:pt x="7011" y="8118"/>
                  <a:pt x="7080" y="8128"/>
                </a:cubicBezTo>
                <a:cubicBezTo>
                  <a:pt x="7112" y="8128"/>
                  <a:pt x="7123" y="8128"/>
                  <a:pt x="7144" y="8128"/>
                </a:cubicBezTo>
                <a:cubicBezTo>
                  <a:pt x="7124" y="8103"/>
                  <a:pt x="7101" y="8083"/>
                  <a:pt x="7080" y="8033"/>
                </a:cubicBezTo>
                <a:cubicBezTo>
                  <a:pt x="7047" y="7952"/>
                  <a:pt x="7048" y="7869"/>
                  <a:pt x="7048" y="7779"/>
                </a:cubicBezTo>
                <a:cubicBezTo>
                  <a:pt x="7048" y="7490"/>
                  <a:pt x="7043" y="7204"/>
                  <a:pt x="7080" y="6922"/>
                </a:cubicBezTo>
                <a:cubicBezTo>
                  <a:pt x="7093" y="6820"/>
                  <a:pt x="7080" y="6707"/>
                  <a:pt x="7080" y="6604"/>
                </a:cubicBezTo>
                <a:cubicBezTo>
                  <a:pt x="7039" y="6625"/>
                  <a:pt x="6996" y="6647"/>
                  <a:pt x="6953" y="6668"/>
                </a:cubicBezTo>
                <a:cubicBezTo>
                  <a:pt x="6858" y="6715"/>
                  <a:pt x="6742" y="6727"/>
                  <a:pt x="6636" y="6731"/>
                </a:cubicBezTo>
                <a:cubicBezTo>
                  <a:pt x="6474" y="6737"/>
                  <a:pt x="6319" y="6750"/>
                  <a:pt x="6160" y="6763"/>
                </a:cubicBezTo>
                <a:cubicBezTo>
                  <a:pt x="6021" y="6775"/>
                  <a:pt x="5883" y="6761"/>
                  <a:pt x="5747" y="6794"/>
                </a:cubicBezTo>
                <a:cubicBezTo>
                  <a:pt x="5668" y="6813"/>
                  <a:pt x="5655" y="6819"/>
                  <a:pt x="5588" y="6826"/>
                </a:cubicBezTo>
              </a:path>
              <a:path w="2827" h="3399">
                <a:moveTo>
                  <a:pt x="4477" y="8414"/>
                </a:moveTo>
                <a:cubicBezTo>
                  <a:pt x="4450" y="8441"/>
                  <a:pt x="4427" y="8450"/>
                  <a:pt x="4413" y="8509"/>
                </a:cubicBezTo>
                <a:cubicBezTo>
                  <a:pt x="4399" y="8566"/>
                  <a:pt x="4385" y="8608"/>
                  <a:pt x="4382" y="8668"/>
                </a:cubicBezTo>
                <a:cubicBezTo>
                  <a:pt x="4374" y="8810"/>
                  <a:pt x="4366" y="8943"/>
                  <a:pt x="4350" y="9080"/>
                </a:cubicBezTo>
                <a:cubicBezTo>
                  <a:pt x="4328" y="9271"/>
                  <a:pt x="4345" y="9463"/>
                  <a:pt x="4318" y="9652"/>
                </a:cubicBezTo>
                <a:cubicBezTo>
                  <a:pt x="4303" y="9753"/>
                  <a:pt x="4318" y="9867"/>
                  <a:pt x="4318" y="9970"/>
                </a:cubicBezTo>
                <a:cubicBezTo>
                  <a:pt x="4390" y="9898"/>
                  <a:pt x="4429" y="9881"/>
                  <a:pt x="4508" y="9842"/>
                </a:cubicBezTo>
                <a:cubicBezTo>
                  <a:pt x="4573" y="9810"/>
                  <a:pt x="4620" y="9811"/>
                  <a:pt x="4699" y="9811"/>
                </a:cubicBezTo>
                <a:cubicBezTo>
                  <a:pt x="4783" y="9811"/>
                  <a:pt x="4842" y="9831"/>
                  <a:pt x="4921" y="9842"/>
                </a:cubicBezTo>
                <a:cubicBezTo>
                  <a:pt x="4988" y="9851"/>
                  <a:pt x="5014" y="9868"/>
                  <a:pt x="5080" y="9874"/>
                </a:cubicBezTo>
                <a:cubicBezTo>
                  <a:pt x="5091" y="9874"/>
                  <a:pt x="5101" y="9874"/>
                  <a:pt x="5112" y="9874"/>
                </a:cubicBezTo>
                <a:cubicBezTo>
                  <a:pt x="5112" y="9780"/>
                  <a:pt x="5129" y="9708"/>
                  <a:pt x="5144" y="9620"/>
                </a:cubicBezTo>
                <a:cubicBezTo>
                  <a:pt x="5159" y="9532"/>
                  <a:pt x="5181" y="9353"/>
                  <a:pt x="5175" y="9271"/>
                </a:cubicBezTo>
                <a:cubicBezTo>
                  <a:pt x="5167" y="9155"/>
                  <a:pt x="5144" y="9044"/>
                  <a:pt x="5144" y="8922"/>
                </a:cubicBezTo>
                <a:cubicBezTo>
                  <a:pt x="5144" y="8804"/>
                  <a:pt x="5142" y="8704"/>
                  <a:pt x="5112" y="8604"/>
                </a:cubicBezTo>
                <a:cubicBezTo>
                  <a:pt x="5112" y="8593"/>
                  <a:pt x="5112" y="8583"/>
                  <a:pt x="5112" y="8572"/>
                </a:cubicBezTo>
                <a:cubicBezTo>
                  <a:pt x="5082" y="8587"/>
                  <a:pt x="5017" y="8627"/>
                  <a:pt x="4985" y="8636"/>
                </a:cubicBezTo>
                <a:cubicBezTo>
                  <a:pt x="4842" y="8674"/>
                  <a:pt x="4667" y="8590"/>
                  <a:pt x="4540" y="8604"/>
                </a:cubicBezTo>
                <a:cubicBezTo>
                  <a:pt x="4504" y="8604"/>
                  <a:pt x="4490" y="8607"/>
                  <a:pt x="4477" y="8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Ink 5"/>
          <p:cNvSpPr/>
          <p:nvPr/>
        </p:nvSpPr>
        <p:spPr>
          <a:xfrm>
            <a:off x="971640" y="3508200"/>
            <a:ext cx="446040" cy="217800"/>
          </a:xfrm>
          <a:custGeom>
            <a:avLst/>
            <a:gdLst/>
            <a:ahLst/>
            <a:rect l="l" t="t" r="r" b="b"/>
            <a:pathLst>
              <a:path w="1239" h="604">
                <a:moveTo>
                  <a:pt x="2699" y="10192"/>
                </a:moveTo>
                <a:cubicBezTo>
                  <a:pt x="2699" y="10129"/>
                  <a:pt x="2713" y="10116"/>
                  <a:pt x="2730" y="10065"/>
                </a:cubicBezTo>
                <a:cubicBezTo>
                  <a:pt x="2748" y="10010"/>
                  <a:pt x="2781" y="9983"/>
                  <a:pt x="2826" y="9938"/>
                </a:cubicBezTo>
                <a:cubicBezTo>
                  <a:pt x="2886" y="9878"/>
                  <a:pt x="2992" y="9794"/>
                  <a:pt x="3080" y="9779"/>
                </a:cubicBezTo>
                <a:cubicBezTo>
                  <a:pt x="3200" y="9758"/>
                  <a:pt x="3311" y="9749"/>
                  <a:pt x="3429" y="9779"/>
                </a:cubicBezTo>
                <a:cubicBezTo>
                  <a:pt x="3538" y="9806"/>
                  <a:pt x="3632" y="9869"/>
                  <a:pt x="3715" y="9938"/>
                </a:cubicBezTo>
                <a:cubicBezTo>
                  <a:pt x="3784" y="9995"/>
                  <a:pt x="3873" y="10076"/>
                  <a:pt x="3905" y="10160"/>
                </a:cubicBezTo>
                <a:cubicBezTo>
                  <a:pt x="3916" y="10189"/>
                  <a:pt x="3958" y="10249"/>
                  <a:pt x="3937" y="10287"/>
                </a:cubicBezTo>
                <a:cubicBezTo>
                  <a:pt x="3908" y="10316"/>
                  <a:pt x="3898" y="10322"/>
                  <a:pt x="3905" y="10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Ink 6"/>
          <p:cNvSpPr/>
          <p:nvPr/>
        </p:nvSpPr>
        <p:spPr>
          <a:xfrm>
            <a:off x="879480" y="3611520"/>
            <a:ext cx="2732040" cy="766800"/>
          </a:xfrm>
          <a:custGeom>
            <a:avLst/>
            <a:gdLst/>
            <a:ahLst/>
            <a:rect l="l" t="t" r="r" b="b"/>
            <a:pathLst>
              <a:path w="7589" h="2128">
                <a:moveTo>
                  <a:pt x="2540" y="10509"/>
                </a:moveTo>
                <a:cubicBezTo>
                  <a:pt x="2551" y="10499"/>
                  <a:pt x="2561" y="10488"/>
                  <a:pt x="2572" y="10478"/>
                </a:cubicBezTo>
                <a:cubicBezTo>
                  <a:pt x="2556" y="10542"/>
                  <a:pt x="2540" y="10559"/>
                  <a:pt x="2540" y="10636"/>
                </a:cubicBezTo>
                <a:cubicBezTo>
                  <a:pt x="2540" y="10710"/>
                  <a:pt x="2508" y="10777"/>
                  <a:pt x="2508" y="10858"/>
                </a:cubicBezTo>
                <a:cubicBezTo>
                  <a:pt x="2508" y="10953"/>
                  <a:pt x="2481" y="11022"/>
                  <a:pt x="2476" y="11112"/>
                </a:cubicBezTo>
                <a:cubicBezTo>
                  <a:pt x="2473" y="11169"/>
                  <a:pt x="2417" y="11248"/>
                  <a:pt x="2445" y="11208"/>
                </a:cubicBezTo>
                <a:cubicBezTo>
                  <a:pt x="2460" y="11186"/>
                  <a:pt x="2546" y="11132"/>
                  <a:pt x="2572" y="11144"/>
                </a:cubicBezTo>
                <a:cubicBezTo>
                  <a:pt x="2603" y="11158"/>
                  <a:pt x="2672" y="11161"/>
                  <a:pt x="2699" y="11176"/>
                </a:cubicBezTo>
                <a:cubicBezTo>
                  <a:pt x="2757" y="11209"/>
                  <a:pt x="2782" y="11208"/>
                  <a:pt x="2858" y="11208"/>
                </a:cubicBezTo>
                <a:cubicBezTo>
                  <a:pt x="2934" y="11208"/>
                  <a:pt x="2919" y="11196"/>
                  <a:pt x="2953" y="11144"/>
                </a:cubicBezTo>
                <a:cubicBezTo>
                  <a:pt x="2988" y="11108"/>
                  <a:pt x="2999" y="11091"/>
                  <a:pt x="2984" y="11049"/>
                </a:cubicBezTo>
              </a:path>
              <a:path w="7589" h="2128">
                <a:moveTo>
                  <a:pt x="3016" y="10414"/>
                </a:moveTo>
                <a:cubicBezTo>
                  <a:pt x="3016" y="10495"/>
                  <a:pt x="2988" y="10552"/>
                  <a:pt x="2984" y="10636"/>
                </a:cubicBezTo>
                <a:cubicBezTo>
                  <a:pt x="2977" y="10776"/>
                  <a:pt x="2957" y="10909"/>
                  <a:pt x="2953" y="11049"/>
                </a:cubicBezTo>
                <a:cubicBezTo>
                  <a:pt x="2949" y="11173"/>
                  <a:pt x="2949" y="11341"/>
                  <a:pt x="2921" y="11462"/>
                </a:cubicBezTo>
                <a:cubicBezTo>
                  <a:pt x="2906" y="11526"/>
                  <a:pt x="2935" y="11605"/>
                  <a:pt x="2889" y="11652"/>
                </a:cubicBezTo>
                <a:cubicBezTo>
                  <a:pt x="2866" y="11675"/>
                  <a:pt x="2858" y="11691"/>
                  <a:pt x="2858" y="11652"/>
                </a:cubicBezTo>
              </a:path>
              <a:path w="7589" h="2128">
                <a:moveTo>
                  <a:pt x="3842" y="10128"/>
                </a:moveTo>
                <a:cubicBezTo>
                  <a:pt x="3785" y="10169"/>
                  <a:pt x="3734" y="10218"/>
                  <a:pt x="3683" y="10287"/>
                </a:cubicBezTo>
                <a:cubicBezTo>
                  <a:pt x="3577" y="10431"/>
                  <a:pt x="3508" y="10604"/>
                  <a:pt x="3429" y="10763"/>
                </a:cubicBezTo>
                <a:cubicBezTo>
                  <a:pt x="3337" y="10948"/>
                  <a:pt x="3303" y="11073"/>
                  <a:pt x="3270" y="11271"/>
                </a:cubicBezTo>
                <a:cubicBezTo>
                  <a:pt x="3246" y="11415"/>
                  <a:pt x="3245" y="11548"/>
                  <a:pt x="3302" y="11684"/>
                </a:cubicBezTo>
                <a:cubicBezTo>
                  <a:pt x="3334" y="11761"/>
                  <a:pt x="3371" y="11816"/>
                  <a:pt x="3429" y="11874"/>
                </a:cubicBezTo>
                <a:cubicBezTo>
                  <a:pt x="3475" y="11920"/>
                  <a:pt x="3457" y="11892"/>
                  <a:pt x="3461" y="11874"/>
                </a:cubicBezTo>
                <a:cubicBezTo>
                  <a:pt x="3461" y="11864"/>
                  <a:pt x="3461" y="11853"/>
                  <a:pt x="3461" y="11843"/>
                </a:cubicBezTo>
              </a:path>
              <a:path w="7589" h="2128">
                <a:moveTo>
                  <a:pt x="3810" y="10795"/>
                </a:moveTo>
                <a:cubicBezTo>
                  <a:pt x="3822" y="10747"/>
                  <a:pt x="3840" y="10707"/>
                  <a:pt x="3874" y="10668"/>
                </a:cubicBezTo>
                <a:cubicBezTo>
                  <a:pt x="3918" y="10617"/>
                  <a:pt x="3935" y="10604"/>
                  <a:pt x="4000" y="10604"/>
                </a:cubicBezTo>
                <a:cubicBezTo>
                  <a:pt x="4077" y="10604"/>
                  <a:pt x="4062" y="10616"/>
                  <a:pt x="4096" y="10668"/>
                </a:cubicBezTo>
                <a:cubicBezTo>
                  <a:pt x="4153" y="10753"/>
                  <a:pt x="4105" y="10827"/>
                  <a:pt x="4064" y="10922"/>
                </a:cubicBezTo>
                <a:cubicBezTo>
                  <a:pt x="4012" y="11044"/>
                  <a:pt x="3928" y="11151"/>
                  <a:pt x="3874" y="11271"/>
                </a:cubicBezTo>
                <a:cubicBezTo>
                  <a:pt x="3829" y="11371"/>
                  <a:pt x="3747" y="11450"/>
                  <a:pt x="3715" y="11557"/>
                </a:cubicBezTo>
                <a:cubicBezTo>
                  <a:pt x="3699" y="11609"/>
                  <a:pt x="3700" y="11570"/>
                  <a:pt x="3683" y="11620"/>
                </a:cubicBezTo>
                <a:cubicBezTo>
                  <a:pt x="3720" y="11584"/>
                  <a:pt x="3765" y="11540"/>
                  <a:pt x="3810" y="11525"/>
                </a:cubicBezTo>
                <a:cubicBezTo>
                  <a:pt x="3877" y="11503"/>
                  <a:pt x="3915" y="11551"/>
                  <a:pt x="3969" y="11557"/>
                </a:cubicBezTo>
                <a:cubicBezTo>
                  <a:pt x="4021" y="11563"/>
                  <a:pt x="4038" y="11589"/>
                  <a:pt x="4096" y="11589"/>
                </a:cubicBezTo>
                <a:cubicBezTo>
                  <a:pt x="4152" y="11589"/>
                  <a:pt x="4146" y="11591"/>
                  <a:pt x="4191" y="11557"/>
                </a:cubicBezTo>
              </a:path>
              <a:path w="7589" h="2128">
                <a:moveTo>
                  <a:pt x="4318" y="10922"/>
                </a:moveTo>
                <a:cubicBezTo>
                  <a:pt x="4337" y="10999"/>
                  <a:pt x="4400" y="11044"/>
                  <a:pt x="4445" y="11112"/>
                </a:cubicBezTo>
                <a:cubicBezTo>
                  <a:pt x="4511" y="11210"/>
                  <a:pt x="4589" y="11307"/>
                  <a:pt x="4667" y="11398"/>
                </a:cubicBezTo>
                <a:cubicBezTo>
                  <a:pt x="4695" y="11430"/>
                  <a:pt x="4803" y="11542"/>
                  <a:pt x="4826" y="11557"/>
                </a:cubicBezTo>
                <a:cubicBezTo>
                  <a:pt x="4837" y="11557"/>
                  <a:pt x="4847" y="11557"/>
                  <a:pt x="4858" y="11557"/>
                </a:cubicBezTo>
              </a:path>
              <a:path w="7589" h="2128">
                <a:moveTo>
                  <a:pt x="4699" y="10954"/>
                </a:moveTo>
                <a:cubicBezTo>
                  <a:pt x="4684" y="11030"/>
                  <a:pt x="4617" y="11116"/>
                  <a:pt x="4572" y="11176"/>
                </a:cubicBezTo>
                <a:cubicBezTo>
                  <a:pt x="4487" y="11290"/>
                  <a:pt x="4387" y="11393"/>
                  <a:pt x="4286" y="11494"/>
                </a:cubicBezTo>
                <a:cubicBezTo>
                  <a:pt x="4236" y="11544"/>
                  <a:pt x="4210" y="11595"/>
                  <a:pt x="4159" y="11620"/>
                </a:cubicBezTo>
              </a:path>
              <a:path w="7589" h="2128">
                <a:moveTo>
                  <a:pt x="4890" y="10192"/>
                </a:moveTo>
                <a:cubicBezTo>
                  <a:pt x="4968" y="10248"/>
                  <a:pt x="4971" y="10276"/>
                  <a:pt x="5016" y="10382"/>
                </a:cubicBezTo>
                <a:cubicBezTo>
                  <a:pt x="5078" y="10527"/>
                  <a:pt x="5128" y="10700"/>
                  <a:pt x="5144" y="10858"/>
                </a:cubicBezTo>
                <a:cubicBezTo>
                  <a:pt x="5163" y="11043"/>
                  <a:pt x="5197" y="11243"/>
                  <a:pt x="5175" y="11430"/>
                </a:cubicBezTo>
                <a:cubicBezTo>
                  <a:pt x="5150" y="11645"/>
                  <a:pt x="5063" y="11807"/>
                  <a:pt x="4985" y="12002"/>
                </a:cubicBezTo>
                <a:cubicBezTo>
                  <a:pt x="4954" y="12093"/>
                  <a:pt x="4946" y="12123"/>
                  <a:pt x="4890" y="12160"/>
                </a:cubicBezTo>
              </a:path>
              <a:path w="7589" h="2128">
                <a:moveTo>
                  <a:pt x="5842" y="10668"/>
                </a:moveTo>
                <a:cubicBezTo>
                  <a:pt x="5805" y="10767"/>
                  <a:pt x="5810" y="10845"/>
                  <a:pt x="5810" y="10954"/>
                </a:cubicBezTo>
                <a:cubicBezTo>
                  <a:pt x="5810" y="11120"/>
                  <a:pt x="5800" y="11270"/>
                  <a:pt x="5778" y="11430"/>
                </a:cubicBezTo>
                <a:cubicBezTo>
                  <a:pt x="5777" y="11439"/>
                  <a:pt x="5751" y="11601"/>
                  <a:pt x="5715" y="11589"/>
                </a:cubicBezTo>
                <a:cubicBezTo>
                  <a:pt x="5715" y="11578"/>
                  <a:pt x="5715" y="11568"/>
                  <a:pt x="5715" y="11557"/>
                </a:cubicBezTo>
              </a:path>
              <a:path w="7589" h="2128">
                <a:moveTo>
                  <a:pt x="5556" y="11081"/>
                </a:moveTo>
                <a:cubicBezTo>
                  <a:pt x="5568" y="11056"/>
                  <a:pt x="5640" y="11081"/>
                  <a:pt x="5715" y="11081"/>
                </a:cubicBezTo>
                <a:cubicBezTo>
                  <a:pt x="5832" y="11081"/>
                  <a:pt x="5943" y="11112"/>
                  <a:pt x="6064" y="11112"/>
                </a:cubicBezTo>
                <a:cubicBezTo>
                  <a:pt x="6085" y="11112"/>
                  <a:pt x="6107" y="11112"/>
                  <a:pt x="6128" y="11112"/>
                </a:cubicBezTo>
              </a:path>
              <a:path w="7589" h="2128">
                <a:moveTo>
                  <a:pt x="6350" y="10446"/>
                </a:moveTo>
                <a:cubicBezTo>
                  <a:pt x="6422" y="10356"/>
                  <a:pt x="6448" y="10293"/>
                  <a:pt x="6540" y="10224"/>
                </a:cubicBezTo>
                <a:cubicBezTo>
                  <a:pt x="6573" y="10199"/>
                  <a:pt x="6657" y="10154"/>
                  <a:pt x="6699" y="10160"/>
                </a:cubicBezTo>
                <a:cubicBezTo>
                  <a:pt x="6759" y="10169"/>
                  <a:pt x="6787" y="10315"/>
                  <a:pt x="6794" y="10350"/>
                </a:cubicBezTo>
                <a:cubicBezTo>
                  <a:pt x="6813" y="10450"/>
                  <a:pt x="6755" y="10603"/>
                  <a:pt x="6731" y="10700"/>
                </a:cubicBezTo>
                <a:cubicBezTo>
                  <a:pt x="6693" y="10851"/>
                  <a:pt x="6637" y="10973"/>
                  <a:pt x="6572" y="11112"/>
                </a:cubicBezTo>
                <a:cubicBezTo>
                  <a:pt x="6518" y="11229"/>
                  <a:pt x="6472" y="11347"/>
                  <a:pt x="6414" y="11462"/>
                </a:cubicBezTo>
                <a:cubicBezTo>
                  <a:pt x="6388" y="11514"/>
                  <a:pt x="6362" y="11539"/>
                  <a:pt x="6350" y="11589"/>
                </a:cubicBezTo>
                <a:cubicBezTo>
                  <a:pt x="6405" y="11575"/>
                  <a:pt x="6448" y="11536"/>
                  <a:pt x="6509" y="11525"/>
                </a:cubicBezTo>
                <a:cubicBezTo>
                  <a:pt x="6589" y="11511"/>
                  <a:pt x="6666" y="11544"/>
                  <a:pt x="6731" y="11589"/>
                </a:cubicBezTo>
                <a:cubicBezTo>
                  <a:pt x="6775" y="11619"/>
                  <a:pt x="6837" y="11646"/>
                  <a:pt x="6890" y="11652"/>
                </a:cubicBezTo>
                <a:cubicBezTo>
                  <a:pt x="6936" y="11657"/>
                  <a:pt x="6955" y="11619"/>
                  <a:pt x="6985" y="11589"/>
                </a:cubicBezTo>
              </a:path>
              <a:path w="7589" h="2128">
                <a:moveTo>
                  <a:pt x="7017" y="10573"/>
                </a:moveTo>
                <a:cubicBezTo>
                  <a:pt x="7037" y="10652"/>
                  <a:pt x="7110" y="10709"/>
                  <a:pt x="7144" y="10795"/>
                </a:cubicBezTo>
                <a:cubicBezTo>
                  <a:pt x="7206" y="10953"/>
                  <a:pt x="7269" y="11116"/>
                  <a:pt x="7334" y="11271"/>
                </a:cubicBezTo>
                <a:cubicBezTo>
                  <a:pt x="7384" y="11391"/>
                  <a:pt x="7455" y="11542"/>
                  <a:pt x="7525" y="11652"/>
                </a:cubicBezTo>
                <a:cubicBezTo>
                  <a:pt x="7553" y="11681"/>
                  <a:pt x="7563" y="11696"/>
                  <a:pt x="7556" y="11652"/>
                </a:cubicBezTo>
              </a:path>
              <a:path w="7589" h="2128">
                <a:moveTo>
                  <a:pt x="7588" y="10636"/>
                </a:moveTo>
                <a:cubicBezTo>
                  <a:pt x="7518" y="10724"/>
                  <a:pt x="7462" y="10827"/>
                  <a:pt x="7398" y="10922"/>
                </a:cubicBezTo>
                <a:cubicBezTo>
                  <a:pt x="7298" y="11072"/>
                  <a:pt x="7225" y="11237"/>
                  <a:pt x="7144" y="11398"/>
                </a:cubicBezTo>
                <a:cubicBezTo>
                  <a:pt x="7095" y="11497"/>
                  <a:pt x="7038" y="11588"/>
                  <a:pt x="6985" y="11684"/>
                </a:cubicBezTo>
              </a:path>
              <a:path w="7589" h="2128">
                <a:moveTo>
                  <a:pt x="7938" y="10827"/>
                </a:moveTo>
                <a:cubicBezTo>
                  <a:pt x="8005" y="10844"/>
                  <a:pt x="8048" y="10858"/>
                  <a:pt x="8128" y="10858"/>
                </a:cubicBezTo>
                <a:cubicBezTo>
                  <a:pt x="8217" y="10858"/>
                  <a:pt x="8288" y="10890"/>
                  <a:pt x="8382" y="10890"/>
                </a:cubicBezTo>
                <a:cubicBezTo>
                  <a:pt x="8446" y="10890"/>
                  <a:pt x="8467" y="10890"/>
                  <a:pt x="8509" y="10890"/>
                </a:cubicBezTo>
              </a:path>
              <a:path w="7589" h="2128">
                <a:moveTo>
                  <a:pt x="8064" y="11240"/>
                </a:moveTo>
                <a:cubicBezTo>
                  <a:pt x="8075" y="11271"/>
                  <a:pt x="8142" y="11294"/>
                  <a:pt x="8192" y="11303"/>
                </a:cubicBezTo>
                <a:cubicBezTo>
                  <a:pt x="8290" y="11321"/>
                  <a:pt x="8409" y="11303"/>
                  <a:pt x="8509" y="11303"/>
                </a:cubicBezTo>
              </a:path>
              <a:path w="7589" h="2128">
                <a:moveTo>
                  <a:pt x="9112" y="10255"/>
                </a:moveTo>
                <a:cubicBezTo>
                  <a:pt x="9112" y="10333"/>
                  <a:pt x="9095" y="10435"/>
                  <a:pt x="9080" y="10509"/>
                </a:cubicBezTo>
                <a:cubicBezTo>
                  <a:pt x="9047" y="10670"/>
                  <a:pt x="9016" y="10825"/>
                  <a:pt x="8985" y="10986"/>
                </a:cubicBezTo>
                <a:cubicBezTo>
                  <a:pt x="8953" y="11152"/>
                  <a:pt x="8940" y="11329"/>
                  <a:pt x="8922" y="11494"/>
                </a:cubicBezTo>
                <a:cubicBezTo>
                  <a:pt x="8922" y="11495"/>
                  <a:pt x="8922" y="11747"/>
                  <a:pt x="8922" y="11652"/>
                </a:cubicBezTo>
              </a:path>
              <a:path w="7589" h="2128">
                <a:moveTo>
                  <a:pt x="9430" y="10224"/>
                </a:moveTo>
                <a:cubicBezTo>
                  <a:pt x="9430" y="10329"/>
                  <a:pt x="9413" y="10407"/>
                  <a:pt x="9398" y="10509"/>
                </a:cubicBezTo>
                <a:cubicBezTo>
                  <a:pt x="9384" y="10607"/>
                  <a:pt x="9350" y="10702"/>
                  <a:pt x="9334" y="10795"/>
                </a:cubicBezTo>
                <a:cubicBezTo>
                  <a:pt x="9323" y="10861"/>
                  <a:pt x="9303" y="10918"/>
                  <a:pt x="9303" y="10986"/>
                </a:cubicBezTo>
                <a:cubicBezTo>
                  <a:pt x="9358" y="10944"/>
                  <a:pt x="9388" y="10954"/>
                  <a:pt x="9462" y="10954"/>
                </a:cubicBezTo>
                <a:cubicBezTo>
                  <a:pt x="9522" y="10954"/>
                  <a:pt x="9587" y="11006"/>
                  <a:pt x="9652" y="11017"/>
                </a:cubicBezTo>
                <a:cubicBezTo>
                  <a:pt x="9730" y="11030"/>
                  <a:pt x="9793" y="11049"/>
                  <a:pt x="9874" y="11049"/>
                </a:cubicBezTo>
                <a:cubicBezTo>
                  <a:pt x="9984" y="11049"/>
                  <a:pt x="10010" y="10984"/>
                  <a:pt x="10033" y="10890"/>
                </a:cubicBezTo>
              </a:path>
              <a:path w="7589" h="2128">
                <a:moveTo>
                  <a:pt x="9938" y="10033"/>
                </a:moveTo>
                <a:cubicBezTo>
                  <a:pt x="9938" y="10150"/>
                  <a:pt x="9923" y="10267"/>
                  <a:pt x="9906" y="10382"/>
                </a:cubicBezTo>
                <a:cubicBezTo>
                  <a:pt x="9871" y="10615"/>
                  <a:pt x="9850" y="10847"/>
                  <a:pt x="9811" y="11081"/>
                </a:cubicBezTo>
                <a:cubicBezTo>
                  <a:pt x="9771" y="11321"/>
                  <a:pt x="9705" y="11569"/>
                  <a:pt x="9684" y="11811"/>
                </a:cubicBezTo>
                <a:cubicBezTo>
                  <a:pt x="9684" y="11864"/>
                  <a:pt x="9684" y="11917"/>
                  <a:pt x="9684" y="11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Ink 7"/>
          <p:cNvSpPr/>
          <p:nvPr/>
        </p:nvSpPr>
        <p:spPr>
          <a:xfrm>
            <a:off x="1279440" y="4343400"/>
            <a:ext cx="2001960" cy="582480"/>
          </a:xfrm>
          <a:custGeom>
            <a:avLst/>
            <a:gdLst/>
            <a:ahLst/>
            <a:rect l="l" t="t" r="r" b="b"/>
            <a:pathLst>
              <a:path w="5557" h="1620">
                <a:moveTo>
                  <a:pt x="4096" y="12605"/>
                </a:moveTo>
                <a:cubicBezTo>
                  <a:pt x="4096" y="12561"/>
                  <a:pt x="4120" y="12431"/>
                  <a:pt x="4064" y="12414"/>
                </a:cubicBezTo>
                <a:cubicBezTo>
                  <a:pt x="3967" y="12384"/>
                  <a:pt x="3941" y="12397"/>
                  <a:pt x="3842" y="12414"/>
                </a:cubicBezTo>
                <a:cubicBezTo>
                  <a:pt x="3701" y="12438"/>
                  <a:pt x="3684" y="12478"/>
                  <a:pt x="3620" y="12605"/>
                </a:cubicBezTo>
                <a:cubicBezTo>
                  <a:pt x="3570" y="12706"/>
                  <a:pt x="3596" y="12817"/>
                  <a:pt x="3620" y="12922"/>
                </a:cubicBezTo>
                <a:cubicBezTo>
                  <a:pt x="3654" y="13072"/>
                  <a:pt x="3760" y="13174"/>
                  <a:pt x="3778" y="13335"/>
                </a:cubicBezTo>
                <a:cubicBezTo>
                  <a:pt x="3783" y="13381"/>
                  <a:pt x="3842" y="13602"/>
                  <a:pt x="3810" y="13652"/>
                </a:cubicBezTo>
                <a:cubicBezTo>
                  <a:pt x="3774" y="13652"/>
                  <a:pt x="3760" y="13655"/>
                  <a:pt x="3746" y="13684"/>
                </a:cubicBezTo>
                <a:cubicBezTo>
                  <a:pt x="3694" y="13644"/>
                  <a:pt x="3658" y="13621"/>
                  <a:pt x="3620" y="13557"/>
                </a:cubicBezTo>
                <a:cubicBezTo>
                  <a:pt x="3569" y="13472"/>
                  <a:pt x="3529" y="13373"/>
                  <a:pt x="3556" y="13272"/>
                </a:cubicBezTo>
                <a:cubicBezTo>
                  <a:pt x="3584" y="13166"/>
                  <a:pt x="3603" y="13129"/>
                  <a:pt x="3683" y="13049"/>
                </a:cubicBezTo>
                <a:cubicBezTo>
                  <a:pt x="3754" y="12977"/>
                  <a:pt x="3826" y="12887"/>
                  <a:pt x="3905" y="12827"/>
                </a:cubicBezTo>
                <a:cubicBezTo>
                  <a:pt x="3986" y="12765"/>
                  <a:pt x="4028" y="12744"/>
                  <a:pt x="4096" y="12668"/>
                </a:cubicBezTo>
                <a:cubicBezTo>
                  <a:pt x="4136" y="12623"/>
                  <a:pt x="4128" y="12600"/>
                  <a:pt x="4128" y="12541"/>
                </a:cubicBezTo>
              </a:path>
              <a:path w="5557" h="1620">
                <a:moveTo>
                  <a:pt x="4286" y="12541"/>
                </a:moveTo>
                <a:cubicBezTo>
                  <a:pt x="4302" y="12618"/>
                  <a:pt x="4324" y="12689"/>
                  <a:pt x="4350" y="12764"/>
                </a:cubicBezTo>
                <a:cubicBezTo>
                  <a:pt x="4411" y="12938"/>
                  <a:pt x="4443" y="13097"/>
                  <a:pt x="4477" y="13272"/>
                </a:cubicBezTo>
                <a:cubicBezTo>
                  <a:pt x="4482" y="13299"/>
                  <a:pt x="4543" y="13541"/>
                  <a:pt x="4604" y="13526"/>
                </a:cubicBezTo>
                <a:cubicBezTo>
                  <a:pt x="4604" y="13481"/>
                  <a:pt x="4610" y="13458"/>
                  <a:pt x="4636" y="13430"/>
                </a:cubicBezTo>
              </a:path>
              <a:path w="5557" h="1620">
                <a:moveTo>
                  <a:pt x="4699" y="12732"/>
                </a:moveTo>
                <a:cubicBezTo>
                  <a:pt x="4629" y="12750"/>
                  <a:pt x="4555" y="12829"/>
                  <a:pt x="4508" y="12890"/>
                </a:cubicBezTo>
                <a:cubicBezTo>
                  <a:pt x="4410" y="13016"/>
                  <a:pt x="4327" y="13152"/>
                  <a:pt x="4223" y="13272"/>
                </a:cubicBezTo>
                <a:cubicBezTo>
                  <a:pt x="4159" y="13346"/>
                  <a:pt x="4097" y="13420"/>
                  <a:pt x="4032" y="13494"/>
                </a:cubicBezTo>
              </a:path>
              <a:path w="5557" h="1620">
                <a:moveTo>
                  <a:pt x="5556" y="12510"/>
                </a:moveTo>
                <a:cubicBezTo>
                  <a:pt x="5556" y="12613"/>
                  <a:pt x="5556" y="12698"/>
                  <a:pt x="5524" y="12795"/>
                </a:cubicBezTo>
                <a:cubicBezTo>
                  <a:pt x="5487" y="12908"/>
                  <a:pt x="5447" y="13057"/>
                  <a:pt x="5429" y="13176"/>
                </a:cubicBezTo>
                <a:cubicBezTo>
                  <a:pt x="5413" y="13282"/>
                  <a:pt x="5398" y="13386"/>
                  <a:pt x="5398" y="13494"/>
                </a:cubicBezTo>
              </a:path>
              <a:path w="5557" h="1620">
                <a:moveTo>
                  <a:pt x="5144" y="12890"/>
                </a:moveTo>
                <a:cubicBezTo>
                  <a:pt x="5150" y="12878"/>
                  <a:pt x="5239" y="12872"/>
                  <a:pt x="5302" y="12890"/>
                </a:cubicBezTo>
                <a:cubicBezTo>
                  <a:pt x="5411" y="12920"/>
                  <a:pt x="5453" y="12933"/>
                  <a:pt x="5556" y="12922"/>
                </a:cubicBezTo>
                <a:cubicBezTo>
                  <a:pt x="5577" y="12922"/>
                  <a:pt x="5599" y="12922"/>
                  <a:pt x="5620" y="12922"/>
                </a:cubicBezTo>
              </a:path>
              <a:path w="5557" h="1620">
                <a:moveTo>
                  <a:pt x="5874" y="12319"/>
                </a:moveTo>
                <a:cubicBezTo>
                  <a:pt x="5930" y="12277"/>
                  <a:pt x="5958" y="12287"/>
                  <a:pt x="6032" y="12287"/>
                </a:cubicBezTo>
                <a:cubicBezTo>
                  <a:pt x="6112" y="12287"/>
                  <a:pt x="6148" y="12313"/>
                  <a:pt x="6223" y="12319"/>
                </a:cubicBezTo>
                <a:cubicBezTo>
                  <a:pt x="6275" y="12323"/>
                  <a:pt x="6314" y="12361"/>
                  <a:pt x="6318" y="12414"/>
                </a:cubicBezTo>
                <a:cubicBezTo>
                  <a:pt x="6323" y="12483"/>
                  <a:pt x="6256" y="12606"/>
                  <a:pt x="6223" y="12668"/>
                </a:cubicBezTo>
                <a:cubicBezTo>
                  <a:pt x="6157" y="12792"/>
                  <a:pt x="6048" y="12899"/>
                  <a:pt x="5969" y="13018"/>
                </a:cubicBezTo>
                <a:cubicBezTo>
                  <a:pt x="5914" y="13102"/>
                  <a:pt x="5840" y="13205"/>
                  <a:pt x="5810" y="13303"/>
                </a:cubicBezTo>
                <a:cubicBezTo>
                  <a:pt x="5810" y="13335"/>
                  <a:pt x="5810" y="13346"/>
                  <a:pt x="5810" y="13367"/>
                </a:cubicBezTo>
                <a:cubicBezTo>
                  <a:pt x="5856" y="13352"/>
                  <a:pt x="5861" y="13335"/>
                  <a:pt x="5937" y="13335"/>
                </a:cubicBezTo>
                <a:cubicBezTo>
                  <a:pt x="6025" y="13335"/>
                  <a:pt x="6079" y="13348"/>
                  <a:pt x="6160" y="13367"/>
                </a:cubicBezTo>
                <a:cubicBezTo>
                  <a:pt x="6239" y="13385"/>
                  <a:pt x="6257" y="13430"/>
                  <a:pt x="6350" y="13430"/>
                </a:cubicBezTo>
                <a:cubicBezTo>
                  <a:pt x="6371" y="13430"/>
                  <a:pt x="6393" y="13430"/>
                  <a:pt x="6414" y="13430"/>
                </a:cubicBezTo>
              </a:path>
              <a:path w="5557" h="1620">
                <a:moveTo>
                  <a:pt x="6604" y="12573"/>
                </a:moveTo>
                <a:cubicBezTo>
                  <a:pt x="6584" y="12622"/>
                  <a:pt x="6590" y="12753"/>
                  <a:pt x="6604" y="12827"/>
                </a:cubicBezTo>
                <a:cubicBezTo>
                  <a:pt x="6640" y="13010"/>
                  <a:pt x="6691" y="13259"/>
                  <a:pt x="6763" y="13430"/>
                </a:cubicBezTo>
                <a:cubicBezTo>
                  <a:pt x="6809" y="13538"/>
                  <a:pt x="6858" y="13565"/>
                  <a:pt x="6953" y="13589"/>
                </a:cubicBezTo>
              </a:path>
              <a:path w="5557" h="1620">
                <a:moveTo>
                  <a:pt x="6922" y="12668"/>
                </a:moveTo>
                <a:cubicBezTo>
                  <a:pt x="6862" y="12728"/>
                  <a:pt x="6838" y="12787"/>
                  <a:pt x="6794" y="12859"/>
                </a:cubicBezTo>
                <a:cubicBezTo>
                  <a:pt x="6665" y="13071"/>
                  <a:pt x="6526" y="13293"/>
                  <a:pt x="6382" y="13494"/>
                </a:cubicBezTo>
                <a:cubicBezTo>
                  <a:pt x="6353" y="13523"/>
                  <a:pt x="6338" y="13534"/>
                  <a:pt x="6382" y="13526"/>
                </a:cubicBezTo>
              </a:path>
              <a:path w="5557" h="1620">
                <a:moveTo>
                  <a:pt x="7302" y="12954"/>
                </a:moveTo>
                <a:cubicBezTo>
                  <a:pt x="7372" y="12912"/>
                  <a:pt x="7447" y="12916"/>
                  <a:pt x="7525" y="12890"/>
                </a:cubicBezTo>
                <a:cubicBezTo>
                  <a:pt x="7546" y="12880"/>
                  <a:pt x="7567" y="12869"/>
                  <a:pt x="7588" y="12859"/>
                </a:cubicBezTo>
              </a:path>
              <a:path w="5557" h="1620">
                <a:moveTo>
                  <a:pt x="7430" y="13113"/>
                </a:moveTo>
                <a:cubicBezTo>
                  <a:pt x="7360" y="13113"/>
                  <a:pt x="7499" y="13090"/>
                  <a:pt x="7525" y="13081"/>
                </a:cubicBezTo>
                <a:cubicBezTo>
                  <a:pt x="7616" y="13048"/>
                  <a:pt x="7684" y="13049"/>
                  <a:pt x="7779" y="13049"/>
                </a:cubicBezTo>
              </a:path>
              <a:path w="5557" h="1620">
                <a:moveTo>
                  <a:pt x="8350" y="12256"/>
                </a:moveTo>
                <a:cubicBezTo>
                  <a:pt x="8334" y="12352"/>
                  <a:pt x="8305" y="12446"/>
                  <a:pt x="8287" y="12541"/>
                </a:cubicBezTo>
                <a:cubicBezTo>
                  <a:pt x="8253" y="12714"/>
                  <a:pt x="8172" y="12876"/>
                  <a:pt x="8128" y="13049"/>
                </a:cubicBezTo>
                <a:cubicBezTo>
                  <a:pt x="8092" y="13190"/>
                  <a:pt x="8073" y="13361"/>
                  <a:pt x="8033" y="13494"/>
                </a:cubicBezTo>
                <a:cubicBezTo>
                  <a:pt x="8001" y="13526"/>
                  <a:pt x="7990" y="13537"/>
                  <a:pt x="8033" y="13494"/>
                </a:cubicBezTo>
              </a:path>
              <a:path w="5557" h="1620">
                <a:moveTo>
                  <a:pt x="8636" y="12319"/>
                </a:moveTo>
                <a:cubicBezTo>
                  <a:pt x="8636" y="12414"/>
                  <a:pt x="8606" y="12454"/>
                  <a:pt x="8572" y="12541"/>
                </a:cubicBezTo>
                <a:cubicBezTo>
                  <a:pt x="8532" y="12644"/>
                  <a:pt x="8510" y="12753"/>
                  <a:pt x="8477" y="12859"/>
                </a:cubicBezTo>
                <a:cubicBezTo>
                  <a:pt x="8466" y="12893"/>
                  <a:pt x="8477" y="12950"/>
                  <a:pt x="8477" y="12986"/>
                </a:cubicBezTo>
                <a:cubicBezTo>
                  <a:pt x="8527" y="12974"/>
                  <a:pt x="8547" y="12954"/>
                  <a:pt x="8604" y="12954"/>
                </a:cubicBezTo>
                <a:cubicBezTo>
                  <a:pt x="8669" y="12954"/>
                  <a:pt x="8758" y="12971"/>
                  <a:pt x="8826" y="12986"/>
                </a:cubicBezTo>
                <a:cubicBezTo>
                  <a:pt x="8965" y="13016"/>
                  <a:pt x="8984" y="13019"/>
                  <a:pt x="9112" y="12954"/>
                </a:cubicBezTo>
              </a:path>
              <a:path w="5557" h="1620">
                <a:moveTo>
                  <a:pt x="9112" y="12065"/>
                </a:moveTo>
                <a:cubicBezTo>
                  <a:pt x="9091" y="12167"/>
                  <a:pt x="9028" y="12276"/>
                  <a:pt x="9017" y="12382"/>
                </a:cubicBezTo>
                <a:cubicBezTo>
                  <a:pt x="8993" y="12613"/>
                  <a:pt x="8954" y="12824"/>
                  <a:pt x="8890" y="13049"/>
                </a:cubicBezTo>
                <a:cubicBezTo>
                  <a:pt x="8832" y="13251"/>
                  <a:pt x="8764" y="13452"/>
                  <a:pt x="8700" y="13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Ink 8"/>
          <p:cNvSpPr/>
          <p:nvPr/>
        </p:nvSpPr>
        <p:spPr>
          <a:xfrm>
            <a:off x="1760400" y="5075280"/>
            <a:ext cx="1222560" cy="479520"/>
          </a:xfrm>
          <a:custGeom>
            <a:avLst/>
            <a:gdLst/>
            <a:ahLst/>
            <a:rect l="l" t="t" r="r" b="b"/>
            <a:pathLst>
              <a:path w="3398" h="1334">
                <a:moveTo>
                  <a:pt x="5080" y="14097"/>
                </a:moveTo>
                <a:cubicBezTo>
                  <a:pt x="5128" y="14113"/>
                  <a:pt x="5126" y="14193"/>
                  <a:pt x="5112" y="14256"/>
                </a:cubicBezTo>
                <a:cubicBezTo>
                  <a:pt x="5080" y="14404"/>
                  <a:pt x="5053" y="14550"/>
                  <a:pt x="5016" y="14700"/>
                </a:cubicBezTo>
                <a:cubicBezTo>
                  <a:pt x="4975" y="14867"/>
                  <a:pt x="4910" y="15038"/>
                  <a:pt x="4890" y="15208"/>
                </a:cubicBezTo>
                <a:cubicBezTo>
                  <a:pt x="4882" y="15278"/>
                  <a:pt x="4890" y="15359"/>
                  <a:pt x="4890" y="15430"/>
                </a:cubicBezTo>
              </a:path>
              <a:path w="3398" h="1334">
                <a:moveTo>
                  <a:pt x="5556" y="14256"/>
                </a:moveTo>
                <a:cubicBezTo>
                  <a:pt x="5515" y="14201"/>
                  <a:pt x="5499" y="14174"/>
                  <a:pt x="5429" y="14256"/>
                </a:cubicBezTo>
                <a:cubicBezTo>
                  <a:pt x="5362" y="14334"/>
                  <a:pt x="5300" y="14508"/>
                  <a:pt x="5270" y="14605"/>
                </a:cubicBezTo>
                <a:cubicBezTo>
                  <a:pt x="5226" y="14747"/>
                  <a:pt x="5158" y="14931"/>
                  <a:pt x="5175" y="15081"/>
                </a:cubicBezTo>
                <a:cubicBezTo>
                  <a:pt x="5187" y="15189"/>
                  <a:pt x="5215" y="15296"/>
                  <a:pt x="5334" y="15304"/>
                </a:cubicBezTo>
                <a:cubicBezTo>
                  <a:pt x="5478" y="15314"/>
                  <a:pt x="5506" y="15122"/>
                  <a:pt x="5556" y="15018"/>
                </a:cubicBezTo>
                <a:cubicBezTo>
                  <a:pt x="5634" y="14859"/>
                  <a:pt x="5677" y="14718"/>
                  <a:pt x="5683" y="14542"/>
                </a:cubicBezTo>
                <a:cubicBezTo>
                  <a:pt x="5687" y="14429"/>
                  <a:pt x="5653" y="14318"/>
                  <a:pt x="5588" y="14224"/>
                </a:cubicBezTo>
                <a:cubicBezTo>
                  <a:pt x="5566" y="14192"/>
                  <a:pt x="5534" y="14114"/>
                  <a:pt x="5524" y="14192"/>
                </a:cubicBezTo>
                <a:cubicBezTo>
                  <a:pt x="5524" y="14203"/>
                  <a:pt x="5524" y="14213"/>
                  <a:pt x="5524" y="14224"/>
                </a:cubicBezTo>
              </a:path>
              <a:path w="3398" h="1334">
                <a:moveTo>
                  <a:pt x="5969" y="14319"/>
                </a:moveTo>
                <a:cubicBezTo>
                  <a:pt x="5983" y="14428"/>
                  <a:pt x="6028" y="14530"/>
                  <a:pt x="6064" y="14637"/>
                </a:cubicBezTo>
                <a:cubicBezTo>
                  <a:pt x="6127" y="14824"/>
                  <a:pt x="6156" y="15023"/>
                  <a:pt x="6223" y="15208"/>
                </a:cubicBezTo>
                <a:cubicBezTo>
                  <a:pt x="6251" y="15264"/>
                  <a:pt x="6255" y="15279"/>
                  <a:pt x="6286" y="15304"/>
                </a:cubicBezTo>
              </a:path>
              <a:path w="3398" h="1334">
                <a:moveTo>
                  <a:pt x="6382" y="14446"/>
                </a:moveTo>
                <a:cubicBezTo>
                  <a:pt x="6301" y="14446"/>
                  <a:pt x="6273" y="14505"/>
                  <a:pt x="6223" y="14573"/>
                </a:cubicBezTo>
                <a:cubicBezTo>
                  <a:pt x="6130" y="14699"/>
                  <a:pt x="6087" y="14853"/>
                  <a:pt x="6001" y="14986"/>
                </a:cubicBezTo>
                <a:cubicBezTo>
                  <a:pt x="5924" y="15105"/>
                  <a:pt x="5896" y="15223"/>
                  <a:pt x="5810" y="15335"/>
                </a:cubicBezTo>
                <a:cubicBezTo>
                  <a:pt x="5799" y="15346"/>
                  <a:pt x="5789" y="15356"/>
                  <a:pt x="5778" y="15367"/>
                </a:cubicBezTo>
              </a:path>
              <a:path w="3398" h="1334">
                <a:moveTo>
                  <a:pt x="6540" y="14700"/>
                </a:moveTo>
                <a:cubicBezTo>
                  <a:pt x="6609" y="14686"/>
                  <a:pt x="6695" y="14686"/>
                  <a:pt x="6763" y="14668"/>
                </a:cubicBezTo>
                <a:cubicBezTo>
                  <a:pt x="6824" y="14638"/>
                  <a:pt x="6843" y="14628"/>
                  <a:pt x="6890" y="14637"/>
                </a:cubicBezTo>
              </a:path>
              <a:path w="3398" h="1334">
                <a:moveTo>
                  <a:pt x="6572" y="14954"/>
                </a:moveTo>
                <a:cubicBezTo>
                  <a:pt x="6670" y="14991"/>
                  <a:pt x="6751" y="14986"/>
                  <a:pt x="6858" y="14986"/>
                </a:cubicBezTo>
                <a:cubicBezTo>
                  <a:pt x="6945" y="14986"/>
                  <a:pt x="6970" y="14989"/>
                  <a:pt x="7017" y="14954"/>
                </a:cubicBezTo>
              </a:path>
              <a:path w="3398" h="1334">
                <a:moveTo>
                  <a:pt x="7525" y="14192"/>
                </a:moveTo>
                <a:cubicBezTo>
                  <a:pt x="7504" y="14317"/>
                  <a:pt x="7448" y="14398"/>
                  <a:pt x="7398" y="14510"/>
                </a:cubicBezTo>
                <a:cubicBezTo>
                  <a:pt x="7339" y="14642"/>
                  <a:pt x="7288" y="14786"/>
                  <a:pt x="7239" y="14922"/>
                </a:cubicBezTo>
                <a:cubicBezTo>
                  <a:pt x="7199" y="15034"/>
                  <a:pt x="7176" y="15121"/>
                  <a:pt x="7176" y="15240"/>
                </a:cubicBezTo>
                <a:cubicBezTo>
                  <a:pt x="7176" y="15276"/>
                  <a:pt x="7179" y="15284"/>
                  <a:pt x="7207" y="15240"/>
                </a:cubicBezTo>
              </a:path>
              <a:path w="3398" h="1334">
                <a:moveTo>
                  <a:pt x="7779" y="14097"/>
                </a:moveTo>
                <a:cubicBezTo>
                  <a:pt x="7762" y="14181"/>
                  <a:pt x="7698" y="14266"/>
                  <a:pt x="7684" y="14351"/>
                </a:cubicBezTo>
                <a:cubicBezTo>
                  <a:pt x="7664" y="14473"/>
                  <a:pt x="7613" y="14582"/>
                  <a:pt x="7588" y="14700"/>
                </a:cubicBezTo>
                <a:cubicBezTo>
                  <a:pt x="7577" y="14750"/>
                  <a:pt x="7523" y="14859"/>
                  <a:pt x="7588" y="14891"/>
                </a:cubicBezTo>
                <a:cubicBezTo>
                  <a:pt x="7638" y="14916"/>
                  <a:pt x="7699" y="14862"/>
                  <a:pt x="7747" y="14859"/>
                </a:cubicBezTo>
                <a:cubicBezTo>
                  <a:pt x="7825" y="14854"/>
                  <a:pt x="7866" y="14886"/>
                  <a:pt x="7938" y="14891"/>
                </a:cubicBezTo>
                <a:cubicBezTo>
                  <a:pt x="8026" y="14897"/>
                  <a:pt x="8082" y="14893"/>
                  <a:pt x="8160" y="14859"/>
                </a:cubicBezTo>
              </a:path>
              <a:path w="3398" h="1334">
                <a:moveTo>
                  <a:pt x="8287" y="14097"/>
                </a:moveTo>
                <a:cubicBezTo>
                  <a:pt x="8218" y="14182"/>
                  <a:pt x="8164" y="14311"/>
                  <a:pt x="8128" y="14414"/>
                </a:cubicBezTo>
                <a:cubicBezTo>
                  <a:pt x="8065" y="14598"/>
                  <a:pt x="7989" y="14776"/>
                  <a:pt x="7906" y="14954"/>
                </a:cubicBezTo>
                <a:cubicBezTo>
                  <a:pt x="7840" y="15086"/>
                  <a:pt x="7815" y="15133"/>
                  <a:pt x="7747" y="152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Ink 9"/>
          <p:cNvSpPr/>
          <p:nvPr/>
        </p:nvSpPr>
        <p:spPr>
          <a:xfrm>
            <a:off x="1725480" y="5521320"/>
            <a:ext cx="1189080" cy="343080"/>
          </a:xfrm>
          <a:custGeom>
            <a:avLst/>
            <a:gdLst/>
            <a:ahLst/>
            <a:rect l="l" t="t" r="r" b="b"/>
            <a:pathLst>
              <a:path w="3303" h="954">
                <a:moveTo>
                  <a:pt x="6223" y="15494"/>
                </a:moveTo>
                <a:cubicBezTo>
                  <a:pt x="6255" y="15494"/>
                  <a:pt x="6266" y="15494"/>
                  <a:pt x="6255" y="15526"/>
                </a:cubicBezTo>
                <a:cubicBezTo>
                  <a:pt x="6162" y="15526"/>
                  <a:pt x="6095" y="15498"/>
                  <a:pt x="6001" y="15494"/>
                </a:cubicBezTo>
                <a:cubicBezTo>
                  <a:pt x="5856" y="15488"/>
                  <a:pt x="5726" y="15491"/>
                  <a:pt x="5588" y="15526"/>
                </a:cubicBezTo>
                <a:cubicBezTo>
                  <a:pt x="5439" y="15564"/>
                  <a:pt x="5291" y="15606"/>
                  <a:pt x="5144" y="15653"/>
                </a:cubicBezTo>
                <a:cubicBezTo>
                  <a:pt x="5042" y="15685"/>
                  <a:pt x="4948" y="15730"/>
                  <a:pt x="4858" y="15780"/>
                </a:cubicBezTo>
                <a:cubicBezTo>
                  <a:pt x="4837" y="15791"/>
                  <a:pt x="4815" y="15801"/>
                  <a:pt x="4794" y="15812"/>
                </a:cubicBezTo>
              </a:path>
              <a:path w="3303" h="954">
                <a:moveTo>
                  <a:pt x="5683" y="15653"/>
                </a:moveTo>
                <a:cubicBezTo>
                  <a:pt x="5651" y="15729"/>
                  <a:pt x="5626" y="15799"/>
                  <a:pt x="5588" y="15875"/>
                </a:cubicBezTo>
                <a:cubicBezTo>
                  <a:pt x="5541" y="15968"/>
                  <a:pt x="5479" y="16039"/>
                  <a:pt x="5429" y="16129"/>
                </a:cubicBezTo>
                <a:cubicBezTo>
                  <a:pt x="5402" y="16185"/>
                  <a:pt x="5397" y="16200"/>
                  <a:pt x="5366" y="16224"/>
                </a:cubicBezTo>
              </a:path>
              <a:path w="3303" h="954">
                <a:moveTo>
                  <a:pt x="5874" y="15843"/>
                </a:moveTo>
                <a:cubicBezTo>
                  <a:pt x="5817" y="15871"/>
                  <a:pt x="5754" y="15936"/>
                  <a:pt x="5715" y="16002"/>
                </a:cubicBezTo>
                <a:cubicBezTo>
                  <a:pt x="5670" y="16079"/>
                  <a:pt x="5652" y="16103"/>
                  <a:pt x="5652" y="16192"/>
                </a:cubicBezTo>
                <a:cubicBezTo>
                  <a:pt x="5652" y="16278"/>
                  <a:pt x="5725" y="16281"/>
                  <a:pt x="5778" y="16256"/>
                </a:cubicBezTo>
                <a:cubicBezTo>
                  <a:pt x="5848" y="16223"/>
                  <a:pt x="5924" y="16161"/>
                  <a:pt x="5969" y="16097"/>
                </a:cubicBezTo>
                <a:cubicBezTo>
                  <a:pt x="6004" y="16048"/>
                  <a:pt x="6063" y="15938"/>
                  <a:pt x="6032" y="15875"/>
                </a:cubicBezTo>
                <a:cubicBezTo>
                  <a:pt x="6012" y="15833"/>
                  <a:pt x="5974" y="15821"/>
                  <a:pt x="5937" y="15812"/>
                </a:cubicBezTo>
              </a:path>
              <a:path w="3303" h="954">
                <a:moveTo>
                  <a:pt x="8064" y="15367"/>
                </a:moveTo>
                <a:cubicBezTo>
                  <a:pt x="8143" y="15367"/>
                  <a:pt x="7990" y="15336"/>
                  <a:pt x="7969" y="15335"/>
                </a:cubicBezTo>
                <a:cubicBezTo>
                  <a:pt x="7837" y="15329"/>
                  <a:pt x="7716" y="15385"/>
                  <a:pt x="7588" y="15399"/>
                </a:cubicBezTo>
                <a:cubicBezTo>
                  <a:pt x="7483" y="15411"/>
                  <a:pt x="7363" y="15426"/>
                  <a:pt x="7271" y="15494"/>
                </a:cubicBezTo>
                <a:cubicBezTo>
                  <a:pt x="7210" y="15540"/>
                  <a:pt x="7167" y="15580"/>
                  <a:pt x="7112" y="15621"/>
                </a:cubicBezTo>
              </a:path>
              <a:path w="3303" h="954">
                <a:moveTo>
                  <a:pt x="7620" y="15589"/>
                </a:moveTo>
                <a:cubicBezTo>
                  <a:pt x="7588" y="15631"/>
                  <a:pt x="7555" y="15668"/>
                  <a:pt x="7525" y="15716"/>
                </a:cubicBezTo>
                <a:cubicBezTo>
                  <a:pt x="7484" y="15780"/>
                  <a:pt x="7437" y="15843"/>
                  <a:pt x="7398" y="15907"/>
                </a:cubicBezTo>
                <a:cubicBezTo>
                  <a:pt x="7363" y="15964"/>
                  <a:pt x="7341" y="16015"/>
                  <a:pt x="7398" y="16034"/>
                </a:cubicBezTo>
              </a:path>
              <a:path w="3303" h="954">
                <a:moveTo>
                  <a:pt x="7652" y="15621"/>
                </a:moveTo>
                <a:cubicBezTo>
                  <a:pt x="7671" y="15679"/>
                  <a:pt x="7658" y="15662"/>
                  <a:pt x="7652" y="15748"/>
                </a:cubicBezTo>
                <a:cubicBezTo>
                  <a:pt x="7647" y="15821"/>
                  <a:pt x="7632" y="15880"/>
                  <a:pt x="7620" y="15938"/>
                </a:cubicBezTo>
                <a:cubicBezTo>
                  <a:pt x="7609" y="15994"/>
                  <a:pt x="7547" y="16057"/>
                  <a:pt x="7588" y="16097"/>
                </a:cubicBezTo>
                <a:cubicBezTo>
                  <a:pt x="7613" y="16121"/>
                  <a:pt x="7633" y="16129"/>
                  <a:pt x="7684" y="16129"/>
                </a:cubicBezTo>
                <a:cubicBezTo>
                  <a:pt x="7748" y="16129"/>
                  <a:pt x="7744" y="16074"/>
                  <a:pt x="7779" y="16034"/>
                </a:cubicBezTo>
                <a:cubicBezTo>
                  <a:pt x="7826" y="15981"/>
                  <a:pt x="7842" y="15944"/>
                  <a:pt x="7842" y="15875"/>
                </a:cubicBezTo>
                <a:cubicBezTo>
                  <a:pt x="7842" y="15824"/>
                  <a:pt x="7834" y="15773"/>
                  <a:pt x="7779" y="15748"/>
                </a:cubicBezTo>
                <a:cubicBezTo>
                  <a:pt x="7744" y="15732"/>
                  <a:pt x="7689" y="15769"/>
                  <a:pt x="7684" y="15780"/>
                </a:cubicBezTo>
                <a:cubicBezTo>
                  <a:pt x="7684" y="15791"/>
                  <a:pt x="7684" y="15801"/>
                  <a:pt x="7684" y="158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Ink 10"/>
          <p:cNvSpPr/>
          <p:nvPr/>
        </p:nvSpPr>
        <p:spPr>
          <a:xfrm>
            <a:off x="2217600" y="5932440"/>
            <a:ext cx="982800" cy="503280"/>
          </a:xfrm>
          <a:custGeom>
            <a:avLst/>
            <a:gdLst/>
            <a:ahLst/>
            <a:rect l="l" t="t" r="r" b="b"/>
            <a:pathLst>
              <a:path w="2731" h="1398">
                <a:moveTo>
                  <a:pt x="6477" y="16542"/>
                </a:moveTo>
                <a:cubicBezTo>
                  <a:pt x="6516" y="16644"/>
                  <a:pt x="6536" y="16751"/>
                  <a:pt x="6572" y="16859"/>
                </a:cubicBezTo>
                <a:cubicBezTo>
                  <a:pt x="6615" y="16987"/>
                  <a:pt x="6635" y="17116"/>
                  <a:pt x="6668" y="17240"/>
                </a:cubicBezTo>
                <a:cubicBezTo>
                  <a:pt x="6695" y="17296"/>
                  <a:pt x="6699" y="17311"/>
                  <a:pt x="6731" y="17336"/>
                </a:cubicBezTo>
              </a:path>
              <a:path w="2731" h="1398">
                <a:moveTo>
                  <a:pt x="6890" y="16605"/>
                </a:moveTo>
                <a:cubicBezTo>
                  <a:pt x="6785" y="16631"/>
                  <a:pt x="6791" y="16683"/>
                  <a:pt x="6731" y="16764"/>
                </a:cubicBezTo>
                <a:cubicBezTo>
                  <a:pt x="6654" y="16868"/>
                  <a:pt x="6537" y="16930"/>
                  <a:pt x="6445" y="17018"/>
                </a:cubicBezTo>
                <a:cubicBezTo>
                  <a:pt x="6362" y="17097"/>
                  <a:pt x="6272" y="17158"/>
                  <a:pt x="6191" y="17240"/>
                </a:cubicBezTo>
                <a:cubicBezTo>
                  <a:pt x="6181" y="17251"/>
                  <a:pt x="6170" y="17261"/>
                  <a:pt x="6160" y="17272"/>
                </a:cubicBezTo>
              </a:path>
              <a:path w="2731" h="1398">
                <a:moveTo>
                  <a:pt x="6953" y="16891"/>
                </a:moveTo>
                <a:cubicBezTo>
                  <a:pt x="7027" y="16891"/>
                  <a:pt x="7102" y="16891"/>
                  <a:pt x="7176" y="16891"/>
                </a:cubicBezTo>
              </a:path>
              <a:path w="2731" h="1398">
                <a:moveTo>
                  <a:pt x="7048" y="16954"/>
                </a:moveTo>
                <a:cubicBezTo>
                  <a:pt x="7090" y="17017"/>
                  <a:pt x="7240" y="17012"/>
                  <a:pt x="7334" y="17018"/>
                </a:cubicBezTo>
              </a:path>
              <a:path w="2731" h="1398">
                <a:moveTo>
                  <a:pt x="7874" y="16478"/>
                </a:moveTo>
                <a:cubicBezTo>
                  <a:pt x="7874" y="16581"/>
                  <a:pt x="7841" y="16663"/>
                  <a:pt x="7810" y="16764"/>
                </a:cubicBezTo>
                <a:cubicBezTo>
                  <a:pt x="7767" y="16905"/>
                  <a:pt x="7713" y="17044"/>
                  <a:pt x="7652" y="17177"/>
                </a:cubicBezTo>
                <a:cubicBezTo>
                  <a:pt x="7597" y="17298"/>
                  <a:pt x="7568" y="17407"/>
                  <a:pt x="7525" y="17526"/>
                </a:cubicBezTo>
              </a:path>
              <a:path w="2731" h="1398">
                <a:moveTo>
                  <a:pt x="7779" y="17431"/>
                </a:moveTo>
                <a:cubicBezTo>
                  <a:pt x="7824" y="17431"/>
                  <a:pt x="7846" y="17425"/>
                  <a:pt x="7874" y="17399"/>
                </a:cubicBezTo>
              </a:path>
              <a:path w="2731" h="1398">
                <a:moveTo>
                  <a:pt x="8414" y="16605"/>
                </a:moveTo>
                <a:cubicBezTo>
                  <a:pt x="8399" y="16665"/>
                  <a:pt x="8346" y="16733"/>
                  <a:pt x="8318" y="16796"/>
                </a:cubicBezTo>
                <a:cubicBezTo>
                  <a:pt x="8285" y="16870"/>
                  <a:pt x="8251" y="16946"/>
                  <a:pt x="8223" y="17018"/>
                </a:cubicBezTo>
                <a:cubicBezTo>
                  <a:pt x="8202" y="17073"/>
                  <a:pt x="8166" y="17124"/>
                  <a:pt x="8160" y="17177"/>
                </a:cubicBezTo>
                <a:cubicBezTo>
                  <a:pt x="8154" y="17227"/>
                  <a:pt x="8223" y="17219"/>
                  <a:pt x="8255" y="17240"/>
                </a:cubicBezTo>
                <a:cubicBezTo>
                  <a:pt x="8318" y="17282"/>
                  <a:pt x="8378" y="17285"/>
                  <a:pt x="8446" y="17336"/>
                </a:cubicBezTo>
                <a:cubicBezTo>
                  <a:pt x="8498" y="17375"/>
                  <a:pt x="8546" y="17416"/>
                  <a:pt x="8604" y="17431"/>
                </a:cubicBezTo>
              </a:path>
              <a:path w="2731" h="1398">
                <a:moveTo>
                  <a:pt x="8890" y="16510"/>
                </a:moveTo>
                <a:cubicBezTo>
                  <a:pt x="8804" y="16665"/>
                  <a:pt x="8749" y="16829"/>
                  <a:pt x="8668" y="16986"/>
                </a:cubicBezTo>
                <a:cubicBezTo>
                  <a:pt x="8541" y="17234"/>
                  <a:pt x="8434" y="17476"/>
                  <a:pt x="8287" y="17716"/>
                </a:cubicBezTo>
                <a:cubicBezTo>
                  <a:pt x="8255" y="17769"/>
                  <a:pt x="8224" y="17822"/>
                  <a:pt x="8192" y="17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Ink 11"/>
          <p:cNvSpPr/>
          <p:nvPr/>
        </p:nvSpPr>
        <p:spPr>
          <a:xfrm>
            <a:off x="4822920" y="2114640"/>
            <a:ext cx="1017360" cy="1303200"/>
          </a:xfrm>
          <a:custGeom>
            <a:avLst/>
            <a:gdLst/>
            <a:ahLst/>
            <a:rect l="l" t="t" r="r" b="b"/>
            <a:pathLst>
              <a:path w="2827" h="3620">
                <a:moveTo>
                  <a:pt x="13748" y="6540"/>
                </a:moveTo>
                <a:cubicBezTo>
                  <a:pt x="13748" y="6593"/>
                  <a:pt x="13748" y="6583"/>
                  <a:pt x="13748" y="6636"/>
                </a:cubicBezTo>
                <a:cubicBezTo>
                  <a:pt x="13748" y="6742"/>
                  <a:pt x="13716" y="6840"/>
                  <a:pt x="13716" y="6953"/>
                </a:cubicBezTo>
                <a:cubicBezTo>
                  <a:pt x="13716" y="7115"/>
                  <a:pt x="13684" y="7266"/>
                  <a:pt x="13684" y="7430"/>
                </a:cubicBezTo>
                <a:cubicBezTo>
                  <a:pt x="13684" y="7546"/>
                  <a:pt x="13653" y="7717"/>
                  <a:pt x="13716" y="7810"/>
                </a:cubicBezTo>
                <a:cubicBezTo>
                  <a:pt x="13727" y="7810"/>
                  <a:pt x="13737" y="7810"/>
                  <a:pt x="13748" y="7810"/>
                </a:cubicBezTo>
                <a:cubicBezTo>
                  <a:pt x="13815" y="7758"/>
                  <a:pt x="13855" y="7755"/>
                  <a:pt x="13906" y="7652"/>
                </a:cubicBezTo>
                <a:cubicBezTo>
                  <a:pt x="13978" y="7507"/>
                  <a:pt x="14030" y="7368"/>
                  <a:pt x="14065" y="7207"/>
                </a:cubicBezTo>
                <a:cubicBezTo>
                  <a:pt x="14104" y="7029"/>
                  <a:pt x="14164" y="6847"/>
                  <a:pt x="14192" y="6668"/>
                </a:cubicBezTo>
                <a:cubicBezTo>
                  <a:pt x="14192" y="6604"/>
                  <a:pt x="14192" y="6583"/>
                  <a:pt x="14192" y="6540"/>
                </a:cubicBezTo>
                <a:cubicBezTo>
                  <a:pt x="14192" y="6626"/>
                  <a:pt x="14168" y="6645"/>
                  <a:pt x="14160" y="6731"/>
                </a:cubicBezTo>
                <a:cubicBezTo>
                  <a:pt x="14139" y="6954"/>
                  <a:pt x="14129" y="7172"/>
                  <a:pt x="14129" y="7398"/>
                </a:cubicBezTo>
                <a:cubicBezTo>
                  <a:pt x="14129" y="7881"/>
                  <a:pt x="14167" y="8381"/>
                  <a:pt x="14097" y="8858"/>
                </a:cubicBezTo>
                <a:cubicBezTo>
                  <a:pt x="14072" y="9026"/>
                  <a:pt x="14016" y="9229"/>
                  <a:pt x="13906" y="9366"/>
                </a:cubicBezTo>
                <a:cubicBezTo>
                  <a:pt x="13775" y="9530"/>
                  <a:pt x="13757" y="9489"/>
                  <a:pt x="13621" y="9398"/>
                </a:cubicBezTo>
                <a:cubicBezTo>
                  <a:pt x="13480" y="9304"/>
                  <a:pt x="13479" y="9243"/>
                  <a:pt x="13430" y="9080"/>
                </a:cubicBezTo>
                <a:cubicBezTo>
                  <a:pt x="13388" y="8941"/>
                  <a:pt x="13398" y="8813"/>
                  <a:pt x="13398" y="8668"/>
                </a:cubicBezTo>
              </a:path>
              <a:path w="2827" h="3620">
                <a:moveTo>
                  <a:pt x="14478" y="7239"/>
                </a:moveTo>
                <a:cubicBezTo>
                  <a:pt x="14546" y="7239"/>
                  <a:pt x="14580" y="7267"/>
                  <a:pt x="14637" y="7271"/>
                </a:cubicBezTo>
                <a:cubicBezTo>
                  <a:pt x="14761" y="7280"/>
                  <a:pt x="14878" y="7267"/>
                  <a:pt x="14986" y="7302"/>
                </a:cubicBezTo>
                <a:cubicBezTo>
                  <a:pt x="14997" y="7302"/>
                  <a:pt x="15007" y="7302"/>
                  <a:pt x="15018" y="7302"/>
                </a:cubicBezTo>
              </a:path>
              <a:path w="2827" h="3620">
                <a:moveTo>
                  <a:pt x="14446" y="7874"/>
                </a:moveTo>
                <a:cubicBezTo>
                  <a:pt x="14529" y="7874"/>
                  <a:pt x="14591" y="7855"/>
                  <a:pt x="14668" y="7842"/>
                </a:cubicBezTo>
                <a:cubicBezTo>
                  <a:pt x="14735" y="7831"/>
                  <a:pt x="14791" y="7819"/>
                  <a:pt x="14859" y="7810"/>
                </a:cubicBezTo>
              </a:path>
              <a:path w="2827" h="3620">
                <a:moveTo>
                  <a:pt x="15304" y="6286"/>
                </a:moveTo>
                <a:cubicBezTo>
                  <a:pt x="15311" y="6197"/>
                  <a:pt x="15307" y="6108"/>
                  <a:pt x="15367" y="6032"/>
                </a:cubicBezTo>
                <a:cubicBezTo>
                  <a:pt x="15430" y="5952"/>
                  <a:pt x="15518" y="5890"/>
                  <a:pt x="15621" y="5874"/>
                </a:cubicBezTo>
                <a:cubicBezTo>
                  <a:pt x="15746" y="5855"/>
                  <a:pt x="15856" y="5976"/>
                  <a:pt x="15875" y="6096"/>
                </a:cubicBezTo>
                <a:cubicBezTo>
                  <a:pt x="15903" y="6268"/>
                  <a:pt x="15859" y="6472"/>
                  <a:pt x="15812" y="6636"/>
                </a:cubicBezTo>
                <a:cubicBezTo>
                  <a:pt x="15723" y="6946"/>
                  <a:pt x="15584" y="7229"/>
                  <a:pt x="15462" y="7525"/>
                </a:cubicBezTo>
                <a:cubicBezTo>
                  <a:pt x="15396" y="7686"/>
                  <a:pt x="15374" y="7887"/>
                  <a:pt x="15272" y="8033"/>
                </a:cubicBezTo>
                <a:cubicBezTo>
                  <a:pt x="15240" y="8033"/>
                  <a:pt x="15230" y="8033"/>
                  <a:pt x="15240" y="8064"/>
                </a:cubicBezTo>
                <a:cubicBezTo>
                  <a:pt x="15219" y="7980"/>
                  <a:pt x="15206" y="8024"/>
                  <a:pt x="15240" y="7938"/>
                </a:cubicBezTo>
                <a:cubicBezTo>
                  <a:pt x="15258" y="7893"/>
                  <a:pt x="15265" y="7846"/>
                  <a:pt x="15304" y="7810"/>
                </a:cubicBezTo>
                <a:cubicBezTo>
                  <a:pt x="15330" y="7785"/>
                  <a:pt x="15390" y="7781"/>
                  <a:pt x="15430" y="7779"/>
                </a:cubicBezTo>
                <a:cubicBezTo>
                  <a:pt x="15515" y="7774"/>
                  <a:pt x="15585" y="7800"/>
                  <a:pt x="15653" y="7810"/>
                </a:cubicBezTo>
                <a:cubicBezTo>
                  <a:pt x="15718" y="7819"/>
                  <a:pt x="15812" y="7822"/>
                  <a:pt x="15875" y="7842"/>
                </a:cubicBezTo>
                <a:cubicBezTo>
                  <a:pt x="15930" y="7860"/>
                  <a:pt x="15959" y="7888"/>
                  <a:pt x="16034" y="7874"/>
                </a:cubicBezTo>
                <a:cubicBezTo>
                  <a:pt x="16074" y="7866"/>
                  <a:pt x="16120" y="7856"/>
                  <a:pt x="16161" y="7842"/>
                </a:cubicBezTo>
                <a:cubicBezTo>
                  <a:pt x="16201" y="7828"/>
                  <a:pt x="16209" y="7791"/>
                  <a:pt x="16224" y="7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Ink 12"/>
          <p:cNvSpPr/>
          <p:nvPr/>
        </p:nvSpPr>
        <p:spPr>
          <a:xfrm>
            <a:off x="5372280" y="1965240"/>
            <a:ext cx="1360440" cy="2367000"/>
          </a:xfrm>
          <a:custGeom>
            <a:avLst/>
            <a:gdLst/>
            <a:ahLst/>
            <a:rect l="l" t="t" r="r" b="b"/>
            <a:pathLst>
              <a:path w="3780" h="6573">
                <a:moveTo>
                  <a:pt x="17240" y="5461"/>
                </a:moveTo>
                <a:cubicBezTo>
                  <a:pt x="17195" y="5513"/>
                  <a:pt x="17134" y="5610"/>
                  <a:pt x="17082" y="5683"/>
                </a:cubicBezTo>
                <a:cubicBezTo>
                  <a:pt x="16949" y="5870"/>
                  <a:pt x="16821" y="6074"/>
                  <a:pt x="16732" y="6286"/>
                </a:cubicBezTo>
                <a:cubicBezTo>
                  <a:pt x="16622" y="6547"/>
                  <a:pt x="16567" y="6837"/>
                  <a:pt x="16510" y="7112"/>
                </a:cubicBezTo>
                <a:cubicBezTo>
                  <a:pt x="16457" y="7368"/>
                  <a:pt x="16446" y="7614"/>
                  <a:pt x="16446" y="7874"/>
                </a:cubicBezTo>
                <a:cubicBezTo>
                  <a:pt x="16446" y="8012"/>
                  <a:pt x="16439" y="8258"/>
                  <a:pt x="16510" y="8382"/>
                </a:cubicBezTo>
                <a:cubicBezTo>
                  <a:pt x="16533" y="8423"/>
                  <a:pt x="16618" y="8548"/>
                  <a:pt x="16669" y="8572"/>
                </a:cubicBezTo>
                <a:cubicBezTo>
                  <a:pt x="16736" y="8603"/>
                  <a:pt x="16755" y="8539"/>
                  <a:pt x="16796" y="8509"/>
                </a:cubicBezTo>
              </a:path>
              <a:path w="3780" h="6573">
                <a:moveTo>
                  <a:pt x="17050" y="6604"/>
                </a:moveTo>
                <a:cubicBezTo>
                  <a:pt x="17050" y="6509"/>
                  <a:pt x="17050" y="6731"/>
                  <a:pt x="17050" y="6826"/>
                </a:cubicBezTo>
                <a:cubicBezTo>
                  <a:pt x="17050" y="7010"/>
                  <a:pt x="17077" y="7184"/>
                  <a:pt x="17082" y="7366"/>
                </a:cubicBezTo>
                <a:cubicBezTo>
                  <a:pt x="17086" y="7530"/>
                  <a:pt x="17096" y="7684"/>
                  <a:pt x="17113" y="7842"/>
                </a:cubicBezTo>
                <a:cubicBezTo>
                  <a:pt x="17119" y="7903"/>
                  <a:pt x="17113" y="7971"/>
                  <a:pt x="17113" y="8033"/>
                </a:cubicBezTo>
              </a:path>
              <a:path w="3780" h="6573">
                <a:moveTo>
                  <a:pt x="17399" y="7588"/>
                </a:moveTo>
                <a:cubicBezTo>
                  <a:pt x="17392" y="7645"/>
                  <a:pt x="17389" y="7757"/>
                  <a:pt x="17367" y="7810"/>
                </a:cubicBezTo>
                <a:cubicBezTo>
                  <a:pt x="17339" y="7839"/>
                  <a:pt x="17329" y="7845"/>
                  <a:pt x="17336" y="7874"/>
                </a:cubicBezTo>
              </a:path>
              <a:path w="3780" h="6573">
                <a:moveTo>
                  <a:pt x="17685" y="6699"/>
                </a:moveTo>
                <a:cubicBezTo>
                  <a:pt x="17685" y="6874"/>
                  <a:pt x="17685" y="7038"/>
                  <a:pt x="17653" y="7207"/>
                </a:cubicBezTo>
                <a:cubicBezTo>
                  <a:pt x="17648" y="7236"/>
                  <a:pt x="17653" y="7273"/>
                  <a:pt x="17653" y="7302"/>
                </a:cubicBezTo>
                <a:cubicBezTo>
                  <a:pt x="17665" y="7266"/>
                  <a:pt x="17697" y="7245"/>
                  <a:pt x="17748" y="7239"/>
                </a:cubicBezTo>
                <a:cubicBezTo>
                  <a:pt x="17813" y="7232"/>
                  <a:pt x="17858" y="7261"/>
                  <a:pt x="17907" y="7271"/>
                </a:cubicBezTo>
                <a:cubicBezTo>
                  <a:pt x="17979" y="7286"/>
                  <a:pt x="18004" y="7313"/>
                  <a:pt x="18066" y="7334"/>
                </a:cubicBezTo>
                <a:cubicBezTo>
                  <a:pt x="18107" y="7348"/>
                  <a:pt x="18158" y="7296"/>
                  <a:pt x="18161" y="7271"/>
                </a:cubicBezTo>
                <a:cubicBezTo>
                  <a:pt x="18161" y="7260"/>
                  <a:pt x="18161" y="7250"/>
                  <a:pt x="18161" y="7239"/>
                </a:cubicBezTo>
              </a:path>
              <a:path w="3780" h="6573">
                <a:moveTo>
                  <a:pt x="18066" y="6445"/>
                </a:moveTo>
                <a:cubicBezTo>
                  <a:pt x="18012" y="6534"/>
                  <a:pt x="18034" y="6654"/>
                  <a:pt x="18034" y="6763"/>
                </a:cubicBezTo>
                <a:cubicBezTo>
                  <a:pt x="18034" y="6956"/>
                  <a:pt x="18082" y="7144"/>
                  <a:pt x="18098" y="7334"/>
                </a:cubicBezTo>
                <a:cubicBezTo>
                  <a:pt x="18113" y="7522"/>
                  <a:pt x="18098" y="7717"/>
                  <a:pt x="18098" y="7906"/>
                </a:cubicBezTo>
              </a:path>
              <a:path w="3780" h="6573">
                <a:moveTo>
                  <a:pt x="18066" y="5715"/>
                </a:moveTo>
                <a:cubicBezTo>
                  <a:pt x="18137" y="5735"/>
                  <a:pt x="18180" y="5758"/>
                  <a:pt x="18224" y="5842"/>
                </a:cubicBezTo>
                <a:cubicBezTo>
                  <a:pt x="18308" y="6003"/>
                  <a:pt x="18371" y="6184"/>
                  <a:pt x="18447" y="6350"/>
                </a:cubicBezTo>
                <a:cubicBezTo>
                  <a:pt x="18544" y="6560"/>
                  <a:pt x="18620" y="6758"/>
                  <a:pt x="18669" y="6985"/>
                </a:cubicBezTo>
                <a:cubicBezTo>
                  <a:pt x="18720" y="7219"/>
                  <a:pt x="18710" y="7450"/>
                  <a:pt x="18669" y="7684"/>
                </a:cubicBezTo>
                <a:cubicBezTo>
                  <a:pt x="18636" y="7875"/>
                  <a:pt x="18568" y="8068"/>
                  <a:pt x="18447" y="8223"/>
                </a:cubicBezTo>
                <a:cubicBezTo>
                  <a:pt x="18426" y="8244"/>
                  <a:pt x="18404" y="8266"/>
                  <a:pt x="18383" y="8287"/>
                </a:cubicBezTo>
              </a:path>
              <a:path w="3780" h="6573">
                <a:moveTo>
                  <a:pt x="15113" y="9049"/>
                </a:moveTo>
                <a:cubicBezTo>
                  <a:pt x="15131" y="9155"/>
                  <a:pt x="15117" y="9220"/>
                  <a:pt x="15113" y="9334"/>
                </a:cubicBezTo>
                <a:cubicBezTo>
                  <a:pt x="15108" y="9507"/>
                  <a:pt x="15062" y="9671"/>
                  <a:pt x="15050" y="9842"/>
                </a:cubicBezTo>
                <a:cubicBezTo>
                  <a:pt x="15039" y="9994"/>
                  <a:pt x="14976" y="10486"/>
                  <a:pt x="15081" y="10604"/>
                </a:cubicBezTo>
                <a:cubicBezTo>
                  <a:pt x="15092" y="10604"/>
                  <a:pt x="15102" y="10604"/>
                  <a:pt x="15113" y="10604"/>
                </a:cubicBezTo>
                <a:cubicBezTo>
                  <a:pt x="15147" y="10566"/>
                  <a:pt x="15239" y="10476"/>
                  <a:pt x="15272" y="10414"/>
                </a:cubicBezTo>
                <a:cubicBezTo>
                  <a:pt x="15363" y="10242"/>
                  <a:pt x="15363" y="10024"/>
                  <a:pt x="15399" y="9842"/>
                </a:cubicBezTo>
                <a:cubicBezTo>
                  <a:pt x="15415" y="9758"/>
                  <a:pt x="15455" y="9630"/>
                  <a:pt x="15494" y="9557"/>
                </a:cubicBezTo>
                <a:cubicBezTo>
                  <a:pt x="15494" y="9525"/>
                  <a:pt x="15494" y="9514"/>
                  <a:pt x="15526" y="9525"/>
                </a:cubicBezTo>
                <a:cubicBezTo>
                  <a:pt x="15526" y="9846"/>
                  <a:pt x="15538" y="10160"/>
                  <a:pt x="15558" y="10478"/>
                </a:cubicBezTo>
                <a:cubicBezTo>
                  <a:pt x="15575" y="10755"/>
                  <a:pt x="15546" y="11030"/>
                  <a:pt x="15526" y="11303"/>
                </a:cubicBezTo>
                <a:cubicBezTo>
                  <a:pt x="15511" y="11501"/>
                  <a:pt x="15475" y="11634"/>
                  <a:pt x="15399" y="11811"/>
                </a:cubicBezTo>
                <a:cubicBezTo>
                  <a:pt x="15353" y="11918"/>
                  <a:pt x="15303" y="12005"/>
                  <a:pt x="15176" y="12033"/>
                </a:cubicBezTo>
                <a:cubicBezTo>
                  <a:pt x="15078" y="12054"/>
                  <a:pt x="14979" y="11963"/>
                  <a:pt x="14954" y="11874"/>
                </a:cubicBezTo>
                <a:cubicBezTo>
                  <a:pt x="14929" y="11783"/>
                  <a:pt x="14928" y="11684"/>
                  <a:pt x="14922" y="11589"/>
                </a:cubicBezTo>
              </a:path>
              <a:path w="3780" h="6573">
                <a:moveTo>
                  <a:pt x="15938" y="9747"/>
                </a:moveTo>
                <a:cubicBezTo>
                  <a:pt x="16028" y="9747"/>
                  <a:pt x="16087" y="9754"/>
                  <a:pt x="16161" y="9779"/>
                </a:cubicBezTo>
                <a:cubicBezTo>
                  <a:pt x="16171" y="9779"/>
                  <a:pt x="16182" y="9779"/>
                  <a:pt x="16192" y="9779"/>
                </a:cubicBezTo>
                <a:cubicBezTo>
                  <a:pt x="16208" y="9827"/>
                  <a:pt x="16231" y="9811"/>
                  <a:pt x="16288" y="9811"/>
                </a:cubicBezTo>
              </a:path>
              <a:path w="3780" h="6573">
                <a:moveTo>
                  <a:pt x="15970" y="10287"/>
                </a:moveTo>
                <a:cubicBezTo>
                  <a:pt x="16050" y="10287"/>
                  <a:pt x="16195" y="10328"/>
                  <a:pt x="16256" y="10319"/>
                </a:cubicBezTo>
                <a:cubicBezTo>
                  <a:pt x="16292" y="10313"/>
                  <a:pt x="16330" y="10287"/>
                  <a:pt x="16383" y="10287"/>
                </a:cubicBezTo>
              </a:path>
              <a:path w="3780" h="6573">
                <a:moveTo>
                  <a:pt x="16796" y="9334"/>
                </a:moveTo>
                <a:cubicBezTo>
                  <a:pt x="16829" y="9291"/>
                  <a:pt x="16862" y="9224"/>
                  <a:pt x="16923" y="9208"/>
                </a:cubicBezTo>
                <a:cubicBezTo>
                  <a:pt x="16974" y="9194"/>
                  <a:pt x="17081" y="9197"/>
                  <a:pt x="17113" y="9239"/>
                </a:cubicBezTo>
                <a:cubicBezTo>
                  <a:pt x="17177" y="9322"/>
                  <a:pt x="17221" y="9454"/>
                  <a:pt x="17208" y="9557"/>
                </a:cubicBezTo>
                <a:cubicBezTo>
                  <a:pt x="17186" y="9739"/>
                  <a:pt x="17138" y="9891"/>
                  <a:pt x="17082" y="10065"/>
                </a:cubicBezTo>
                <a:cubicBezTo>
                  <a:pt x="17040" y="10194"/>
                  <a:pt x="16975" y="10319"/>
                  <a:pt x="16923" y="10446"/>
                </a:cubicBezTo>
                <a:cubicBezTo>
                  <a:pt x="16895" y="10515"/>
                  <a:pt x="16819" y="10541"/>
                  <a:pt x="16859" y="10541"/>
                </a:cubicBezTo>
                <a:cubicBezTo>
                  <a:pt x="16957" y="10541"/>
                  <a:pt x="17031" y="10548"/>
                  <a:pt x="17113" y="10573"/>
                </a:cubicBezTo>
                <a:cubicBezTo>
                  <a:pt x="17154" y="10585"/>
                  <a:pt x="17201" y="10600"/>
                  <a:pt x="17240" y="10604"/>
                </a:cubicBezTo>
                <a:cubicBezTo>
                  <a:pt x="17272" y="10604"/>
                  <a:pt x="17283" y="10604"/>
                  <a:pt x="17304" y="10604"/>
                </a:cubicBezTo>
              </a:path>
              <a:path w="3780" h="6573">
                <a:moveTo>
                  <a:pt x="17590" y="10446"/>
                </a:moveTo>
                <a:cubicBezTo>
                  <a:pt x="17600" y="10446"/>
                  <a:pt x="17611" y="10446"/>
                  <a:pt x="17621" y="10446"/>
                </a:cubicBezTo>
              </a:path>
              <a:path w="3780" h="6573">
                <a:moveTo>
                  <a:pt x="18256" y="9334"/>
                </a:moveTo>
                <a:cubicBezTo>
                  <a:pt x="18267" y="9246"/>
                  <a:pt x="18308" y="9156"/>
                  <a:pt x="18224" y="9080"/>
                </a:cubicBezTo>
                <a:cubicBezTo>
                  <a:pt x="18158" y="9020"/>
                  <a:pt x="17981" y="9106"/>
                  <a:pt x="17939" y="9144"/>
                </a:cubicBezTo>
                <a:cubicBezTo>
                  <a:pt x="17867" y="9208"/>
                  <a:pt x="17820" y="9276"/>
                  <a:pt x="17812" y="9366"/>
                </a:cubicBezTo>
                <a:cubicBezTo>
                  <a:pt x="17804" y="9463"/>
                  <a:pt x="17851" y="9554"/>
                  <a:pt x="17907" y="9620"/>
                </a:cubicBezTo>
                <a:cubicBezTo>
                  <a:pt x="17969" y="9693"/>
                  <a:pt x="18039" y="9744"/>
                  <a:pt x="18098" y="9811"/>
                </a:cubicBezTo>
                <a:cubicBezTo>
                  <a:pt x="18169" y="9891"/>
                  <a:pt x="18239" y="9984"/>
                  <a:pt x="18256" y="10096"/>
                </a:cubicBezTo>
                <a:cubicBezTo>
                  <a:pt x="18270" y="10186"/>
                  <a:pt x="18260" y="10334"/>
                  <a:pt x="18224" y="10414"/>
                </a:cubicBezTo>
                <a:cubicBezTo>
                  <a:pt x="18200" y="10467"/>
                  <a:pt x="18122" y="10501"/>
                  <a:pt x="18066" y="10478"/>
                </a:cubicBezTo>
                <a:cubicBezTo>
                  <a:pt x="17986" y="10444"/>
                  <a:pt x="17946" y="10225"/>
                  <a:pt x="17939" y="10160"/>
                </a:cubicBezTo>
                <a:cubicBezTo>
                  <a:pt x="17920" y="9991"/>
                  <a:pt x="17935" y="9809"/>
                  <a:pt x="18002" y="9652"/>
                </a:cubicBezTo>
                <a:cubicBezTo>
                  <a:pt x="18050" y="9540"/>
                  <a:pt x="18122" y="9463"/>
                  <a:pt x="18193" y="9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Ink 13"/>
          <p:cNvSpPr/>
          <p:nvPr/>
        </p:nvSpPr>
        <p:spPr>
          <a:xfrm>
            <a:off x="7064280" y="2320920"/>
            <a:ext cx="1793880" cy="1347840"/>
          </a:xfrm>
          <a:custGeom>
            <a:avLst/>
            <a:gdLst/>
            <a:ahLst/>
            <a:rect l="l" t="t" r="r" b="b"/>
            <a:pathLst>
              <a:path w="4985" h="3748">
                <a:moveTo>
                  <a:pt x="20447" y="6445"/>
                </a:moveTo>
                <a:cubicBezTo>
                  <a:pt x="20407" y="6509"/>
                  <a:pt x="20393" y="6510"/>
                  <a:pt x="20352" y="6572"/>
                </a:cubicBezTo>
                <a:cubicBezTo>
                  <a:pt x="20252" y="6723"/>
                  <a:pt x="20145" y="6884"/>
                  <a:pt x="20066" y="7048"/>
                </a:cubicBezTo>
                <a:cubicBezTo>
                  <a:pt x="19947" y="7296"/>
                  <a:pt x="19857" y="7545"/>
                  <a:pt x="19780" y="7810"/>
                </a:cubicBezTo>
                <a:cubicBezTo>
                  <a:pt x="19695" y="8103"/>
                  <a:pt x="19627" y="8362"/>
                  <a:pt x="19622" y="8668"/>
                </a:cubicBezTo>
                <a:cubicBezTo>
                  <a:pt x="19618" y="8919"/>
                  <a:pt x="19652" y="9229"/>
                  <a:pt x="19748" y="9462"/>
                </a:cubicBezTo>
                <a:cubicBezTo>
                  <a:pt x="19819" y="9635"/>
                  <a:pt x="19962" y="9870"/>
                  <a:pt x="20098" y="10001"/>
                </a:cubicBezTo>
                <a:cubicBezTo>
                  <a:pt x="20175" y="10075"/>
                  <a:pt x="20295" y="10133"/>
                  <a:pt x="20384" y="10192"/>
                </a:cubicBezTo>
              </a:path>
              <a:path w="4985" h="3748">
                <a:moveTo>
                  <a:pt x="20638" y="7493"/>
                </a:moveTo>
                <a:cubicBezTo>
                  <a:pt x="20638" y="7635"/>
                  <a:pt x="20666" y="7765"/>
                  <a:pt x="20669" y="7906"/>
                </a:cubicBezTo>
                <a:cubicBezTo>
                  <a:pt x="20674" y="8130"/>
                  <a:pt x="20701" y="8346"/>
                  <a:pt x="20701" y="8572"/>
                </a:cubicBezTo>
                <a:cubicBezTo>
                  <a:pt x="20701" y="8733"/>
                  <a:pt x="20750" y="8925"/>
                  <a:pt x="20733" y="9080"/>
                </a:cubicBezTo>
                <a:cubicBezTo>
                  <a:pt x="20721" y="9189"/>
                  <a:pt x="20701" y="9261"/>
                  <a:pt x="20701" y="9366"/>
                </a:cubicBezTo>
              </a:path>
              <a:path w="4985" h="3748">
                <a:moveTo>
                  <a:pt x="21114" y="9017"/>
                </a:moveTo>
                <a:cubicBezTo>
                  <a:pt x="21114" y="9049"/>
                  <a:pt x="21114" y="9060"/>
                  <a:pt x="21114" y="9017"/>
                </a:cubicBezTo>
              </a:path>
              <a:path w="4985" h="3748">
                <a:moveTo>
                  <a:pt x="21368" y="7652"/>
                </a:moveTo>
                <a:cubicBezTo>
                  <a:pt x="21433" y="7674"/>
                  <a:pt x="21400" y="7800"/>
                  <a:pt x="21400" y="7874"/>
                </a:cubicBezTo>
                <a:cubicBezTo>
                  <a:pt x="21400" y="7996"/>
                  <a:pt x="21394" y="8168"/>
                  <a:pt x="21368" y="8287"/>
                </a:cubicBezTo>
                <a:cubicBezTo>
                  <a:pt x="21352" y="8362"/>
                  <a:pt x="21349" y="8450"/>
                  <a:pt x="21304" y="8509"/>
                </a:cubicBezTo>
                <a:cubicBezTo>
                  <a:pt x="21362" y="8509"/>
                  <a:pt x="21379" y="8483"/>
                  <a:pt x="21431" y="8477"/>
                </a:cubicBezTo>
                <a:cubicBezTo>
                  <a:pt x="21502" y="8469"/>
                  <a:pt x="21546" y="8446"/>
                  <a:pt x="21622" y="8446"/>
                </a:cubicBezTo>
                <a:cubicBezTo>
                  <a:pt x="21709" y="8446"/>
                  <a:pt x="21772" y="8438"/>
                  <a:pt x="21844" y="8414"/>
                </a:cubicBezTo>
                <a:cubicBezTo>
                  <a:pt x="21876" y="8414"/>
                  <a:pt x="21887" y="8414"/>
                  <a:pt x="21908" y="8414"/>
                </a:cubicBezTo>
              </a:path>
              <a:path w="4985" h="3748">
                <a:moveTo>
                  <a:pt x="21844" y="7239"/>
                </a:moveTo>
                <a:cubicBezTo>
                  <a:pt x="21787" y="7323"/>
                  <a:pt x="21783" y="7379"/>
                  <a:pt x="21780" y="7493"/>
                </a:cubicBezTo>
                <a:cubicBezTo>
                  <a:pt x="21774" y="7699"/>
                  <a:pt x="21797" y="7894"/>
                  <a:pt x="21812" y="8096"/>
                </a:cubicBezTo>
                <a:cubicBezTo>
                  <a:pt x="21828" y="8305"/>
                  <a:pt x="21847" y="8524"/>
                  <a:pt x="21876" y="8731"/>
                </a:cubicBezTo>
                <a:cubicBezTo>
                  <a:pt x="21899" y="8893"/>
                  <a:pt x="21908" y="9043"/>
                  <a:pt x="21908" y="9208"/>
                </a:cubicBezTo>
              </a:path>
              <a:path w="4985" h="3748">
                <a:moveTo>
                  <a:pt x="22257" y="8795"/>
                </a:moveTo>
                <a:cubicBezTo>
                  <a:pt x="22273" y="8894"/>
                  <a:pt x="22288" y="8978"/>
                  <a:pt x="22288" y="9080"/>
                </a:cubicBezTo>
                <a:cubicBezTo>
                  <a:pt x="22288" y="9246"/>
                  <a:pt x="22314" y="9396"/>
                  <a:pt x="22320" y="9557"/>
                </a:cubicBezTo>
                <a:cubicBezTo>
                  <a:pt x="22320" y="9631"/>
                  <a:pt x="22320" y="9642"/>
                  <a:pt x="22320" y="9684"/>
                </a:cubicBezTo>
              </a:path>
              <a:path w="4985" h="3748">
                <a:moveTo>
                  <a:pt x="22416" y="8192"/>
                </a:moveTo>
                <a:cubicBezTo>
                  <a:pt x="22426" y="8074"/>
                  <a:pt x="22445" y="7915"/>
                  <a:pt x="22511" y="7810"/>
                </a:cubicBezTo>
                <a:cubicBezTo>
                  <a:pt x="22553" y="7743"/>
                  <a:pt x="22659" y="7589"/>
                  <a:pt x="22733" y="7556"/>
                </a:cubicBezTo>
                <a:cubicBezTo>
                  <a:pt x="22801" y="7525"/>
                  <a:pt x="22882" y="7627"/>
                  <a:pt x="22892" y="7684"/>
                </a:cubicBezTo>
                <a:cubicBezTo>
                  <a:pt x="22923" y="7854"/>
                  <a:pt x="22863" y="8028"/>
                  <a:pt x="22828" y="8192"/>
                </a:cubicBezTo>
                <a:cubicBezTo>
                  <a:pt x="22786" y="8384"/>
                  <a:pt x="22725" y="8573"/>
                  <a:pt x="22670" y="8763"/>
                </a:cubicBezTo>
                <a:cubicBezTo>
                  <a:pt x="22645" y="8850"/>
                  <a:pt x="22607" y="8943"/>
                  <a:pt x="22574" y="9017"/>
                </a:cubicBezTo>
                <a:cubicBezTo>
                  <a:pt x="22633" y="8959"/>
                  <a:pt x="22668" y="8967"/>
                  <a:pt x="22733" y="8922"/>
                </a:cubicBezTo>
                <a:cubicBezTo>
                  <a:pt x="22811" y="8868"/>
                  <a:pt x="22831" y="8863"/>
                  <a:pt x="22924" y="8858"/>
                </a:cubicBezTo>
                <a:cubicBezTo>
                  <a:pt x="22995" y="8854"/>
                  <a:pt x="23059" y="8846"/>
                  <a:pt x="23114" y="8890"/>
                </a:cubicBezTo>
                <a:cubicBezTo>
                  <a:pt x="23125" y="8901"/>
                  <a:pt x="23135" y="8911"/>
                  <a:pt x="23146" y="8922"/>
                </a:cubicBezTo>
              </a:path>
              <a:path w="4985" h="3748">
                <a:moveTo>
                  <a:pt x="23368" y="8604"/>
                </a:moveTo>
                <a:cubicBezTo>
                  <a:pt x="23368" y="8636"/>
                  <a:pt x="23368" y="8647"/>
                  <a:pt x="23368" y="8668"/>
                </a:cubicBezTo>
              </a:path>
              <a:path w="4985" h="3748">
                <a:moveTo>
                  <a:pt x="23844" y="7652"/>
                </a:moveTo>
                <a:cubicBezTo>
                  <a:pt x="23856" y="7556"/>
                  <a:pt x="23902" y="7491"/>
                  <a:pt x="23844" y="7398"/>
                </a:cubicBezTo>
                <a:cubicBezTo>
                  <a:pt x="23815" y="7369"/>
                  <a:pt x="23809" y="7359"/>
                  <a:pt x="23781" y="7366"/>
                </a:cubicBezTo>
                <a:cubicBezTo>
                  <a:pt x="23691" y="7384"/>
                  <a:pt x="23642" y="7448"/>
                  <a:pt x="23590" y="7525"/>
                </a:cubicBezTo>
                <a:cubicBezTo>
                  <a:pt x="23554" y="7579"/>
                  <a:pt x="23488" y="7748"/>
                  <a:pt x="23495" y="7810"/>
                </a:cubicBezTo>
                <a:cubicBezTo>
                  <a:pt x="23507" y="7921"/>
                  <a:pt x="23561" y="7948"/>
                  <a:pt x="23622" y="8033"/>
                </a:cubicBezTo>
                <a:cubicBezTo>
                  <a:pt x="23692" y="8131"/>
                  <a:pt x="23816" y="8188"/>
                  <a:pt x="23876" y="8287"/>
                </a:cubicBezTo>
                <a:cubicBezTo>
                  <a:pt x="23922" y="8362"/>
                  <a:pt x="24012" y="8508"/>
                  <a:pt x="24003" y="8604"/>
                </a:cubicBezTo>
                <a:cubicBezTo>
                  <a:pt x="23995" y="8687"/>
                  <a:pt x="23951" y="8809"/>
                  <a:pt x="23876" y="8858"/>
                </a:cubicBezTo>
                <a:cubicBezTo>
                  <a:pt x="23842" y="8880"/>
                  <a:pt x="23768" y="8853"/>
                  <a:pt x="23749" y="8826"/>
                </a:cubicBezTo>
                <a:cubicBezTo>
                  <a:pt x="23666" y="8708"/>
                  <a:pt x="23686" y="8584"/>
                  <a:pt x="23686" y="8446"/>
                </a:cubicBezTo>
                <a:cubicBezTo>
                  <a:pt x="23686" y="8269"/>
                  <a:pt x="23739" y="8109"/>
                  <a:pt x="23781" y="7938"/>
                </a:cubicBezTo>
                <a:cubicBezTo>
                  <a:pt x="23815" y="7800"/>
                  <a:pt x="23854" y="7657"/>
                  <a:pt x="23908" y="7525"/>
                </a:cubicBezTo>
                <a:cubicBezTo>
                  <a:pt x="23944" y="7453"/>
                  <a:pt x="23958" y="7422"/>
                  <a:pt x="23971" y="7366"/>
                </a:cubicBezTo>
              </a:path>
              <a:path w="4985" h="3748">
                <a:moveTo>
                  <a:pt x="24098" y="6668"/>
                </a:moveTo>
                <a:cubicBezTo>
                  <a:pt x="24218" y="6742"/>
                  <a:pt x="24253" y="6828"/>
                  <a:pt x="24320" y="6953"/>
                </a:cubicBezTo>
                <a:cubicBezTo>
                  <a:pt x="24420" y="7141"/>
                  <a:pt x="24491" y="7350"/>
                  <a:pt x="24543" y="7556"/>
                </a:cubicBezTo>
                <a:cubicBezTo>
                  <a:pt x="24608" y="7812"/>
                  <a:pt x="24627" y="8087"/>
                  <a:pt x="24606" y="8350"/>
                </a:cubicBezTo>
                <a:cubicBezTo>
                  <a:pt x="24582" y="8645"/>
                  <a:pt x="24516" y="8930"/>
                  <a:pt x="24416" y="9208"/>
                </a:cubicBezTo>
                <a:cubicBezTo>
                  <a:pt x="24337" y="9426"/>
                  <a:pt x="24266" y="9634"/>
                  <a:pt x="24162" y="98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ing Systems by Eli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x - 12y = -6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x + 12y = 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Ink 4"/>
          <p:cNvSpPr/>
          <p:nvPr/>
        </p:nvSpPr>
        <p:spPr>
          <a:xfrm>
            <a:off x="160200" y="1154160"/>
            <a:ext cx="7772400" cy="1657440"/>
          </a:xfrm>
          <a:custGeom>
            <a:avLst/>
            <a:gdLst/>
            <a:ahLst/>
            <a:rect l="l" t="t" r="r" b="b"/>
            <a:pathLst>
              <a:path w="21591" h="4604">
                <a:moveTo>
                  <a:pt x="667" y="6858"/>
                </a:moveTo>
                <a:cubicBezTo>
                  <a:pt x="717" y="6867"/>
                  <a:pt x="693" y="6885"/>
                  <a:pt x="762" y="6890"/>
                </a:cubicBezTo>
                <a:cubicBezTo>
                  <a:pt x="1345" y="6935"/>
                  <a:pt x="1933" y="6857"/>
                  <a:pt x="2508" y="6826"/>
                </a:cubicBezTo>
                <a:cubicBezTo>
                  <a:pt x="2700" y="6816"/>
                  <a:pt x="2889" y="6798"/>
                  <a:pt x="3080" y="6794"/>
                </a:cubicBezTo>
                <a:cubicBezTo>
                  <a:pt x="3284" y="6790"/>
                  <a:pt x="3482" y="6774"/>
                  <a:pt x="3683" y="6763"/>
                </a:cubicBezTo>
                <a:cubicBezTo>
                  <a:pt x="3917" y="6750"/>
                  <a:pt x="4150" y="6746"/>
                  <a:pt x="4382" y="6731"/>
                </a:cubicBezTo>
                <a:cubicBezTo>
                  <a:pt x="4983" y="6693"/>
                  <a:pt x="5591" y="6737"/>
                  <a:pt x="6191" y="6699"/>
                </a:cubicBezTo>
                <a:cubicBezTo>
                  <a:pt x="6964" y="6650"/>
                  <a:pt x="7772" y="6685"/>
                  <a:pt x="8541" y="6731"/>
                </a:cubicBezTo>
                <a:cubicBezTo>
                  <a:pt x="8837" y="6749"/>
                  <a:pt x="9136" y="6744"/>
                  <a:pt x="9430" y="6763"/>
                </a:cubicBezTo>
                <a:cubicBezTo>
                  <a:pt x="9629" y="6776"/>
                  <a:pt x="9836" y="6784"/>
                  <a:pt x="10033" y="6794"/>
                </a:cubicBezTo>
                <a:cubicBezTo>
                  <a:pt x="10275" y="6806"/>
                  <a:pt x="10520" y="6794"/>
                  <a:pt x="10763" y="6794"/>
                </a:cubicBezTo>
              </a:path>
              <a:path w="21591" h="4604">
                <a:moveTo>
                  <a:pt x="4699" y="3366"/>
                </a:moveTo>
                <a:cubicBezTo>
                  <a:pt x="4653" y="3416"/>
                  <a:pt x="4648" y="3406"/>
                  <a:pt x="4604" y="3461"/>
                </a:cubicBezTo>
                <a:cubicBezTo>
                  <a:pt x="4579" y="3492"/>
                  <a:pt x="4539" y="3548"/>
                  <a:pt x="4508" y="3588"/>
                </a:cubicBezTo>
                <a:cubicBezTo>
                  <a:pt x="4465" y="3643"/>
                  <a:pt x="4429" y="3694"/>
                  <a:pt x="4382" y="3746"/>
                </a:cubicBezTo>
                <a:cubicBezTo>
                  <a:pt x="4317" y="3819"/>
                  <a:pt x="4242" y="3887"/>
                  <a:pt x="4191" y="3969"/>
                </a:cubicBezTo>
                <a:cubicBezTo>
                  <a:pt x="4138" y="4054"/>
                  <a:pt x="4134" y="4136"/>
                  <a:pt x="4096" y="4223"/>
                </a:cubicBezTo>
                <a:cubicBezTo>
                  <a:pt x="4034" y="4364"/>
                  <a:pt x="3987" y="4497"/>
                  <a:pt x="3937" y="4636"/>
                </a:cubicBezTo>
                <a:cubicBezTo>
                  <a:pt x="3898" y="4743"/>
                  <a:pt x="3842" y="4843"/>
                  <a:pt x="3810" y="4953"/>
                </a:cubicBezTo>
                <a:cubicBezTo>
                  <a:pt x="3771" y="5089"/>
                  <a:pt x="3730" y="5228"/>
                  <a:pt x="3683" y="5366"/>
                </a:cubicBezTo>
                <a:cubicBezTo>
                  <a:pt x="3653" y="5456"/>
                  <a:pt x="3642" y="5554"/>
                  <a:pt x="3620" y="5652"/>
                </a:cubicBezTo>
                <a:cubicBezTo>
                  <a:pt x="3599" y="5744"/>
                  <a:pt x="3578" y="5844"/>
                  <a:pt x="3556" y="5937"/>
                </a:cubicBezTo>
                <a:cubicBezTo>
                  <a:pt x="3531" y="6045"/>
                  <a:pt x="3538" y="6088"/>
                  <a:pt x="3556" y="6191"/>
                </a:cubicBezTo>
                <a:cubicBezTo>
                  <a:pt x="3569" y="6265"/>
                  <a:pt x="3562" y="6345"/>
                  <a:pt x="3588" y="6414"/>
                </a:cubicBezTo>
                <a:cubicBezTo>
                  <a:pt x="3612" y="6478"/>
                  <a:pt x="3641" y="6513"/>
                  <a:pt x="3683" y="6572"/>
                </a:cubicBezTo>
                <a:cubicBezTo>
                  <a:pt x="3726" y="6632"/>
                  <a:pt x="3787" y="6670"/>
                  <a:pt x="3842" y="6699"/>
                </a:cubicBezTo>
                <a:cubicBezTo>
                  <a:pt x="3904" y="6731"/>
                  <a:pt x="3967" y="6745"/>
                  <a:pt x="4032" y="6763"/>
                </a:cubicBezTo>
                <a:cubicBezTo>
                  <a:pt x="4115" y="6786"/>
                  <a:pt x="4167" y="6790"/>
                  <a:pt x="4254" y="6794"/>
                </a:cubicBezTo>
                <a:cubicBezTo>
                  <a:pt x="4347" y="6799"/>
                  <a:pt x="4419" y="6819"/>
                  <a:pt x="4508" y="6826"/>
                </a:cubicBezTo>
                <a:cubicBezTo>
                  <a:pt x="4682" y="6841"/>
                  <a:pt x="4854" y="6806"/>
                  <a:pt x="5016" y="6794"/>
                </a:cubicBezTo>
                <a:cubicBezTo>
                  <a:pt x="5132" y="6785"/>
                  <a:pt x="5257" y="6772"/>
                  <a:pt x="5366" y="6763"/>
                </a:cubicBezTo>
                <a:cubicBezTo>
                  <a:pt x="5457" y="6756"/>
                  <a:pt x="5533" y="6748"/>
                  <a:pt x="5620" y="6731"/>
                </a:cubicBezTo>
                <a:cubicBezTo>
                  <a:pt x="5676" y="6720"/>
                  <a:pt x="5757" y="6717"/>
                  <a:pt x="5810" y="6699"/>
                </a:cubicBezTo>
                <a:cubicBezTo>
                  <a:pt x="5874" y="6677"/>
                  <a:pt x="5946" y="6660"/>
                  <a:pt x="6001" y="6636"/>
                </a:cubicBezTo>
                <a:cubicBezTo>
                  <a:pt x="6064" y="6608"/>
                  <a:pt x="6129" y="6596"/>
                  <a:pt x="6191" y="6572"/>
                </a:cubicBezTo>
                <a:cubicBezTo>
                  <a:pt x="6246" y="6551"/>
                  <a:pt x="6303" y="6532"/>
                  <a:pt x="6350" y="6509"/>
                </a:cubicBezTo>
                <a:cubicBezTo>
                  <a:pt x="6374" y="6498"/>
                  <a:pt x="6464" y="6458"/>
                  <a:pt x="6477" y="6445"/>
                </a:cubicBezTo>
                <a:cubicBezTo>
                  <a:pt x="6520" y="6401"/>
                  <a:pt x="6515" y="6338"/>
                  <a:pt x="6540" y="6286"/>
                </a:cubicBezTo>
                <a:cubicBezTo>
                  <a:pt x="6571" y="6221"/>
                  <a:pt x="6576" y="6153"/>
                  <a:pt x="6604" y="6096"/>
                </a:cubicBezTo>
                <a:cubicBezTo>
                  <a:pt x="6641" y="6020"/>
                  <a:pt x="6688" y="5960"/>
                  <a:pt x="6699" y="5874"/>
                </a:cubicBezTo>
                <a:cubicBezTo>
                  <a:pt x="6713" y="5765"/>
                  <a:pt x="6723" y="5664"/>
                  <a:pt x="6731" y="5556"/>
                </a:cubicBezTo>
                <a:cubicBezTo>
                  <a:pt x="6739" y="5446"/>
                  <a:pt x="6757" y="5348"/>
                  <a:pt x="6763" y="5239"/>
                </a:cubicBezTo>
                <a:cubicBezTo>
                  <a:pt x="6771" y="5098"/>
                  <a:pt x="6777" y="4965"/>
                  <a:pt x="6794" y="4826"/>
                </a:cubicBezTo>
                <a:cubicBezTo>
                  <a:pt x="6810" y="4696"/>
                  <a:pt x="6834" y="4574"/>
                  <a:pt x="6858" y="4445"/>
                </a:cubicBezTo>
                <a:cubicBezTo>
                  <a:pt x="6878" y="4338"/>
                  <a:pt x="6913" y="4234"/>
                  <a:pt x="6953" y="4128"/>
                </a:cubicBezTo>
                <a:cubicBezTo>
                  <a:pt x="6997" y="4012"/>
                  <a:pt x="7039" y="3883"/>
                  <a:pt x="7080" y="3778"/>
                </a:cubicBezTo>
                <a:cubicBezTo>
                  <a:pt x="7116" y="3685"/>
                  <a:pt x="7171" y="3598"/>
                  <a:pt x="7144" y="3492"/>
                </a:cubicBezTo>
                <a:cubicBezTo>
                  <a:pt x="7128" y="3428"/>
                  <a:pt x="7083" y="3393"/>
                  <a:pt x="7017" y="3366"/>
                </a:cubicBezTo>
                <a:cubicBezTo>
                  <a:pt x="6940" y="3335"/>
                  <a:pt x="6844" y="3320"/>
                  <a:pt x="6763" y="3302"/>
                </a:cubicBezTo>
                <a:cubicBezTo>
                  <a:pt x="6658" y="3279"/>
                  <a:pt x="6552" y="3284"/>
                  <a:pt x="6445" y="3270"/>
                </a:cubicBezTo>
                <a:cubicBezTo>
                  <a:pt x="6340" y="3256"/>
                  <a:pt x="6235" y="3251"/>
                  <a:pt x="6128" y="3238"/>
                </a:cubicBezTo>
                <a:cubicBezTo>
                  <a:pt x="6009" y="3224"/>
                  <a:pt x="5901" y="3209"/>
                  <a:pt x="5778" y="3207"/>
                </a:cubicBezTo>
                <a:cubicBezTo>
                  <a:pt x="5612" y="3204"/>
                  <a:pt x="5462" y="3214"/>
                  <a:pt x="5302" y="3238"/>
                </a:cubicBezTo>
                <a:cubicBezTo>
                  <a:pt x="5151" y="3260"/>
                  <a:pt x="5004" y="3302"/>
                  <a:pt x="4858" y="3334"/>
                </a:cubicBezTo>
                <a:cubicBezTo>
                  <a:pt x="4746" y="3359"/>
                  <a:pt x="4648" y="3392"/>
                  <a:pt x="4540" y="3429"/>
                </a:cubicBezTo>
                <a:cubicBezTo>
                  <a:pt x="4512" y="3439"/>
                  <a:pt x="4476" y="3450"/>
                  <a:pt x="4445" y="3461"/>
                </a:cubicBezTo>
              </a:path>
              <a:path w="21591" h="4604">
                <a:moveTo>
                  <a:pt x="1080" y="5207"/>
                </a:moveTo>
                <a:cubicBezTo>
                  <a:pt x="1080" y="5319"/>
                  <a:pt x="1053" y="5416"/>
                  <a:pt x="1048" y="5524"/>
                </a:cubicBezTo>
                <a:cubicBezTo>
                  <a:pt x="1036" y="5802"/>
                  <a:pt x="1061" y="6082"/>
                  <a:pt x="1016" y="6350"/>
                </a:cubicBezTo>
                <a:cubicBezTo>
                  <a:pt x="1003" y="6429"/>
                  <a:pt x="1050" y="6526"/>
                  <a:pt x="952" y="6477"/>
                </a:cubicBezTo>
              </a:path>
              <a:path w="21591" h="4604">
                <a:moveTo>
                  <a:pt x="444" y="5969"/>
                </a:moveTo>
                <a:cubicBezTo>
                  <a:pt x="504" y="6014"/>
                  <a:pt x="556" y="6001"/>
                  <a:pt x="635" y="6001"/>
                </a:cubicBezTo>
                <a:cubicBezTo>
                  <a:pt x="747" y="6001"/>
                  <a:pt x="844" y="5981"/>
                  <a:pt x="952" y="5969"/>
                </a:cubicBezTo>
                <a:cubicBezTo>
                  <a:pt x="1079" y="5955"/>
                  <a:pt x="1208" y="5943"/>
                  <a:pt x="1334" y="5937"/>
                </a:cubicBezTo>
                <a:cubicBezTo>
                  <a:pt x="1418" y="5933"/>
                  <a:pt x="1504" y="5937"/>
                  <a:pt x="1588" y="5937"/>
                </a:cubicBezTo>
              </a:path>
              <a:path w="21591" h="4604">
                <a:moveTo>
                  <a:pt x="13113" y="6604"/>
                </a:moveTo>
                <a:cubicBezTo>
                  <a:pt x="13168" y="6561"/>
                  <a:pt x="13181" y="6593"/>
                  <a:pt x="13240" y="6572"/>
                </a:cubicBezTo>
                <a:cubicBezTo>
                  <a:pt x="13329" y="6540"/>
                  <a:pt x="13398" y="6492"/>
                  <a:pt x="13494" y="6477"/>
                </a:cubicBezTo>
                <a:cubicBezTo>
                  <a:pt x="13567" y="6466"/>
                  <a:pt x="13633" y="6467"/>
                  <a:pt x="13684" y="6477"/>
                </a:cubicBezTo>
                <a:cubicBezTo>
                  <a:pt x="13710" y="6482"/>
                  <a:pt x="13761" y="6527"/>
                  <a:pt x="13748" y="6572"/>
                </a:cubicBezTo>
                <a:cubicBezTo>
                  <a:pt x="13719" y="6674"/>
                  <a:pt x="13634" y="6740"/>
                  <a:pt x="13589" y="6826"/>
                </a:cubicBezTo>
                <a:cubicBezTo>
                  <a:pt x="13545" y="6911"/>
                  <a:pt x="13498" y="7021"/>
                  <a:pt x="13462" y="7112"/>
                </a:cubicBezTo>
                <a:cubicBezTo>
                  <a:pt x="13421" y="7216"/>
                  <a:pt x="13395" y="7323"/>
                  <a:pt x="13367" y="7430"/>
                </a:cubicBezTo>
              </a:path>
              <a:path w="21591" h="4604">
                <a:moveTo>
                  <a:pt x="15272" y="4762"/>
                </a:moveTo>
                <a:lnTo>
                  <a:pt x="15272" y="4762"/>
                </a:lnTo>
              </a:path>
              <a:path w="21591" h="4604">
                <a:moveTo>
                  <a:pt x="15272" y="4762"/>
                </a:moveTo>
                <a:lnTo>
                  <a:pt x="15272" y="4762"/>
                </a:lnTo>
              </a:path>
              <a:path w="21591" h="4604">
                <a:moveTo>
                  <a:pt x="15240" y="4762"/>
                </a:moveTo>
                <a:cubicBezTo>
                  <a:pt x="15218" y="4811"/>
                  <a:pt x="15210" y="4871"/>
                  <a:pt x="15176" y="4921"/>
                </a:cubicBezTo>
                <a:cubicBezTo>
                  <a:pt x="15119" y="5004"/>
                  <a:pt x="15084" y="5078"/>
                  <a:pt x="15050" y="5175"/>
                </a:cubicBezTo>
                <a:cubicBezTo>
                  <a:pt x="15011" y="5286"/>
                  <a:pt x="14968" y="5412"/>
                  <a:pt x="14954" y="5524"/>
                </a:cubicBezTo>
                <a:cubicBezTo>
                  <a:pt x="14930" y="5714"/>
                  <a:pt x="14961" y="5913"/>
                  <a:pt x="14986" y="6096"/>
                </a:cubicBezTo>
                <a:cubicBezTo>
                  <a:pt x="14993" y="6148"/>
                  <a:pt x="15023" y="6289"/>
                  <a:pt x="15081" y="6318"/>
                </a:cubicBezTo>
                <a:cubicBezTo>
                  <a:pt x="15138" y="6346"/>
                  <a:pt x="15286" y="6319"/>
                  <a:pt x="15335" y="6286"/>
                </a:cubicBezTo>
                <a:cubicBezTo>
                  <a:pt x="15418" y="6230"/>
                  <a:pt x="15504" y="6114"/>
                  <a:pt x="15558" y="6032"/>
                </a:cubicBezTo>
                <a:cubicBezTo>
                  <a:pt x="15608" y="5956"/>
                  <a:pt x="15649" y="5867"/>
                  <a:pt x="15653" y="5778"/>
                </a:cubicBezTo>
                <a:cubicBezTo>
                  <a:pt x="15657" y="5691"/>
                  <a:pt x="15646" y="5636"/>
                  <a:pt x="15558" y="5620"/>
                </a:cubicBezTo>
                <a:cubicBezTo>
                  <a:pt x="15460" y="5602"/>
                  <a:pt x="15441" y="5636"/>
                  <a:pt x="15399" y="5715"/>
                </a:cubicBezTo>
                <a:cubicBezTo>
                  <a:pt x="15354" y="5800"/>
                  <a:pt x="15308" y="5874"/>
                  <a:pt x="15304" y="5969"/>
                </a:cubicBezTo>
                <a:cubicBezTo>
                  <a:pt x="15299" y="6088"/>
                  <a:pt x="15277" y="6251"/>
                  <a:pt x="15335" y="6350"/>
                </a:cubicBezTo>
              </a:path>
              <a:path w="21591" h="4604">
                <a:moveTo>
                  <a:pt x="16288" y="4445"/>
                </a:moveTo>
                <a:cubicBezTo>
                  <a:pt x="16205" y="4492"/>
                  <a:pt x="16202" y="4517"/>
                  <a:pt x="16129" y="4604"/>
                </a:cubicBezTo>
                <a:cubicBezTo>
                  <a:pt x="16035" y="4715"/>
                  <a:pt x="15958" y="4906"/>
                  <a:pt x="15907" y="5048"/>
                </a:cubicBezTo>
                <a:cubicBezTo>
                  <a:pt x="15840" y="5235"/>
                  <a:pt x="15788" y="5425"/>
                  <a:pt x="15748" y="5620"/>
                </a:cubicBezTo>
                <a:cubicBezTo>
                  <a:pt x="15708" y="5814"/>
                  <a:pt x="15699" y="5998"/>
                  <a:pt x="15748" y="6191"/>
                </a:cubicBezTo>
                <a:cubicBezTo>
                  <a:pt x="15777" y="6306"/>
                  <a:pt x="15796" y="6435"/>
                  <a:pt x="15843" y="6540"/>
                </a:cubicBezTo>
                <a:cubicBezTo>
                  <a:pt x="15869" y="6598"/>
                  <a:pt x="15884" y="6648"/>
                  <a:pt x="15907" y="6699"/>
                </a:cubicBezTo>
                <a:cubicBezTo>
                  <a:pt x="15924" y="6737"/>
                  <a:pt x="15878" y="6728"/>
                  <a:pt x="15907" y="6699"/>
                </a:cubicBezTo>
                <a:cubicBezTo>
                  <a:pt x="15917" y="6689"/>
                  <a:pt x="15928" y="6678"/>
                  <a:pt x="15938" y="6668"/>
                </a:cubicBezTo>
              </a:path>
              <a:path w="21591" h="4604">
                <a:moveTo>
                  <a:pt x="16066" y="5493"/>
                </a:moveTo>
                <a:cubicBezTo>
                  <a:pt x="16066" y="5422"/>
                  <a:pt x="16053" y="5358"/>
                  <a:pt x="16097" y="5302"/>
                </a:cubicBezTo>
                <a:cubicBezTo>
                  <a:pt x="16146" y="5240"/>
                  <a:pt x="16199" y="5220"/>
                  <a:pt x="16256" y="5270"/>
                </a:cubicBezTo>
                <a:cubicBezTo>
                  <a:pt x="16298" y="5307"/>
                  <a:pt x="16333" y="5403"/>
                  <a:pt x="16320" y="5461"/>
                </a:cubicBezTo>
                <a:cubicBezTo>
                  <a:pt x="16294" y="5576"/>
                  <a:pt x="16263" y="5693"/>
                  <a:pt x="16224" y="5810"/>
                </a:cubicBezTo>
                <a:cubicBezTo>
                  <a:pt x="16190" y="5912"/>
                  <a:pt x="16169" y="6014"/>
                  <a:pt x="16097" y="6096"/>
                </a:cubicBezTo>
                <a:cubicBezTo>
                  <a:pt x="16049" y="6150"/>
                  <a:pt x="16032" y="6142"/>
                  <a:pt x="16066" y="6096"/>
                </a:cubicBezTo>
                <a:cubicBezTo>
                  <a:pt x="16076" y="6085"/>
                  <a:pt x="16087" y="6075"/>
                  <a:pt x="16097" y="6064"/>
                </a:cubicBezTo>
                <a:cubicBezTo>
                  <a:pt x="16147" y="6077"/>
                  <a:pt x="16173" y="6118"/>
                  <a:pt x="16192" y="6128"/>
                </a:cubicBezTo>
                <a:cubicBezTo>
                  <a:pt x="16226" y="6145"/>
                  <a:pt x="16283" y="6179"/>
                  <a:pt x="16320" y="6191"/>
                </a:cubicBezTo>
                <a:cubicBezTo>
                  <a:pt x="16353" y="6202"/>
                  <a:pt x="16401" y="6160"/>
                  <a:pt x="16446" y="6160"/>
                </a:cubicBezTo>
              </a:path>
              <a:path w="21591" h="4604">
                <a:moveTo>
                  <a:pt x="16351" y="5016"/>
                </a:moveTo>
                <a:cubicBezTo>
                  <a:pt x="16385" y="5067"/>
                  <a:pt x="16380" y="5062"/>
                  <a:pt x="16415" y="5112"/>
                </a:cubicBezTo>
                <a:cubicBezTo>
                  <a:pt x="16494" y="5225"/>
                  <a:pt x="16578" y="5354"/>
                  <a:pt x="16669" y="5461"/>
                </a:cubicBezTo>
                <a:cubicBezTo>
                  <a:pt x="16788" y="5601"/>
                  <a:pt x="16866" y="5746"/>
                  <a:pt x="16891" y="5937"/>
                </a:cubicBezTo>
                <a:cubicBezTo>
                  <a:pt x="16914" y="6117"/>
                  <a:pt x="16876" y="6304"/>
                  <a:pt x="16828" y="6477"/>
                </a:cubicBezTo>
                <a:cubicBezTo>
                  <a:pt x="16801" y="6573"/>
                  <a:pt x="16764" y="6668"/>
                  <a:pt x="16732" y="6763"/>
                </a:cubicBezTo>
              </a:path>
              <a:path w="21591" h="4604">
                <a:moveTo>
                  <a:pt x="17558" y="5207"/>
                </a:moveTo>
                <a:cubicBezTo>
                  <a:pt x="17547" y="5196"/>
                  <a:pt x="17537" y="5186"/>
                  <a:pt x="17526" y="5175"/>
                </a:cubicBezTo>
                <a:cubicBezTo>
                  <a:pt x="17526" y="5351"/>
                  <a:pt x="17540" y="5512"/>
                  <a:pt x="17558" y="5683"/>
                </a:cubicBezTo>
                <a:cubicBezTo>
                  <a:pt x="17569" y="5787"/>
                  <a:pt x="17584" y="5900"/>
                  <a:pt x="17590" y="6001"/>
                </a:cubicBezTo>
                <a:cubicBezTo>
                  <a:pt x="17590" y="6054"/>
                  <a:pt x="17600" y="6075"/>
                  <a:pt x="17558" y="6064"/>
                </a:cubicBezTo>
              </a:path>
              <a:path w="21591" h="4604">
                <a:moveTo>
                  <a:pt x="17272" y="5842"/>
                </a:moveTo>
                <a:cubicBezTo>
                  <a:pt x="17359" y="5842"/>
                  <a:pt x="17410" y="5844"/>
                  <a:pt x="17494" y="5810"/>
                </a:cubicBezTo>
                <a:cubicBezTo>
                  <a:pt x="17611" y="5763"/>
                  <a:pt x="17700" y="5702"/>
                  <a:pt x="17812" y="5652"/>
                </a:cubicBezTo>
              </a:path>
              <a:path w="21591" h="4604">
                <a:moveTo>
                  <a:pt x="18034" y="4953"/>
                </a:moveTo>
                <a:cubicBezTo>
                  <a:pt x="18073" y="5055"/>
                  <a:pt x="18090" y="5192"/>
                  <a:pt x="18098" y="5302"/>
                </a:cubicBezTo>
                <a:cubicBezTo>
                  <a:pt x="18114" y="5511"/>
                  <a:pt x="18093" y="5724"/>
                  <a:pt x="18098" y="5937"/>
                </a:cubicBezTo>
                <a:cubicBezTo>
                  <a:pt x="18102" y="6111"/>
                  <a:pt x="18122" y="6274"/>
                  <a:pt x="18129" y="6445"/>
                </a:cubicBezTo>
                <a:cubicBezTo>
                  <a:pt x="18131" y="6487"/>
                  <a:pt x="18129" y="6551"/>
                  <a:pt x="18129" y="6509"/>
                </a:cubicBezTo>
              </a:path>
              <a:path w="21591" h="4604">
                <a:moveTo>
                  <a:pt x="18224" y="5334"/>
                </a:moveTo>
                <a:cubicBezTo>
                  <a:pt x="18256" y="5249"/>
                  <a:pt x="18273" y="5190"/>
                  <a:pt x="18320" y="5112"/>
                </a:cubicBezTo>
                <a:cubicBezTo>
                  <a:pt x="18363" y="5040"/>
                  <a:pt x="18345" y="4977"/>
                  <a:pt x="18447" y="4953"/>
                </a:cubicBezTo>
                <a:cubicBezTo>
                  <a:pt x="18544" y="4930"/>
                  <a:pt x="18528" y="5015"/>
                  <a:pt x="18542" y="5080"/>
                </a:cubicBezTo>
                <a:cubicBezTo>
                  <a:pt x="18577" y="5241"/>
                  <a:pt x="18547" y="5392"/>
                  <a:pt x="18510" y="5556"/>
                </a:cubicBezTo>
                <a:cubicBezTo>
                  <a:pt x="18472" y="5728"/>
                  <a:pt x="18435" y="5920"/>
                  <a:pt x="18415" y="6096"/>
                </a:cubicBezTo>
                <a:cubicBezTo>
                  <a:pt x="18402" y="6212"/>
                  <a:pt x="18400" y="6315"/>
                  <a:pt x="18352" y="6414"/>
                </a:cubicBezTo>
                <a:cubicBezTo>
                  <a:pt x="18352" y="6350"/>
                  <a:pt x="18342" y="6306"/>
                  <a:pt x="18383" y="6255"/>
                </a:cubicBezTo>
                <a:cubicBezTo>
                  <a:pt x="18431" y="6195"/>
                  <a:pt x="18502" y="6230"/>
                  <a:pt x="18542" y="6286"/>
                </a:cubicBezTo>
                <a:cubicBezTo>
                  <a:pt x="18583" y="6343"/>
                  <a:pt x="18658" y="6426"/>
                  <a:pt x="18732" y="6445"/>
                </a:cubicBezTo>
                <a:cubicBezTo>
                  <a:pt x="18779" y="6457"/>
                  <a:pt x="18860" y="6454"/>
                  <a:pt x="18891" y="6414"/>
                </a:cubicBezTo>
                <a:cubicBezTo>
                  <a:pt x="18902" y="6393"/>
                  <a:pt x="18912" y="6371"/>
                  <a:pt x="18923" y="6350"/>
                </a:cubicBezTo>
              </a:path>
              <a:path w="21591" h="4604">
                <a:moveTo>
                  <a:pt x="18955" y="5556"/>
                </a:moveTo>
                <a:cubicBezTo>
                  <a:pt x="18978" y="5652"/>
                  <a:pt x="18970" y="5742"/>
                  <a:pt x="18986" y="5842"/>
                </a:cubicBezTo>
                <a:cubicBezTo>
                  <a:pt x="19009" y="5989"/>
                  <a:pt x="19058" y="6148"/>
                  <a:pt x="19114" y="6286"/>
                </a:cubicBezTo>
                <a:cubicBezTo>
                  <a:pt x="19132" y="6330"/>
                  <a:pt x="19159" y="6377"/>
                  <a:pt x="19177" y="6414"/>
                </a:cubicBezTo>
                <a:cubicBezTo>
                  <a:pt x="19289" y="6398"/>
                  <a:pt x="19243" y="6406"/>
                  <a:pt x="19272" y="6286"/>
                </a:cubicBezTo>
                <a:cubicBezTo>
                  <a:pt x="19308" y="6136"/>
                  <a:pt x="19304" y="5998"/>
                  <a:pt x="19304" y="5842"/>
                </a:cubicBezTo>
                <a:cubicBezTo>
                  <a:pt x="19304" y="5747"/>
                  <a:pt x="19304" y="5651"/>
                  <a:pt x="19304" y="5556"/>
                </a:cubicBezTo>
                <a:cubicBezTo>
                  <a:pt x="19304" y="5630"/>
                  <a:pt x="19290" y="5642"/>
                  <a:pt x="19304" y="5715"/>
                </a:cubicBezTo>
                <a:cubicBezTo>
                  <a:pt x="19336" y="5878"/>
                  <a:pt x="19352" y="6065"/>
                  <a:pt x="19399" y="6223"/>
                </a:cubicBezTo>
                <a:cubicBezTo>
                  <a:pt x="19465" y="6448"/>
                  <a:pt x="19512" y="6654"/>
                  <a:pt x="19526" y="6890"/>
                </a:cubicBezTo>
                <a:cubicBezTo>
                  <a:pt x="19539" y="7112"/>
                  <a:pt x="19565" y="7336"/>
                  <a:pt x="19526" y="7556"/>
                </a:cubicBezTo>
                <a:cubicBezTo>
                  <a:pt x="19510" y="7647"/>
                  <a:pt x="19461" y="7815"/>
                  <a:pt x="19336" y="7810"/>
                </a:cubicBezTo>
                <a:cubicBezTo>
                  <a:pt x="19231" y="7806"/>
                  <a:pt x="19158" y="7707"/>
                  <a:pt x="19114" y="7620"/>
                </a:cubicBezTo>
                <a:cubicBezTo>
                  <a:pt x="19034" y="7461"/>
                  <a:pt x="19045" y="7310"/>
                  <a:pt x="19082" y="7144"/>
                </a:cubicBezTo>
                <a:cubicBezTo>
                  <a:pt x="19122" y="6964"/>
                  <a:pt x="19172" y="6824"/>
                  <a:pt x="19272" y="6668"/>
                </a:cubicBezTo>
                <a:cubicBezTo>
                  <a:pt x="19331" y="6575"/>
                  <a:pt x="19390" y="6495"/>
                  <a:pt x="19463" y="6414"/>
                </a:cubicBezTo>
              </a:path>
              <a:path w="21591" h="4604">
                <a:moveTo>
                  <a:pt x="19748" y="5652"/>
                </a:moveTo>
                <a:cubicBezTo>
                  <a:pt x="19928" y="5652"/>
                  <a:pt x="20108" y="5652"/>
                  <a:pt x="20288" y="5652"/>
                </a:cubicBezTo>
              </a:path>
              <a:path w="21591" h="4604">
                <a:moveTo>
                  <a:pt x="19844" y="6096"/>
                </a:moveTo>
                <a:cubicBezTo>
                  <a:pt x="19764" y="6096"/>
                  <a:pt x="19919" y="6066"/>
                  <a:pt x="19939" y="6064"/>
                </a:cubicBezTo>
                <a:cubicBezTo>
                  <a:pt x="19999" y="6059"/>
                  <a:pt x="20101" y="6048"/>
                  <a:pt x="20161" y="6032"/>
                </a:cubicBezTo>
                <a:cubicBezTo>
                  <a:pt x="20223" y="6002"/>
                  <a:pt x="20241" y="5992"/>
                  <a:pt x="20288" y="6001"/>
                </a:cubicBezTo>
              </a:path>
              <a:path w="21591" h="4604">
                <a:moveTo>
                  <a:pt x="21050" y="5556"/>
                </a:moveTo>
                <a:cubicBezTo>
                  <a:pt x="21072" y="5518"/>
                  <a:pt x="21152" y="5413"/>
                  <a:pt x="21146" y="5366"/>
                </a:cubicBezTo>
                <a:cubicBezTo>
                  <a:pt x="21138" y="5301"/>
                  <a:pt x="21088" y="5160"/>
                  <a:pt x="21050" y="5112"/>
                </a:cubicBezTo>
                <a:cubicBezTo>
                  <a:pt x="20987" y="5034"/>
                  <a:pt x="20938" y="5043"/>
                  <a:pt x="20860" y="5080"/>
                </a:cubicBezTo>
                <a:cubicBezTo>
                  <a:pt x="20733" y="5140"/>
                  <a:pt x="20722" y="5215"/>
                  <a:pt x="20669" y="5334"/>
                </a:cubicBezTo>
                <a:cubicBezTo>
                  <a:pt x="20612" y="5460"/>
                  <a:pt x="20553" y="5633"/>
                  <a:pt x="20574" y="5778"/>
                </a:cubicBezTo>
                <a:cubicBezTo>
                  <a:pt x="20588" y="5876"/>
                  <a:pt x="20598" y="5967"/>
                  <a:pt x="20701" y="6001"/>
                </a:cubicBezTo>
                <a:cubicBezTo>
                  <a:pt x="20802" y="6035"/>
                  <a:pt x="20833" y="5936"/>
                  <a:pt x="20892" y="5874"/>
                </a:cubicBezTo>
                <a:cubicBezTo>
                  <a:pt x="20989" y="5771"/>
                  <a:pt x="20997" y="5652"/>
                  <a:pt x="21050" y="5524"/>
                </a:cubicBezTo>
                <a:cubicBezTo>
                  <a:pt x="21081" y="5463"/>
                  <a:pt x="21092" y="5445"/>
                  <a:pt x="21082" y="5398"/>
                </a:cubicBezTo>
                <a:cubicBezTo>
                  <a:pt x="21141" y="5398"/>
                  <a:pt x="21057" y="5392"/>
                  <a:pt x="21082" y="5461"/>
                </a:cubicBezTo>
                <a:cubicBezTo>
                  <a:pt x="21121" y="5568"/>
                  <a:pt x="21114" y="5661"/>
                  <a:pt x="21114" y="5778"/>
                </a:cubicBezTo>
                <a:cubicBezTo>
                  <a:pt x="21114" y="5965"/>
                  <a:pt x="21108" y="6138"/>
                  <a:pt x="21082" y="6318"/>
                </a:cubicBezTo>
                <a:cubicBezTo>
                  <a:pt x="21072" y="6387"/>
                  <a:pt x="21069" y="6399"/>
                  <a:pt x="21114" y="6414"/>
                </a:cubicBezTo>
              </a:path>
              <a:path w="21591" h="4604">
                <a:moveTo>
                  <a:pt x="21526" y="5080"/>
                </a:moveTo>
                <a:cubicBezTo>
                  <a:pt x="21495" y="5119"/>
                  <a:pt x="21458" y="5191"/>
                  <a:pt x="21431" y="5270"/>
                </a:cubicBezTo>
                <a:cubicBezTo>
                  <a:pt x="21382" y="5413"/>
                  <a:pt x="21328" y="5597"/>
                  <a:pt x="21336" y="5747"/>
                </a:cubicBezTo>
                <a:cubicBezTo>
                  <a:pt x="21345" y="5912"/>
                  <a:pt x="21385" y="6095"/>
                  <a:pt x="21431" y="6255"/>
                </a:cubicBezTo>
                <a:cubicBezTo>
                  <a:pt x="21457" y="6344"/>
                  <a:pt x="21522" y="6505"/>
                  <a:pt x="21622" y="6540"/>
                </a:cubicBezTo>
                <a:cubicBezTo>
                  <a:pt x="21690" y="6564"/>
                  <a:pt x="21791" y="6517"/>
                  <a:pt x="21844" y="6477"/>
                </a:cubicBezTo>
                <a:cubicBezTo>
                  <a:pt x="21949" y="6397"/>
                  <a:pt x="22014" y="6190"/>
                  <a:pt x="22034" y="6064"/>
                </a:cubicBezTo>
                <a:cubicBezTo>
                  <a:pt x="22049" y="5973"/>
                  <a:pt x="22053" y="5828"/>
                  <a:pt x="22003" y="5747"/>
                </a:cubicBezTo>
                <a:cubicBezTo>
                  <a:pt x="21931" y="5630"/>
                  <a:pt x="21847" y="5715"/>
                  <a:pt x="21780" y="5778"/>
                </a:cubicBezTo>
                <a:cubicBezTo>
                  <a:pt x="21676" y="5877"/>
                  <a:pt x="21634" y="6027"/>
                  <a:pt x="21590" y="6160"/>
                </a:cubicBezTo>
                <a:cubicBezTo>
                  <a:pt x="21559" y="6253"/>
                  <a:pt x="21548" y="6283"/>
                  <a:pt x="21558" y="6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Ink 5"/>
          <p:cNvSpPr/>
          <p:nvPr/>
        </p:nvSpPr>
        <p:spPr>
          <a:xfrm>
            <a:off x="1463760" y="1908000"/>
            <a:ext cx="3690720" cy="2721240"/>
          </a:xfrm>
          <a:custGeom>
            <a:avLst/>
            <a:gdLst/>
            <a:ahLst/>
            <a:rect l="l" t="t" r="r" b="b"/>
            <a:pathLst>
              <a:path w="10256" h="7558">
                <a:moveTo>
                  <a:pt x="6604" y="9493"/>
                </a:moveTo>
                <a:cubicBezTo>
                  <a:pt x="6696" y="9486"/>
                  <a:pt x="6841" y="9492"/>
                  <a:pt x="6922" y="9462"/>
                </a:cubicBezTo>
                <a:cubicBezTo>
                  <a:pt x="7119" y="9390"/>
                  <a:pt x="7243" y="9366"/>
                  <a:pt x="7461" y="9366"/>
                </a:cubicBezTo>
                <a:cubicBezTo>
                  <a:pt x="7665" y="9366"/>
                  <a:pt x="7899" y="9333"/>
                  <a:pt x="8096" y="9398"/>
                </a:cubicBezTo>
                <a:cubicBezTo>
                  <a:pt x="8265" y="9454"/>
                  <a:pt x="8391" y="9462"/>
                  <a:pt x="8572" y="9462"/>
                </a:cubicBezTo>
                <a:cubicBezTo>
                  <a:pt x="8639" y="9462"/>
                  <a:pt x="8661" y="9460"/>
                  <a:pt x="8668" y="9398"/>
                </a:cubicBezTo>
              </a:path>
              <a:path w="10256" h="7558">
                <a:moveTo>
                  <a:pt x="7556" y="9716"/>
                </a:moveTo>
                <a:cubicBezTo>
                  <a:pt x="7510" y="9798"/>
                  <a:pt x="7498" y="9853"/>
                  <a:pt x="7461" y="9938"/>
                </a:cubicBezTo>
                <a:cubicBezTo>
                  <a:pt x="7418" y="10036"/>
                  <a:pt x="7354" y="10149"/>
                  <a:pt x="7334" y="10255"/>
                </a:cubicBezTo>
                <a:cubicBezTo>
                  <a:pt x="7322" y="10320"/>
                  <a:pt x="7302" y="10379"/>
                  <a:pt x="7302" y="10446"/>
                </a:cubicBezTo>
              </a:path>
              <a:path w="10256" h="7558">
                <a:moveTo>
                  <a:pt x="7842" y="9747"/>
                </a:moveTo>
                <a:cubicBezTo>
                  <a:pt x="7825" y="9830"/>
                  <a:pt x="7789" y="9915"/>
                  <a:pt x="7779" y="10001"/>
                </a:cubicBezTo>
                <a:cubicBezTo>
                  <a:pt x="7763" y="10139"/>
                  <a:pt x="7730" y="10245"/>
                  <a:pt x="7779" y="10382"/>
                </a:cubicBezTo>
                <a:cubicBezTo>
                  <a:pt x="7810" y="10467"/>
                  <a:pt x="7857" y="10532"/>
                  <a:pt x="7938" y="10541"/>
                </a:cubicBezTo>
                <a:cubicBezTo>
                  <a:pt x="8050" y="10554"/>
                  <a:pt x="8099" y="10484"/>
                  <a:pt x="8160" y="10414"/>
                </a:cubicBezTo>
                <a:cubicBezTo>
                  <a:pt x="8230" y="10334"/>
                  <a:pt x="8254" y="10261"/>
                  <a:pt x="8192" y="10160"/>
                </a:cubicBezTo>
                <a:cubicBezTo>
                  <a:pt x="8149" y="10090"/>
                  <a:pt x="8024" y="10129"/>
                  <a:pt x="7969" y="10160"/>
                </a:cubicBezTo>
                <a:cubicBezTo>
                  <a:pt x="7855" y="10225"/>
                  <a:pt x="7807" y="10332"/>
                  <a:pt x="7747" y="10446"/>
                </a:cubicBezTo>
                <a:cubicBezTo>
                  <a:pt x="7716" y="10507"/>
                  <a:pt x="7705" y="10526"/>
                  <a:pt x="7715" y="10573"/>
                </a:cubicBezTo>
              </a:path>
              <a:path w="10256" h="7558">
                <a:moveTo>
                  <a:pt x="4985" y="11017"/>
                </a:moveTo>
                <a:cubicBezTo>
                  <a:pt x="4940" y="11077"/>
                  <a:pt x="4953" y="11129"/>
                  <a:pt x="4953" y="11208"/>
                </a:cubicBezTo>
                <a:cubicBezTo>
                  <a:pt x="4953" y="11323"/>
                  <a:pt x="4988" y="11446"/>
                  <a:pt x="5016" y="11557"/>
                </a:cubicBezTo>
                <a:cubicBezTo>
                  <a:pt x="5054" y="11711"/>
                  <a:pt x="5126" y="11867"/>
                  <a:pt x="5207" y="12002"/>
                </a:cubicBezTo>
                <a:cubicBezTo>
                  <a:pt x="5264" y="12097"/>
                  <a:pt x="5325" y="12206"/>
                  <a:pt x="5398" y="12287"/>
                </a:cubicBezTo>
                <a:cubicBezTo>
                  <a:pt x="5426" y="12316"/>
                  <a:pt x="5432" y="12327"/>
                  <a:pt x="5461" y="12319"/>
                </a:cubicBezTo>
              </a:path>
              <a:path w="10256" h="7558">
                <a:moveTo>
                  <a:pt x="5493" y="11144"/>
                </a:moveTo>
                <a:cubicBezTo>
                  <a:pt x="5430" y="11223"/>
                  <a:pt x="5399" y="11318"/>
                  <a:pt x="5334" y="11398"/>
                </a:cubicBezTo>
                <a:cubicBezTo>
                  <a:pt x="5240" y="11514"/>
                  <a:pt x="5130" y="11654"/>
                  <a:pt x="5048" y="11779"/>
                </a:cubicBezTo>
                <a:cubicBezTo>
                  <a:pt x="4959" y="11915"/>
                  <a:pt x="4875" y="12040"/>
                  <a:pt x="4762" y="12160"/>
                </a:cubicBezTo>
                <a:cubicBezTo>
                  <a:pt x="4721" y="12203"/>
                  <a:pt x="4678" y="12245"/>
                  <a:pt x="4636" y="12287"/>
                </a:cubicBezTo>
              </a:path>
              <a:path w="10256" h="7558">
                <a:moveTo>
                  <a:pt x="5588" y="11652"/>
                </a:moveTo>
                <a:cubicBezTo>
                  <a:pt x="5649" y="11652"/>
                  <a:pt x="5689" y="11624"/>
                  <a:pt x="5747" y="11620"/>
                </a:cubicBezTo>
                <a:cubicBezTo>
                  <a:pt x="5838" y="11614"/>
                  <a:pt x="5913" y="11594"/>
                  <a:pt x="6001" y="11589"/>
                </a:cubicBezTo>
                <a:cubicBezTo>
                  <a:pt x="6022" y="11589"/>
                  <a:pt x="6043" y="11589"/>
                  <a:pt x="6064" y="11589"/>
                </a:cubicBezTo>
              </a:path>
              <a:path w="10256" h="7558">
                <a:moveTo>
                  <a:pt x="5683" y="12002"/>
                </a:moveTo>
                <a:cubicBezTo>
                  <a:pt x="5758" y="12056"/>
                  <a:pt x="5740" y="12017"/>
                  <a:pt x="5810" y="12002"/>
                </a:cubicBezTo>
                <a:cubicBezTo>
                  <a:pt x="5889" y="11986"/>
                  <a:pt x="5985" y="11974"/>
                  <a:pt x="6064" y="11970"/>
                </a:cubicBezTo>
                <a:cubicBezTo>
                  <a:pt x="6128" y="11970"/>
                  <a:pt x="6149" y="11970"/>
                  <a:pt x="6191" y="11970"/>
                </a:cubicBezTo>
              </a:path>
              <a:path w="10256" h="7558">
                <a:moveTo>
                  <a:pt x="6445" y="11335"/>
                </a:moveTo>
                <a:cubicBezTo>
                  <a:pt x="6453" y="11250"/>
                  <a:pt x="6449" y="11212"/>
                  <a:pt x="6509" y="11144"/>
                </a:cubicBezTo>
                <a:cubicBezTo>
                  <a:pt x="6545" y="11103"/>
                  <a:pt x="6644" y="11030"/>
                  <a:pt x="6699" y="11017"/>
                </a:cubicBezTo>
                <a:cubicBezTo>
                  <a:pt x="6758" y="11003"/>
                  <a:pt x="6896" y="11009"/>
                  <a:pt x="6922" y="11081"/>
                </a:cubicBezTo>
                <a:cubicBezTo>
                  <a:pt x="6954" y="11169"/>
                  <a:pt x="6943" y="11275"/>
                  <a:pt x="6922" y="11366"/>
                </a:cubicBezTo>
                <a:cubicBezTo>
                  <a:pt x="6895" y="11483"/>
                  <a:pt x="6796" y="11612"/>
                  <a:pt x="6731" y="11716"/>
                </a:cubicBezTo>
                <a:cubicBezTo>
                  <a:pt x="6660" y="11829"/>
                  <a:pt x="6568" y="11936"/>
                  <a:pt x="6477" y="12033"/>
                </a:cubicBezTo>
                <a:cubicBezTo>
                  <a:pt x="6409" y="12105"/>
                  <a:pt x="6331" y="12134"/>
                  <a:pt x="6255" y="12192"/>
                </a:cubicBezTo>
                <a:cubicBezTo>
                  <a:pt x="6212" y="12224"/>
                  <a:pt x="6214" y="12233"/>
                  <a:pt x="6191" y="12256"/>
                </a:cubicBezTo>
                <a:cubicBezTo>
                  <a:pt x="6250" y="12226"/>
                  <a:pt x="6284" y="12243"/>
                  <a:pt x="6350" y="12224"/>
                </a:cubicBezTo>
                <a:cubicBezTo>
                  <a:pt x="6439" y="12199"/>
                  <a:pt x="6478" y="12193"/>
                  <a:pt x="6572" y="12224"/>
                </a:cubicBezTo>
                <a:cubicBezTo>
                  <a:pt x="6619" y="12240"/>
                  <a:pt x="6660" y="12252"/>
                  <a:pt x="6699" y="12287"/>
                </a:cubicBezTo>
                <a:cubicBezTo>
                  <a:pt x="6745" y="12329"/>
                  <a:pt x="6784" y="12344"/>
                  <a:pt x="6826" y="12382"/>
                </a:cubicBezTo>
                <a:cubicBezTo>
                  <a:pt x="6856" y="12408"/>
                  <a:pt x="6946" y="12452"/>
                  <a:pt x="6985" y="12446"/>
                </a:cubicBezTo>
                <a:cubicBezTo>
                  <a:pt x="7021" y="12410"/>
                  <a:pt x="7038" y="12399"/>
                  <a:pt x="7080" y="12414"/>
                </a:cubicBezTo>
              </a:path>
              <a:path w="10256" h="7558">
                <a:moveTo>
                  <a:pt x="5493" y="12795"/>
                </a:moveTo>
                <a:cubicBezTo>
                  <a:pt x="5635" y="12795"/>
                  <a:pt x="5771" y="12819"/>
                  <a:pt x="5906" y="12827"/>
                </a:cubicBezTo>
                <a:cubicBezTo>
                  <a:pt x="6057" y="12836"/>
                  <a:pt x="6201" y="12855"/>
                  <a:pt x="6350" y="12859"/>
                </a:cubicBezTo>
                <a:cubicBezTo>
                  <a:pt x="6650" y="12867"/>
                  <a:pt x="6943" y="12847"/>
                  <a:pt x="7239" y="12827"/>
                </a:cubicBezTo>
                <a:cubicBezTo>
                  <a:pt x="7431" y="12814"/>
                  <a:pt x="7624" y="12794"/>
                  <a:pt x="7810" y="12732"/>
                </a:cubicBezTo>
                <a:cubicBezTo>
                  <a:pt x="7973" y="12677"/>
                  <a:pt x="8138" y="12606"/>
                  <a:pt x="8255" y="12478"/>
                </a:cubicBezTo>
                <a:cubicBezTo>
                  <a:pt x="8394" y="12326"/>
                  <a:pt x="8442" y="12105"/>
                  <a:pt x="8414" y="11906"/>
                </a:cubicBezTo>
                <a:cubicBezTo>
                  <a:pt x="8388" y="11718"/>
                  <a:pt x="8268" y="11547"/>
                  <a:pt x="8160" y="11398"/>
                </a:cubicBezTo>
                <a:cubicBezTo>
                  <a:pt x="8034" y="11224"/>
                  <a:pt x="7885" y="11114"/>
                  <a:pt x="7715" y="10986"/>
                </a:cubicBezTo>
                <a:cubicBezTo>
                  <a:pt x="7533" y="10849"/>
                  <a:pt x="7323" y="10784"/>
                  <a:pt x="7112" y="10700"/>
                </a:cubicBezTo>
                <a:cubicBezTo>
                  <a:pt x="6904" y="10617"/>
                  <a:pt x="6670" y="10560"/>
                  <a:pt x="6445" y="10541"/>
                </a:cubicBezTo>
                <a:cubicBezTo>
                  <a:pt x="6220" y="10522"/>
                  <a:pt x="5999" y="10558"/>
                  <a:pt x="5778" y="10573"/>
                </a:cubicBezTo>
                <a:cubicBezTo>
                  <a:pt x="5578" y="10586"/>
                  <a:pt x="5370" y="10635"/>
                  <a:pt x="5175" y="10700"/>
                </a:cubicBezTo>
                <a:cubicBezTo>
                  <a:pt x="4977" y="10766"/>
                  <a:pt x="4790" y="10861"/>
                  <a:pt x="4604" y="10954"/>
                </a:cubicBezTo>
                <a:cubicBezTo>
                  <a:pt x="4445" y="11033"/>
                  <a:pt x="4304" y="11164"/>
                  <a:pt x="4191" y="11303"/>
                </a:cubicBezTo>
                <a:cubicBezTo>
                  <a:pt x="4105" y="11408"/>
                  <a:pt x="4061" y="11550"/>
                  <a:pt x="4064" y="11684"/>
                </a:cubicBezTo>
                <a:cubicBezTo>
                  <a:pt x="4067" y="11832"/>
                  <a:pt x="4113" y="11941"/>
                  <a:pt x="4191" y="12065"/>
                </a:cubicBezTo>
                <a:cubicBezTo>
                  <a:pt x="4274" y="12197"/>
                  <a:pt x="4381" y="12293"/>
                  <a:pt x="4508" y="12382"/>
                </a:cubicBezTo>
                <a:cubicBezTo>
                  <a:pt x="4633" y="12470"/>
                  <a:pt x="4780" y="12580"/>
                  <a:pt x="4921" y="12636"/>
                </a:cubicBezTo>
                <a:cubicBezTo>
                  <a:pt x="5075" y="12697"/>
                  <a:pt x="5236" y="12751"/>
                  <a:pt x="5398" y="12795"/>
                </a:cubicBezTo>
                <a:cubicBezTo>
                  <a:pt x="5538" y="12833"/>
                  <a:pt x="5697" y="12843"/>
                  <a:pt x="5842" y="12827"/>
                </a:cubicBezTo>
                <a:cubicBezTo>
                  <a:pt x="5949" y="12816"/>
                  <a:pt x="6027" y="12792"/>
                  <a:pt x="6128" y="12764"/>
                </a:cubicBezTo>
                <a:cubicBezTo>
                  <a:pt x="6191" y="12746"/>
                  <a:pt x="6226" y="12714"/>
                  <a:pt x="6255" y="12700"/>
                </a:cubicBezTo>
                <a:cubicBezTo>
                  <a:pt x="6265" y="12700"/>
                  <a:pt x="6276" y="12700"/>
                  <a:pt x="6286" y="12700"/>
                </a:cubicBezTo>
              </a:path>
              <a:path w="10256" h="7558">
                <a:moveTo>
                  <a:pt x="9620" y="5747"/>
                </a:moveTo>
                <a:cubicBezTo>
                  <a:pt x="9679" y="5766"/>
                  <a:pt x="9701" y="5793"/>
                  <a:pt x="9779" y="5778"/>
                </a:cubicBezTo>
                <a:cubicBezTo>
                  <a:pt x="9843" y="5766"/>
                  <a:pt x="9934" y="5765"/>
                  <a:pt x="10001" y="5747"/>
                </a:cubicBezTo>
                <a:cubicBezTo>
                  <a:pt x="10124" y="5713"/>
                  <a:pt x="10225" y="5705"/>
                  <a:pt x="10350" y="5683"/>
                </a:cubicBezTo>
                <a:cubicBezTo>
                  <a:pt x="10501" y="5656"/>
                  <a:pt x="10639" y="5652"/>
                  <a:pt x="10795" y="5652"/>
                </a:cubicBezTo>
                <a:cubicBezTo>
                  <a:pt x="11109" y="5652"/>
                  <a:pt x="11440" y="5692"/>
                  <a:pt x="11748" y="5683"/>
                </a:cubicBezTo>
                <a:cubicBezTo>
                  <a:pt x="11993" y="5676"/>
                  <a:pt x="12232" y="5652"/>
                  <a:pt x="12478" y="5652"/>
                </a:cubicBezTo>
                <a:cubicBezTo>
                  <a:pt x="12685" y="5652"/>
                  <a:pt x="12878" y="5636"/>
                  <a:pt x="13081" y="5620"/>
                </a:cubicBezTo>
                <a:cubicBezTo>
                  <a:pt x="13353" y="5599"/>
                  <a:pt x="13718" y="5624"/>
                  <a:pt x="13938" y="5652"/>
                </a:cubicBezTo>
                <a:cubicBezTo>
                  <a:pt x="13994" y="5659"/>
                  <a:pt x="14025" y="5622"/>
                  <a:pt x="14034" y="5620"/>
                </a:cubicBezTo>
              </a:path>
              <a:path w="10256" h="7558">
                <a:moveTo>
                  <a:pt x="13716" y="5302"/>
                </a:moveTo>
                <a:cubicBezTo>
                  <a:pt x="13751" y="5328"/>
                  <a:pt x="13802" y="5380"/>
                  <a:pt x="13843" y="5398"/>
                </a:cubicBezTo>
                <a:cubicBezTo>
                  <a:pt x="13890" y="5419"/>
                  <a:pt x="13944" y="5457"/>
                  <a:pt x="14002" y="5461"/>
                </a:cubicBezTo>
                <a:cubicBezTo>
                  <a:pt x="14076" y="5466"/>
                  <a:pt x="14129" y="5491"/>
                  <a:pt x="14192" y="5524"/>
                </a:cubicBezTo>
                <a:cubicBezTo>
                  <a:pt x="14225" y="5541"/>
                  <a:pt x="14315" y="5571"/>
                  <a:pt x="14319" y="5588"/>
                </a:cubicBezTo>
                <a:cubicBezTo>
                  <a:pt x="14342" y="5674"/>
                  <a:pt x="14249" y="5669"/>
                  <a:pt x="14192" y="5715"/>
                </a:cubicBezTo>
                <a:cubicBezTo>
                  <a:pt x="14119" y="5775"/>
                  <a:pt x="14044" y="5818"/>
                  <a:pt x="13970" y="5874"/>
                </a:cubicBezTo>
                <a:cubicBezTo>
                  <a:pt x="13936" y="5900"/>
                  <a:pt x="13905" y="5938"/>
                  <a:pt x="13875" y="5969"/>
                </a:cubicBezTo>
              </a:path>
              <a:path w="10256" h="7558">
                <a:moveTo>
                  <a:pt x="8604" y="11843"/>
                </a:moveTo>
                <a:cubicBezTo>
                  <a:pt x="8648" y="11813"/>
                  <a:pt x="8714" y="11791"/>
                  <a:pt x="8763" y="11748"/>
                </a:cubicBezTo>
                <a:cubicBezTo>
                  <a:pt x="9014" y="11527"/>
                  <a:pt x="9224" y="11271"/>
                  <a:pt x="9398" y="10986"/>
                </a:cubicBezTo>
                <a:cubicBezTo>
                  <a:pt x="9537" y="10759"/>
                  <a:pt x="9694" y="10542"/>
                  <a:pt x="9842" y="10319"/>
                </a:cubicBezTo>
                <a:cubicBezTo>
                  <a:pt x="10020" y="10050"/>
                  <a:pt x="10192" y="9784"/>
                  <a:pt x="10382" y="9525"/>
                </a:cubicBezTo>
                <a:cubicBezTo>
                  <a:pt x="10653" y="9156"/>
                  <a:pt x="10925" y="8810"/>
                  <a:pt x="11240" y="8477"/>
                </a:cubicBezTo>
                <a:cubicBezTo>
                  <a:pt x="11651" y="8043"/>
                  <a:pt x="12101" y="7633"/>
                  <a:pt x="12573" y="7271"/>
                </a:cubicBezTo>
                <a:cubicBezTo>
                  <a:pt x="12799" y="7098"/>
                  <a:pt x="13032" y="6947"/>
                  <a:pt x="13272" y="6794"/>
                </a:cubicBezTo>
                <a:cubicBezTo>
                  <a:pt x="13388" y="6720"/>
                  <a:pt x="13492" y="6644"/>
                  <a:pt x="13621" y="6604"/>
                </a:cubicBezTo>
                <a:cubicBezTo>
                  <a:pt x="13621" y="6636"/>
                  <a:pt x="13621" y="6647"/>
                  <a:pt x="13589" y="6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Ink 6"/>
          <p:cNvSpPr/>
          <p:nvPr/>
        </p:nvSpPr>
        <p:spPr>
          <a:xfrm>
            <a:off x="1074600" y="2617920"/>
            <a:ext cx="2103480" cy="1222200"/>
          </a:xfrm>
          <a:custGeom>
            <a:avLst/>
            <a:gdLst/>
            <a:ahLst/>
            <a:rect l="l" t="t" r="r" b="b"/>
            <a:pathLst>
              <a:path w="5843" h="3398">
                <a:moveTo>
                  <a:pt x="3461" y="7271"/>
                </a:moveTo>
                <a:cubicBezTo>
                  <a:pt x="3415" y="7346"/>
                  <a:pt x="3419" y="7462"/>
                  <a:pt x="3397" y="7556"/>
                </a:cubicBezTo>
                <a:cubicBezTo>
                  <a:pt x="3345" y="7781"/>
                  <a:pt x="3314" y="8038"/>
                  <a:pt x="3238" y="8255"/>
                </a:cubicBezTo>
                <a:cubicBezTo>
                  <a:pt x="3172" y="8444"/>
                  <a:pt x="3128" y="8629"/>
                  <a:pt x="3080" y="8826"/>
                </a:cubicBezTo>
                <a:cubicBezTo>
                  <a:pt x="3049" y="8952"/>
                  <a:pt x="3028" y="9056"/>
                  <a:pt x="3016" y="9176"/>
                </a:cubicBezTo>
                <a:cubicBezTo>
                  <a:pt x="3011" y="9229"/>
                  <a:pt x="3016" y="9133"/>
                  <a:pt x="3016" y="9080"/>
                </a:cubicBezTo>
              </a:path>
              <a:path w="5843" h="3398">
                <a:moveTo>
                  <a:pt x="3874" y="7525"/>
                </a:moveTo>
                <a:cubicBezTo>
                  <a:pt x="3844" y="7615"/>
                  <a:pt x="3805" y="7715"/>
                  <a:pt x="3778" y="7810"/>
                </a:cubicBezTo>
                <a:cubicBezTo>
                  <a:pt x="3722" y="8007"/>
                  <a:pt x="3712" y="8219"/>
                  <a:pt x="3651" y="8414"/>
                </a:cubicBezTo>
                <a:cubicBezTo>
                  <a:pt x="3588" y="8616"/>
                  <a:pt x="3541" y="8806"/>
                  <a:pt x="3524" y="9017"/>
                </a:cubicBezTo>
                <a:cubicBezTo>
                  <a:pt x="3519" y="9078"/>
                  <a:pt x="3537" y="9331"/>
                  <a:pt x="3620" y="9366"/>
                </a:cubicBezTo>
                <a:cubicBezTo>
                  <a:pt x="3716" y="9406"/>
                  <a:pt x="3805" y="9349"/>
                  <a:pt x="3874" y="9303"/>
                </a:cubicBezTo>
                <a:cubicBezTo>
                  <a:pt x="4005" y="9216"/>
                  <a:pt x="4113" y="9029"/>
                  <a:pt x="4191" y="8890"/>
                </a:cubicBezTo>
                <a:cubicBezTo>
                  <a:pt x="4248" y="8788"/>
                  <a:pt x="4329" y="8640"/>
                  <a:pt x="4286" y="8541"/>
                </a:cubicBezTo>
                <a:cubicBezTo>
                  <a:pt x="4275" y="8520"/>
                  <a:pt x="4265" y="8498"/>
                  <a:pt x="4254" y="8477"/>
                </a:cubicBezTo>
                <a:cubicBezTo>
                  <a:pt x="4143" y="8477"/>
                  <a:pt x="4105" y="8477"/>
                  <a:pt x="4032" y="8572"/>
                </a:cubicBezTo>
                <a:cubicBezTo>
                  <a:pt x="3950" y="8679"/>
                  <a:pt x="3859" y="8816"/>
                  <a:pt x="3842" y="8954"/>
                </a:cubicBezTo>
                <a:cubicBezTo>
                  <a:pt x="3827" y="9075"/>
                  <a:pt x="3834" y="9201"/>
                  <a:pt x="3905" y="9303"/>
                </a:cubicBezTo>
                <a:cubicBezTo>
                  <a:pt x="3959" y="9380"/>
                  <a:pt x="3994" y="9351"/>
                  <a:pt x="4064" y="9334"/>
                </a:cubicBezTo>
              </a:path>
              <a:path w="5843" h="3398">
                <a:moveTo>
                  <a:pt x="4636" y="8350"/>
                </a:moveTo>
                <a:cubicBezTo>
                  <a:pt x="4693" y="8467"/>
                  <a:pt x="4725" y="8575"/>
                  <a:pt x="4762" y="8700"/>
                </a:cubicBezTo>
                <a:cubicBezTo>
                  <a:pt x="4816" y="8880"/>
                  <a:pt x="4866" y="9059"/>
                  <a:pt x="4921" y="9239"/>
                </a:cubicBezTo>
                <a:cubicBezTo>
                  <a:pt x="4970" y="9398"/>
                  <a:pt x="5016" y="9562"/>
                  <a:pt x="5080" y="9716"/>
                </a:cubicBezTo>
                <a:cubicBezTo>
                  <a:pt x="5108" y="9771"/>
                  <a:pt x="5113" y="9786"/>
                  <a:pt x="5144" y="9811"/>
                </a:cubicBezTo>
              </a:path>
              <a:path w="5843" h="3398">
                <a:moveTo>
                  <a:pt x="5112" y="8700"/>
                </a:moveTo>
                <a:cubicBezTo>
                  <a:pt x="5050" y="8730"/>
                  <a:pt x="5010" y="8829"/>
                  <a:pt x="4953" y="8890"/>
                </a:cubicBezTo>
                <a:cubicBezTo>
                  <a:pt x="4843" y="9008"/>
                  <a:pt x="4761" y="9168"/>
                  <a:pt x="4667" y="9303"/>
                </a:cubicBezTo>
                <a:cubicBezTo>
                  <a:pt x="4599" y="9406"/>
                  <a:pt x="4574" y="9446"/>
                  <a:pt x="4540" y="9525"/>
                </a:cubicBezTo>
              </a:path>
              <a:path w="5843" h="3398">
                <a:moveTo>
                  <a:pt x="5874" y="8477"/>
                </a:moveTo>
                <a:cubicBezTo>
                  <a:pt x="5842" y="8477"/>
                  <a:pt x="5831" y="8477"/>
                  <a:pt x="5842" y="8509"/>
                </a:cubicBezTo>
                <a:cubicBezTo>
                  <a:pt x="5964" y="8509"/>
                  <a:pt x="6072" y="8489"/>
                  <a:pt x="6191" y="8477"/>
                </a:cubicBezTo>
                <a:cubicBezTo>
                  <a:pt x="6351" y="8461"/>
                  <a:pt x="6543" y="8479"/>
                  <a:pt x="6699" y="8509"/>
                </a:cubicBezTo>
                <a:cubicBezTo>
                  <a:pt x="6788" y="8526"/>
                  <a:pt x="6862" y="8562"/>
                  <a:pt x="6953" y="8572"/>
                </a:cubicBezTo>
              </a:path>
              <a:path w="5843" h="3398">
                <a:moveTo>
                  <a:pt x="5874" y="8985"/>
                </a:moveTo>
                <a:cubicBezTo>
                  <a:pt x="5895" y="9048"/>
                  <a:pt x="5966" y="9027"/>
                  <a:pt x="6032" y="9049"/>
                </a:cubicBezTo>
                <a:cubicBezTo>
                  <a:pt x="6131" y="9081"/>
                  <a:pt x="6211" y="9080"/>
                  <a:pt x="6318" y="9080"/>
                </a:cubicBezTo>
                <a:cubicBezTo>
                  <a:pt x="6472" y="9080"/>
                  <a:pt x="6544" y="9104"/>
                  <a:pt x="6668" y="9144"/>
                </a:cubicBezTo>
                <a:cubicBezTo>
                  <a:pt x="6731" y="9144"/>
                  <a:pt x="6752" y="9144"/>
                  <a:pt x="6794" y="9144"/>
                </a:cubicBezTo>
              </a:path>
              <a:path w="5843" h="3398">
                <a:moveTo>
                  <a:pt x="7176" y="7684"/>
                </a:moveTo>
                <a:cubicBezTo>
                  <a:pt x="7193" y="7662"/>
                  <a:pt x="7208" y="7627"/>
                  <a:pt x="7239" y="7588"/>
                </a:cubicBezTo>
                <a:cubicBezTo>
                  <a:pt x="7288" y="7527"/>
                  <a:pt x="7328" y="7462"/>
                  <a:pt x="7398" y="7430"/>
                </a:cubicBezTo>
                <a:cubicBezTo>
                  <a:pt x="7496" y="7386"/>
                  <a:pt x="7585" y="7336"/>
                  <a:pt x="7684" y="7398"/>
                </a:cubicBezTo>
                <a:cubicBezTo>
                  <a:pt x="7742" y="7434"/>
                  <a:pt x="7812" y="7558"/>
                  <a:pt x="7810" y="7620"/>
                </a:cubicBezTo>
                <a:cubicBezTo>
                  <a:pt x="7804" y="7760"/>
                  <a:pt x="7750" y="7881"/>
                  <a:pt x="7684" y="8001"/>
                </a:cubicBezTo>
                <a:cubicBezTo>
                  <a:pt x="7629" y="8101"/>
                  <a:pt x="7573" y="8175"/>
                  <a:pt x="7493" y="8255"/>
                </a:cubicBezTo>
                <a:cubicBezTo>
                  <a:pt x="7431" y="8317"/>
                  <a:pt x="7392" y="8284"/>
                  <a:pt x="7334" y="8255"/>
                </a:cubicBezTo>
                <a:cubicBezTo>
                  <a:pt x="7358" y="8213"/>
                  <a:pt x="7379" y="8161"/>
                  <a:pt x="7430" y="8128"/>
                </a:cubicBezTo>
                <a:cubicBezTo>
                  <a:pt x="7499" y="8083"/>
                  <a:pt x="7636" y="8075"/>
                  <a:pt x="7715" y="8096"/>
                </a:cubicBezTo>
                <a:cubicBezTo>
                  <a:pt x="7851" y="8132"/>
                  <a:pt x="7878" y="8246"/>
                  <a:pt x="7906" y="8350"/>
                </a:cubicBezTo>
                <a:cubicBezTo>
                  <a:pt x="7949" y="8508"/>
                  <a:pt x="7899" y="8619"/>
                  <a:pt x="7842" y="8763"/>
                </a:cubicBezTo>
                <a:cubicBezTo>
                  <a:pt x="7787" y="8901"/>
                  <a:pt x="7698" y="9043"/>
                  <a:pt x="7588" y="9144"/>
                </a:cubicBezTo>
                <a:cubicBezTo>
                  <a:pt x="7508" y="9218"/>
                  <a:pt x="7390" y="9323"/>
                  <a:pt x="7271" y="9303"/>
                </a:cubicBezTo>
                <a:cubicBezTo>
                  <a:pt x="7188" y="9289"/>
                  <a:pt x="7178" y="9266"/>
                  <a:pt x="7144" y="9208"/>
                </a:cubicBezTo>
                <a:cubicBezTo>
                  <a:pt x="7112" y="9144"/>
                  <a:pt x="7101" y="9123"/>
                  <a:pt x="7144" y="9080"/>
                </a:cubicBezTo>
              </a:path>
              <a:path w="5843" h="3398">
                <a:moveTo>
                  <a:pt x="8001" y="7874"/>
                </a:moveTo>
                <a:cubicBezTo>
                  <a:pt x="8068" y="7797"/>
                  <a:pt x="8143" y="7736"/>
                  <a:pt x="8192" y="7652"/>
                </a:cubicBezTo>
                <a:cubicBezTo>
                  <a:pt x="8244" y="7563"/>
                  <a:pt x="8270" y="7553"/>
                  <a:pt x="8350" y="7493"/>
                </a:cubicBezTo>
                <a:cubicBezTo>
                  <a:pt x="8398" y="7457"/>
                  <a:pt x="8504" y="7452"/>
                  <a:pt x="8541" y="7525"/>
                </a:cubicBezTo>
                <a:cubicBezTo>
                  <a:pt x="8588" y="7618"/>
                  <a:pt x="8560" y="7775"/>
                  <a:pt x="8541" y="7874"/>
                </a:cubicBezTo>
                <a:cubicBezTo>
                  <a:pt x="8510" y="8038"/>
                  <a:pt x="8453" y="8201"/>
                  <a:pt x="8382" y="8350"/>
                </a:cubicBezTo>
                <a:cubicBezTo>
                  <a:pt x="8312" y="8497"/>
                  <a:pt x="8229" y="8668"/>
                  <a:pt x="8128" y="8795"/>
                </a:cubicBezTo>
                <a:cubicBezTo>
                  <a:pt x="8055" y="8887"/>
                  <a:pt x="7927" y="9041"/>
                  <a:pt x="7810" y="9080"/>
                </a:cubicBezTo>
                <a:cubicBezTo>
                  <a:pt x="7800" y="9080"/>
                  <a:pt x="7789" y="9080"/>
                  <a:pt x="7779" y="9080"/>
                </a:cubicBezTo>
                <a:cubicBezTo>
                  <a:pt x="7915" y="9080"/>
                  <a:pt x="7904" y="9085"/>
                  <a:pt x="7969" y="9144"/>
                </a:cubicBezTo>
                <a:cubicBezTo>
                  <a:pt x="7989" y="9162"/>
                  <a:pt x="8064" y="9219"/>
                  <a:pt x="8096" y="9239"/>
                </a:cubicBezTo>
                <a:cubicBezTo>
                  <a:pt x="8151" y="9274"/>
                  <a:pt x="8221" y="9323"/>
                  <a:pt x="8287" y="9334"/>
                </a:cubicBezTo>
                <a:cubicBezTo>
                  <a:pt x="8348" y="9344"/>
                  <a:pt x="8398" y="9324"/>
                  <a:pt x="8446" y="9303"/>
                </a:cubicBezTo>
                <a:cubicBezTo>
                  <a:pt x="8516" y="9272"/>
                  <a:pt x="8570" y="9247"/>
                  <a:pt x="8636" y="9208"/>
                </a:cubicBezTo>
                <a:cubicBezTo>
                  <a:pt x="8728" y="9153"/>
                  <a:pt x="8747" y="9114"/>
                  <a:pt x="8795" y="9017"/>
                </a:cubicBezTo>
                <a:cubicBezTo>
                  <a:pt x="8805" y="8996"/>
                  <a:pt x="8816" y="8975"/>
                  <a:pt x="8826" y="8954"/>
                </a:cubicBezTo>
              </a:path>
              <a:path w="5843" h="3398">
                <a:moveTo>
                  <a:pt x="3016" y="9620"/>
                </a:moveTo>
                <a:cubicBezTo>
                  <a:pt x="2997" y="9562"/>
                  <a:pt x="2973" y="9632"/>
                  <a:pt x="3048" y="9588"/>
                </a:cubicBezTo>
                <a:cubicBezTo>
                  <a:pt x="3108" y="9553"/>
                  <a:pt x="3227" y="9534"/>
                  <a:pt x="3302" y="9525"/>
                </a:cubicBezTo>
                <a:cubicBezTo>
                  <a:pt x="3471" y="9505"/>
                  <a:pt x="3680" y="9502"/>
                  <a:pt x="3842" y="9462"/>
                </a:cubicBezTo>
                <a:cubicBezTo>
                  <a:pt x="4081" y="9403"/>
                  <a:pt x="4255" y="9366"/>
                  <a:pt x="4508" y="9366"/>
                </a:cubicBezTo>
                <a:cubicBezTo>
                  <a:pt x="4801" y="9366"/>
                  <a:pt x="5126" y="9385"/>
                  <a:pt x="5398" y="9334"/>
                </a:cubicBezTo>
                <a:cubicBezTo>
                  <a:pt x="5429" y="9334"/>
                  <a:pt x="5440" y="9334"/>
                  <a:pt x="5461" y="9334"/>
                </a:cubicBezTo>
              </a:path>
              <a:path w="5843" h="3398">
                <a:moveTo>
                  <a:pt x="4191" y="9652"/>
                </a:moveTo>
                <a:cubicBezTo>
                  <a:pt x="4191" y="9756"/>
                  <a:pt x="4191" y="9841"/>
                  <a:pt x="4159" y="9938"/>
                </a:cubicBezTo>
                <a:cubicBezTo>
                  <a:pt x="4118" y="10061"/>
                  <a:pt x="4081" y="10221"/>
                  <a:pt x="4064" y="10350"/>
                </a:cubicBezTo>
                <a:cubicBezTo>
                  <a:pt x="4051" y="10446"/>
                  <a:pt x="4032" y="10539"/>
                  <a:pt x="4032" y="10636"/>
                </a:cubicBezTo>
                <a:cubicBezTo>
                  <a:pt x="4032" y="10678"/>
                  <a:pt x="4032" y="10615"/>
                  <a:pt x="4032" y="10573"/>
                </a:cubicBezTo>
              </a:path>
              <a:path w="5843" h="3398">
                <a:moveTo>
                  <a:pt x="4477" y="9684"/>
                </a:moveTo>
                <a:cubicBezTo>
                  <a:pt x="4477" y="9766"/>
                  <a:pt x="4440" y="9828"/>
                  <a:pt x="4413" y="9906"/>
                </a:cubicBezTo>
                <a:cubicBezTo>
                  <a:pt x="4367" y="10041"/>
                  <a:pt x="4322" y="10178"/>
                  <a:pt x="4318" y="10319"/>
                </a:cubicBezTo>
                <a:cubicBezTo>
                  <a:pt x="4316" y="10368"/>
                  <a:pt x="4287" y="10597"/>
                  <a:pt x="4350" y="10636"/>
                </a:cubicBezTo>
                <a:cubicBezTo>
                  <a:pt x="4428" y="10684"/>
                  <a:pt x="4494" y="10642"/>
                  <a:pt x="4572" y="10604"/>
                </a:cubicBezTo>
                <a:cubicBezTo>
                  <a:pt x="4670" y="10556"/>
                  <a:pt x="4765" y="10461"/>
                  <a:pt x="4794" y="10350"/>
                </a:cubicBezTo>
                <a:cubicBezTo>
                  <a:pt x="4808" y="10295"/>
                  <a:pt x="4760" y="10178"/>
                  <a:pt x="4699" y="10160"/>
                </a:cubicBezTo>
                <a:cubicBezTo>
                  <a:pt x="4628" y="10139"/>
                  <a:pt x="4527" y="10223"/>
                  <a:pt x="4508" y="10287"/>
                </a:cubicBezTo>
                <a:cubicBezTo>
                  <a:pt x="4490" y="10347"/>
                  <a:pt x="4452" y="10475"/>
                  <a:pt x="4477" y="10541"/>
                </a:cubicBezTo>
                <a:cubicBezTo>
                  <a:pt x="4508" y="10573"/>
                  <a:pt x="4518" y="10584"/>
                  <a:pt x="4540" y="106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Ink 7"/>
          <p:cNvSpPr/>
          <p:nvPr/>
        </p:nvSpPr>
        <p:spPr>
          <a:xfrm>
            <a:off x="5510160" y="2685960"/>
            <a:ext cx="2319480" cy="1040040"/>
          </a:xfrm>
          <a:custGeom>
            <a:avLst/>
            <a:gdLst/>
            <a:ahLst/>
            <a:rect l="l" t="t" r="r" b="b"/>
            <a:pathLst>
              <a:path w="6446" h="2890">
                <a:moveTo>
                  <a:pt x="15907" y="7461"/>
                </a:moveTo>
                <a:cubicBezTo>
                  <a:pt x="15897" y="7605"/>
                  <a:pt x="15875" y="7725"/>
                  <a:pt x="15875" y="7874"/>
                </a:cubicBezTo>
                <a:cubicBezTo>
                  <a:pt x="15875" y="8195"/>
                  <a:pt x="15874" y="8510"/>
                  <a:pt x="15843" y="8826"/>
                </a:cubicBezTo>
                <a:cubicBezTo>
                  <a:pt x="15835" y="8909"/>
                  <a:pt x="15843" y="8997"/>
                  <a:pt x="15843" y="9080"/>
                </a:cubicBezTo>
              </a:path>
              <a:path w="6446" h="2890">
                <a:moveTo>
                  <a:pt x="16161" y="7810"/>
                </a:moveTo>
                <a:cubicBezTo>
                  <a:pt x="16170" y="7736"/>
                  <a:pt x="16182" y="7654"/>
                  <a:pt x="16224" y="7588"/>
                </a:cubicBezTo>
                <a:cubicBezTo>
                  <a:pt x="16253" y="7543"/>
                  <a:pt x="16305" y="7504"/>
                  <a:pt x="16351" y="7493"/>
                </a:cubicBezTo>
                <a:cubicBezTo>
                  <a:pt x="16416" y="7478"/>
                  <a:pt x="16457" y="7489"/>
                  <a:pt x="16478" y="7556"/>
                </a:cubicBezTo>
                <a:cubicBezTo>
                  <a:pt x="16516" y="7679"/>
                  <a:pt x="16508" y="7776"/>
                  <a:pt x="16478" y="7906"/>
                </a:cubicBezTo>
                <a:cubicBezTo>
                  <a:pt x="16438" y="8081"/>
                  <a:pt x="16414" y="8279"/>
                  <a:pt x="16351" y="8446"/>
                </a:cubicBezTo>
                <a:cubicBezTo>
                  <a:pt x="16297" y="8589"/>
                  <a:pt x="16220" y="8737"/>
                  <a:pt x="16192" y="8890"/>
                </a:cubicBezTo>
                <a:cubicBezTo>
                  <a:pt x="16182" y="8946"/>
                  <a:pt x="16088" y="9058"/>
                  <a:pt x="16129" y="9017"/>
                </a:cubicBezTo>
                <a:cubicBezTo>
                  <a:pt x="16150" y="8996"/>
                  <a:pt x="16187" y="8959"/>
                  <a:pt x="16224" y="8922"/>
                </a:cubicBezTo>
                <a:cubicBezTo>
                  <a:pt x="16284" y="8862"/>
                  <a:pt x="16326" y="8904"/>
                  <a:pt x="16383" y="8954"/>
                </a:cubicBezTo>
                <a:cubicBezTo>
                  <a:pt x="16424" y="8990"/>
                  <a:pt x="16517" y="9051"/>
                  <a:pt x="16542" y="9080"/>
                </a:cubicBezTo>
                <a:cubicBezTo>
                  <a:pt x="16581" y="9126"/>
                  <a:pt x="16586" y="9204"/>
                  <a:pt x="16669" y="9176"/>
                </a:cubicBezTo>
                <a:cubicBezTo>
                  <a:pt x="16734" y="9154"/>
                  <a:pt x="16718" y="9102"/>
                  <a:pt x="16796" y="9080"/>
                </a:cubicBezTo>
              </a:path>
              <a:path w="6446" h="2890">
                <a:moveTo>
                  <a:pt x="17304" y="7779"/>
                </a:moveTo>
                <a:cubicBezTo>
                  <a:pt x="17289" y="7896"/>
                  <a:pt x="17254" y="8002"/>
                  <a:pt x="17272" y="8128"/>
                </a:cubicBezTo>
                <a:cubicBezTo>
                  <a:pt x="17294" y="8283"/>
                  <a:pt x="17304" y="8451"/>
                  <a:pt x="17336" y="8604"/>
                </a:cubicBezTo>
                <a:cubicBezTo>
                  <a:pt x="17343" y="8639"/>
                  <a:pt x="17406" y="8818"/>
                  <a:pt x="17367" y="8858"/>
                </a:cubicBezTo>
                <a:cubicBezTo>
                  <a:pt x="17357" y="8858"/>
                  <a:pt x="17346" y="8858"/>
                  <a:pt x="17336" y="8858"/>
                </a:cubicBezTo>
              </a:path>
              <a:path w="6446" h="2890">
                <a:moveTo>
                  <a:pt x="16986" y="8509"/>
                </a:moveTo>
                <a:cubicBezTo>
                  <a:pt x="17046" y="8494"/>
                  <a:pt x="17112" y="8495"/>
                  <a:pt x="17177" y="8477"/>
                </a:cubicBezTo>
                <a:cubicBezTo>
                  <a:pt x="17274" y="8451"/>
                  <a:pt x="17362" y="8407"/>
                  <a:pt x="17462" y="8382"/>
                </a:cubicBezTo>
                <a:cubicBezTo>
                  <a:pt x="17473" y="8382"/>
                  <a:pt x="17483" y="8382"/>
                  <a:pt x="17494" y="8382"/>
                </a:cubicBezTo>
              </a:path>
              <a:path w="6446" h="2890">
                <a:moveTo>
                  <a:pt x="17812" y="7556"/>
                </a:moveTo>
                <a:cubicBezTo>
                  <a:pt x="17797" y="7687"/>
                  <a:pt x="17780" y="7802"/>
                  <a:pt x="17780" y="7938"/>
                </a:cubicBezTo>
                <a:cubicBezTo>
                  <a:pt x="17780" y="8248"/>
                  <a:pt x="17782" y="8553"/>
                  <a:pt x="17812" y="8858"/>
                </a:cubicBezTo>
                <a:cubicBezTo>
                  <a:pt x="17819" y="8930"/>
                  <a:pt x="17812" y="9007"/>
                  <a:pt x="17812" y="9080"/>
                </a:cubicBezTo>
              </a:path>
              <a:path w="6446" h="2890">
                <a:moveTo>
                  <a:pt x="17970" y="8033"/>
                </a:moveTo>
                <a:cubicBezTo>
                  <a:pt x="18013" y="7916"/>
                  <a:pt x="18040" y="7858"/>
                  <a:pt x="18098" y="7779"/>
                </a:cubicBezTo>
                <a:cubicBezTo>
                  <a:pt x="18154" y="7702"/>
                  <a:pt x="18154" y="7672"/>
                  <a:pt x="18256" y="7652"/>
                </a:cubicBezTo>
                <a:cubicBezTo>
                  <a:pt x="18295" y="7716"/>
                  <a:pt x="18316" y="7793"/>
                  <a:pt x="18320" y="7874"/>
                </a:cubicBezTo>
                <a:cubicBezTo>
                  <a:pt x="18327" y="8036"/>
                  <a:pt x="18258" y="8193"/>
                  <a:pt x="18224" y="8350"/>
                </a:cubicBezTo>
                <a:cubicBezTo>
                  <a:pt x="18187" y="8519"/>
                  <a:pt x="18161" y="8696"/>
                  <a:pt x="18098" y="8858"/>
                </a:cubicBezTo>
                <a:cubicBezTo>
                  <a:pt x="18067" y="8919"/>
                  <a:pt x="18057" y="8938"/>
                  <a:pt x="18066" y="8985"/>
                </a:cubicBezTo>
                <a:cubicBezTo>
                  <a:pt x="18106" y="8935"/>
                  <a:pt x="18131" y="8870"/>
                  <a:pt x="18161" y="8826"/>
                </a:cubicBezTo>
                <a:cubicBezTo>
                  <a:pt x="18172" y="8816"/>
                  <a:pt x="18182" y="8805"/>
                  <a:pt x="18193" y="8795"/>
                </a:cubicBezTo>
                <a:cubicBezTo>
                  <a:pt x="18251" y="8795"/>
                  <a:pt x="18285" y="8804"/>
                  <a:pt x="18320" y="8858"/>
                </a:cubicBezTo>
                <a:cubicBezTo>
                  <a:pt x="18361" y="8922"/>
                  <a:pt x="18394" y="8963"/>
                  <a:pt x="18447" y="9017"/>
                </a:cubicBezTo>
                <a:cubicBezTo>
                  <a:pt x="18499" y="9070"/>
                  <a:pt x="18498" y="9034"/>
                  <a:pt x="18510" y="8985"/>
                </a:cubicBezTo>
              </a:path>
              <a:path w="6446" h="2890">
                <a:moveTo>
                  <a:pt x="18669" y="8192"/>
                </a:moveTo>
                <a:cubicBezTo>
                  <a:pt x="18676" y="8212"/>
                  <a:pt x="18725" y="8324"/>
                  <a:pt x="18732" y="8382"/>
                </a:cubicBezTo>
                <a:cubicBezTo>
                  <a:pt x="18748" y="8509"/>
                  <a:pt x="18751" y="8641"/>
                  <a:pt x="18796" y="8763"/>
                </a:cubicBezTo>
                <a:cubicBezTo>
                  <a:pt x="18818" y="8822"/>
                  <a:pt x="18829" y="8844"/>
                  <a:pt x="18860" y="8890"/>
                </a:cubicBezTo>
                <a:cubicBezTo>
                  <a:pt x="18911" y="8831"/>
                  <a:pt x="18931" y="8792"/>
                  <a:pt x="18955" y="8700"/>
                </a:cubicBezTo>
                <a:cubicBezTo>
                  <a:pt x="18989" y="8565"/>
                  <a:pt x="19061" y="8424"/>
                  <a:pt x="19082" y="8287"/>
                </a:cubicBezTo>
                <a:cubicBezTo>
                  <a:pt x="19093" y="8215"/>
                  <a:pt x="19097" y="8164"/>
                  <a:pt x="19114" y="8096"/>
                </a:cubicBezTo>
                <a:cubicBezTo>
                  <a:pt x="19114" y="8427"/>
                  <a:pt x="19122" y="8754"/>
                  <a:pt x="19145" y="9080"/>
                </a:cubicBezTo>
                <a:cubicBezTo>
                  <a:pt x="19161" y="9303"/>
                  <a:pt x="19170" y="9563"/>
                  <a:pt x="19114" y="9779"/>
                </a:cubicBezTo>
                <a:cubicBezTo>
                  <a:pt x="19087" y="9885"/>
                  <a:pt x="19012" y="10027"/>
                  <a:pt x="18923" y="10096"/>
                </a:cubicBezTo>
                <a:cubicBezTo>
                  <a:pt x="18819" y="10176"/>
                  <a:pt x="18774" y="10148"/>
                  <a:pt x="18669" y="10096"/>
                </a:cubicBezTo>
                <a:cubicBezTo>
                  <a:pt x="18560" y="10042"/>
                  <a:pt x="18501" y="9937"/>
                  <a:pt x="18510" y="9811"/>
                </a:cubicBezTo>
                <a:cubicBezTo>
                  <a:pt x="18521" y="9779"/>
                  <a:pt x="18531" y="9748"/>
                  <a:pt x="18542" y="9716"/>
                </a:cubicBezTo>
              </a:path>
              <a:path w="6446" h="2890">
                <a:moveTo>
                  <a:pt x="19463" y="8318"/>
                </a:moveTo>
                <a:cubicBezTo>
                  <a:pt x="19539" y="8318"/>
                  <a:pt x="19582" y="8299"/>
                  <a:pt x="19653" y="8287"/>
                </a:cubicBezTo>
                <a:cubicBezTo>
                  <a:pt x="19741" y="8272"/>
                  <a:pt x="19814" y="8255"/>
                  <a:pt x="19907" y="8255"/>
                </a:cubicBezTo>
                <a:cubicBezTo>
                  <a:pt x="19928" y="8255"/>
                  <a:pt x="19950" y="8255"/>
                  <a:pt x="19971" y="8255"/>
                </a:cubicBezTo>
              </a:path>
              <a:path w="6446" h="2890">
                <a:moveTo>
                  <a:pt x="19463" y="8795"/>
                </a:moveTo>
                <a:cubicBezTo>
                  <a:pt x="19410" y="8795"/>
                  <a:pt x="19505" y="8795"/>
                  <a:pt x="19558" y="8795"/>
                </a:cubicBezTo>
                <a:cubicBezTo>
                  <a:pt x="19653" y="8795"/>
                  <a:pt x="19693" y="8750"/>
                  <a:pt x="19780" y="8731"/>
                </a:cubicBezTo>
                <a:cubicBezTo>
                  <a:pt x="19846" y="8731"/>
                  <a:pt x="19869" y="8730"/>
                  <a:pt x="19907" y="8700"/>
                </a:cubicBezTo>
              </a:path>
              <a:path w="6446" h="2890">
                <a:moveTo>
                  <a:pt x="20669" y="8128"/>
                </a:moveTo>
                <a:cubicBezTo>
                  <a:pt x="20669" y="8083"/>
                  <a:pt x="20675" y="8061"/>
                  <a:pt x="20701" y="8033"/>
                </a:cubicBezTo>
              </a:path>
              <a:path w="6446" h="2890">
                <a:moveTo>
                  <a:pt x="20733" y="7969"/>
                </a:moveTo>
                <a:cubicBezTo>
                  <a:pt x="20733" y="7864"/>
                  <a:pt x="20744" y="7779"/>
                  <a:pt x="20701" y="7684"/>
                </a:cubicBezTo>
                <a:cubicBezTo>
                  <a:pt x="20679" y="7635"/>
                  <a:pt x="20612" y="7521"/>
                  <a:pt x="20542" y="7525"/>
                </a:cubicBezTo>
                <a:cubicBezTo>
                  <a:pt x="20479" y="7529"/>
                  <a:pt x="20346" y="7640"/>
                  <a:pt x="20320" y="7684"/>
                </a:cubicBezTo>
                <a:cubicBezTo>
                  <a:pt x="20264" y="7778"/>
                  <a:pt x="20261" y="7958"/>
                  <a:pt x="20256" y="8064"/>
                </a:cubicBezTo>
                <a:cubicBezTo>
                  <a:pt x="20253" y="8122"/>
                  <a:pt x="20282" y="8235"/>
                  <a:pt x="20352" y="8255"/>
                </a:cubicBezTo>
                <a:cubicBezTo>
                  <a:pt x="20441" y="8281"/>
                  <a:pt x="20527" y="8191"/>
                  <a:pt x="20574" y="8128"/>
                </a:cubicBezTo>
                <a:cubicBezTo>
                  <a:pt x="20655" y="8021"/>
                  <a:pt x="20694" y="7919"/>
                  <a:pt x="20764" y="7810"/>
                </a:cubicBezTo>
                <a:cubicBezTo>
                  <a:pt x="20775" y="7800"/>
                  <a:pt x="20785" y="7789"/>
                  <a:pt x="20796" y="7779"/>
                </a:cubicBezTo>
                <a:cubicBezTo>
                  <a:pt x="20796" y="7695"/>
                  <a:pt x="20770" y="7884"/>
                  <a:pt x="20764" y="7906"/>
                </a:cubicBezTo>
                <a:cubicBezTo>
                  <a:pt x="20729" y="8043"/>
                  <a:pt x="20706" y="8175"/>
                  <a:pt x="20701" y="8318"/>
                </a:cubicBezTo>
                <a:cubicBezTo>
                  <a:pt x="20694" y="8530"/>
                  <a:pt x="20701" y="9102"/>
                  <a:pt x="20701" y="8890"/>
                </a:cubicBezTo>
              </a:path>
              <a:path w="6446" h="2890">
                <a:moveTo>
                  <a:pt x="21114" y="7588"/>
                </a:moveTo>
                <a:cubicBezTo>
                  <a:pt x="21114" y="7677"/>
                  <a:pt x="21099" y="7790"/>
                  <a:pt x="21082" y="7874"/>
                </a:cubicBezTo>
                <a:cubicBezTo>
                  <a:pt x="21050" y="8032"/>
                  <a:pt x="20997" y="8218"/>
                  <a:pt x="21018" y="8382"/>
                </a:cubicBezTo>
                <a:cubicBezTo>
                  <a:pt x="21035" y="8517"/>
                  <a:pt x="21058" y="8628"/>
                  <a:pt x="21146" y="8731"/>
                </a:cubicBezTo>
                <a:cubicBezTo>
                  <a:pt x="21220" y="8817"/>
                  <a:pt x="21277" y="8795"/>
                  <a:pt x="21368" y="8763"/>
                </a:cubicBezTo>
                <a:cubicBezTo>
                  <a:pt x="21505" y="8715"/>
                  <a:pt x="21590" y="8610"/>
                  <a:pt x="21654" y="8477"/>
                </a:cubicBezTo>
                <a:cubicBezTo>
                  <a:pt x="21691" y="8400"/>
                  <a:pt x="21774" y="8214"/>
                  <a:pt x="21749" y="8128"/>
                </a:cubicBezTo>
                <a:cubicBezTo>
                  <a:pt x="21720" y="8099"/>
                  <a:pt x="21714" y="8088"/>
                  <a:pt x="21685" y="8096"/>
                </a:cubicBezTo>
                <a:cubicBezTo>
                  <a:pt x="21563" y="8121"/>
                  <a:pt x="21571" y="8194"/>
                  <a:pt x="21495" y="8287"/>
                </a:cubicBezTo>
                <a:cubicBezTo>
                  <a:pt x="21413" y="8387"/>
                  <a:pt x="21352" y="8513"/>
                  <a:pt x="21304" y="8636"/>
                </a:cubicBezTo>
                <a:cubicBezTo>
                  <a:pt x="21273" y="8729"/>
                  <a:pt x="21262" y="8759"/>
                  <a:pt x="21272" y="8826"/>
                </a:cubicBezTo>
              </a:path>
              <a:path w="6446" h="2890">
                <a:moveTo>
                  <a:pt x="15335" y="9906"/>
                </a:moveTo>
                <a:cubicBezTo>
                  <a:pt x="15325" y="9906"/>
                  <a:pt x="15314" y="9906"/>
                  <a:pt x="15304" y="9906"/>
                </a:cubicBezTo>
                <a:cubicBezTo>
                  <a:pt x="15373" y="9906"/>
                  <a:pt x="15408" y="9886"/>
                  <a:pt x="15462" y="9874"/>
                </a:cubicBezTo>
                <a:cubicBezTo>
                  <a:pt x="15543" y="9856"/>
                  <a:pt x="15634" y="9852"/>
                  <a:pt x="15716" y="9842"/>
                </a:cubicBezTo>
              </a:path>
              <a:path w="6446" h="2890">
                <a:moveTo>
                  <a:pt x="16066" y="9366"/>
                </a:moveTo>
                <a:cubicBezTo>
                  <a:pt x="16082" y="9468"/>
                  <a:pt x="16097" y="9547"/>
                  <a:pt x="16097" y="9652"/>
                </a:cubicBezTo>
                <a:cubicBezTo>
                  <a:pt x="16097" y="9805"/>
                  <a:pt x="16124" y="9944"/>
                  <a:pt x="16129" y="10096"/>
                </a:cubicBezTo>
                <a:cubicBezTo>
                  <a:pt x="16132" y="10180"/>
                  <a:pt x="16129" y="10266"/>
                  <a:pt x="16129" y="10350"/>
                </a:cubicBezTo>
              </a:path>
              <a:path w="6446" h="2890">
                <a:moveTo>
                  <a:pt x="16320" y="9620"/>
                </a:moveTo>
                <a:cubicBezTo>
                  <a:pt x="16355" y="9573"/>
                  <a:pt x="16370" y="9538"/>
                  <a:pt x="16415" y="9493"/>
                </a:cubicBezTo>
                <a:cubicBezTo>
                  <a:pt x="16465" y="9443"/>
                  <a:pt x="16468" y="9374"/>
                  <a:pt x="16542" y="9366"/>
                </a:cubicBezTo>
                <a:cubicBezTo>
                  <a:pt x="16647" y="9354"/>
                  <a:pt x="16605" y="9528"/>
                  <a:pt x="16605" y="9588"/>
                </a:cubicBezTo>
                <a:cubicBezTo>
                  <a:pt x="16605" y="9736"/>
                  <a:pt x="16552" y="9890"/>
                  <a:pt x="16510" y="10033"/>
                </a:cubicBezTo>
                <a:cubicBezTo>
                  <a:pt x="16479" y="10139"/>
                  <a:pt x="16460" y="10243"/>
                  <a:pt x="16446" y="10350"/>
                </a:cubicBezTo>
                <a:cubicBezTo>
                  <a:pt x="16520" y="10350"/>
                  <a:pt x="16545" y="10323"/>
                  <a:pt x="16605" y="10287"/>
                </a:cubicBezTo>
                <a:cubicBezTo>
                  <a:pt x="16673" y="10246"/>
                  <a:pt x="16720" y="10233"/>
                  <a:pt x="16796" y="102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Ink 8"/>
          <p:cNvSpPr/>
          <p:nvPr/>
        </p:nvSpPr>
        <p:spPr>
          <a:xfrm>
            <a:off x="3760920" y="4091040"/>
            <a:ext cx="1303200" cy="1476360"/>
          </a:xfrm>
          <a:custGeom>
            <a:avLst/>
            <a:gdLst/>
            <a:ahLst/>
            <a:rect l="l" t="t" r="r" b="b"/>
            <a:pathLst>
              <a:path w="3620" h="4097">
                <a:moveTo>
                  <a:pt x="11112" y="12065"/>
                </a:moveTo>
                <a:cubicBezTo>
                  <a:pt x="11030" y="12159"/>
                  <a:pt x="10983" y="12246"/>
                  <a:pt x="10922" y="12351"/>
                </a:cubicBezTo>
                <a:cubicBezTo>
                  <a:pt x="10800" y="12561"/>
                  <a:pt x="10745" y="12724"/>
                  <a:pt x="10668" y="12954"/>
                </a:cubicBezTo>
                <a:cubicBezTo>
                  <a:pt x="10587" y="13196"/>
                  <a:pt x="10550" y="13431"/>
                  <a:pt x="10509" y="13684"/>
                </a:cubicBezTo>
                <a:cubicBezTo>
                  <a:pt x="10473" y="13905"/>
                  <a:pt x="10420" y="14125"/>
                  <a:pt x="10446" y="14351"/>
                </a:cubicBezTo>
                <a:cubicBezTo>
                  <a:pt x="10469" y="14544"/>
                  <a:pt x="10495" y="14732"/>
                  <a:pt x="10541" y="14922"/>
                </a:cubicBezTo>
                <a:cubicBezTo>
                  <a:pt x="10578" y="15073"/>
                  <a:pt x="10576" y="15260"/>
                  <a:pt x="10700" y="15367"/>
                </a:cubicBezTo>
                <a:cubicBezTo>
                  <a:pt x="10750" y="15410"/>
                  <a:pt x="10806" y="15436"/>
                  <a:pt x="10858" y="15462"/>
                </a:cubicBezTo>
              </a:path>
              <a:path w="3620" h="4097">
                <a:moveTo>
                  <a:pt x="11017" y="13144"/>
                </a:moveTo>
                <a:cubicBezTo>
                  <a:pt x="11061" y="13014"/>
                  <a:pt x="11077" y="12941"/>
                  <a:pt x="11176" y="12859"/>
                </a:cubicBezTo>
                <a:cubicBezTo>
                  <a:pt x="11228" y="12816"/>
                  <a:pt x="11359" y="12708"/>
                  <a:pt x="11430" y="12732"/>
                </a:cubicBezTo>
                <a:cubicBezTo>
                  <a:pt x="11524" y="12764"/>
                  <a:pt x="11523" y="12955"/>
                  <a:pt x="11525" y="13018"/>
                </a:cubicBezTo>
                <a:cubicBezTo>
                  <a:pt x="11532" y="13252"/>
                  <a:pt x="11448" y="13460"/>
                  <a:pt x="11398" y="13684"/>
                </a:cubicBezTo>
                <a:cubicBezTo>
                  <a:pt x="11347" y="13910"/>
                  <a:pt x="11293" y="14127"/>
                  <a:pt x="11240" y="14351"/>
                </a:cubicBezTo>
                <a:cubicBezTo>
                  <a:pt x="11210" y="14478"/>
                  <a:pt x="11160" y="14607"/>
                  <a:pt x="11144" y="14732"/>
                </a:cubicBezTo>
                <a:cubicBezTo>
                  <a:pt x="11172" y="14676"/>
                  <a:pt x="11208" y="14606"/>
                  <a:pt x="11240" y="14542"/>
                </a:cubicBezTo>
                <a:cubicBezTo>
                  <a:pt x="11271" y="14479"/>
                  <a:pt x="11360" y="14372"/>
                  <a:pt x="11430" y="14351"/>
                </a:cubicBezTo>
                <a:cubicBezTo>
                  <a:pt x="11514" y="14326"/>
                  <a:pt x="11578" y="14367"/>
                  <a:pt x="11652" y="14383"/>
                </a:cubicBezTo>
                <a:cubicBezTo>
                  <a:pt x="11663" y="14383"/>
                  <a:pt x="11673" y="14383"/>
                  <a:pt x="11684" y="14383"/>
                </a:cubicBezTo>
              </a:path>
              <a:path w="3620" h="4097">
                <a:moveTo>
                  <a:pt x="12160" y="14034"/>
                </a:moveTo>
                <a:cubicBezTo>
                  <a:pt x="12182" y="14144"/>
                  <a:pt x="12192" y="14231"/>
                  <a:pt x="12192" y="14351"/>
                </a:cubicBezTo>
                <a:cubicBezTo>
                  <a:pt x="12192" y="14467"/>
                  <a:pt x="12210" y="14559"/>
                  <a:pt x="12224" y="14668"/>
                </a:cubicBezTo>
              </a:path>
              <a:path w="3620" h="4097">
                <a:moveTo>
                  <a:pt x="12541" y="12795"/>
                </a:moveTo>
                <a:cubicBezTo>
                  <a:pt x="12578" y="12732"/>
                  <a:pt x="12591" y="12709"/>
                  <a:pt x="12668" y="12668"/>
                </a:cubicBezTo>
                <a:cubicBezTo>
                  <a:pt x="12782" y="12608"/>
                  <a:pt x="12860" y="12499"/>
                  <a:pt x="12954" y="12414"/>
                </a:cubicBezTo>
                <a:cubicBezTo>
                  <a:pt x="13022" y="12353"/>
                  <a:pt x="13132" y="12224"/>
                  <a:pt x="13240" y="12256"/>
                </a:cubicBezTo>
                <a:cubicBezTo>
                  <a:pt x="13309" y="12277"/>
                  <a:pt x="13272" y="12464"/>
                  <a:pt x="13272" y="12510"/>
                </a:cubicBezTo>
                <a:cubicBezTo>
                  <a:pt x="13272" y="12671"/>
                  <a:pt x="13221" y="12827"/>
                  <a:pt x="13208" y="12986"/>
                </a:cubicBezTo>
                <a:cubicBezTo>
                  <a:pt x="13191" y="13188"/>
                  <a:pt x="13176" y="13384"/>
                  <a:pt x="13176" y="13589"/>
                </a:cubicBezTo>
                <a:cubicBezTo>
                  <a:pt x="13176" y="13741"/>
                  <a:pt x="13144" y="13881"/>
                  <a:pt x="13144" y="14034"/>
                </a:cubicBezTo>
                <a:cubicBezTo>
                  <a:pt x="13144" y="14086"/>
                  <a:pt x="13144" y="14077"/>
                  <a:pt x="13144" y="14129"/>
                </a:cubicBezTo>
              </a:path>
              <a:path w="3620" h="4097">
                <a:moveTo>
                  <a:pt x="13240" y="11398"/>
                </a:moveTo>
                <a:cubicBezTo>
                  <a:pt x="13349" y="11373"/>
                  <a:pt x="13372" y="11352"/>
                  <a:pt x="13462" y="11462"/>
                </a:cubicBezTo>
                <a:cubicBezTo>
                  <a:pt x="13573" y="11597"/>
                  <a:pt x="13650" y="11763"/>
                  <a:pt x="13748" y="11906"/>
                </a:cubicBezTo>
                <a:cubicBezTo>
                  <a:pt x="13887" y="12109"/>
                  <a:pt x="13956" y="12299"/>
                  <a:pt x="14002" y="12541"/>
                </a:cubicBezTo>
                <a:cubicBezTo>
                  <a:pt x="14057" y="12829"/>
                  <a:pt x="14069" y="13078"/>
                  <a:pt x="14034" y="13367"/>
                </a:cubicBezTo>
                <a:cubicBezTo>
                  <a:pt x="13997" y="13668"/>
                  <a:pt x="13937" y="13936"/>
                  <a:pt x="13843" y="14224"/>
                </a:cubicBezTo>
                <a:cubicBezTo>
                  <a:pt x="13766" y="14460"/>
                  <a:pt x="13681" y="14691"/>
                  <a:pt x="13589" y="14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Ink 9"/>
          <p:cNvSpPr/>
          <p:nvPr/>
        </p:nvSpPr>
        <p:spPr>
          <a:xfrm>
            <a:off x="6251400" y="3257640"/>
            <a:ext cx="1555920" cy="1668240"/>
          </a:xfrm>
          <a:custGeom>
            <a:avLst/>
            <a:gdLst/>
            <a:ahLst/>
            <a:rect l="l" t="t" r="r" b="b"/>
            <a:pathLst>
              <a:path w="4319" h="4636">
                <a:moveTo>
                  <a:pt x="19939" y="9525"/>
                </a:moveTo>
                <a:cubicBezTo>
                  <a:pt x="20020" y="9525"/>
                  <a:pt x="20057" y="9527"/>
                  <a:pt x="20130" y="9493"/>
                </a:cubicBezTo>
                <a:cubicBezTo>
                  <a:pt x="20208" y="9457"/>
                  <a:pt x="20277" y="9408"/>
                  <a:pt x="20352" y="9366"/>
                </a:cubicBezTo>
              </a:path>
              <a:path w="4319" h="4636">
                <a:moveTo>
                  <a:pt x="20574" y="9239"/>
                </a:moveTo>
                <a:cubicBezTo>
                  <a:pt x="20606" y="9292"/>
                  <a:pt x="20628" y="9394"/>
                  <a:pt x="20638" y="9462"/>
                </a:cubicBezTo>
                <a:cubicBezTo>
                  <a:pt x="20663" y="9626"/>
                  <a:pt x="20552" y="10144"/>
                  <a:pt x="20669" y="10224"/>
                </a:cubicBezTo>
              </a:path>
              <a:path w="4319" h="4636">
                <a:moveTo>
                  <a:pt x="20955" y="9271"/>
                </a:moveTo>
                <a:cubicBezTo>
                  <a:pt x="21000" y="9226"/>
                  <a:pt x="21028" y="9196"/>
                  <a:pt x="21050" y="9144"/>
                </a:cubicBezTo>
                <a:cubicBezTo>
                  <a:pt x="21075" y="9085"/>
                  <a:pt x="21121" y="9067"/>
                  <a:pt x="21177" y="9049"/>
                </a:cubicBezTo>
                <a:cubicBezTo>
                  <a:pt x="21188" y="9049"/>
                  <a:pt x="21198" y="9049"/>
                  <a:pt x="21209" y="9049"/>
                </a:cubicBezTo>
                <a:cubicBezTo>
                  <a:pt x="21314" y="9179"/>
                  <a:pt x="21246" y="9230"/>
                  <a:pt x="21209" y="9366"/>
                </a:cubicBezTo>
                <a:cubicBezTo>
                  <a:pt x="21166" y="9523"/>
                  <a:pt x="21148" y="9686"/>
                  <a:pt x="21114" y="9842"/>
                </a:cubicBezTo>
                <a:cubicBezTo>
                  <a:pt x="21099" y="9913"/>
                  <a:pt x="21078" y="9968"/>
                  <a:pt x="21050" y="10033"/>
                </a:cubicBezTo>
                <a:cubicBezTo>
                  <a:pt x="21100" y="10016"/>
                  <a:pt x="21084" y="9983"/>
                  <a:pt x="21114" y="9938"/>
                </a:cubicBezTo>
                <a:cubicBezTo>
                  <a:pt x="21151" y="9882"/>
                  <a:pt x="21141" y="9874"/>
                  <a:pt x="21209" y="9874"/>
                </a:cubicBezTo>
                <a:cubicBezTo>
                  <a:pt x="21240" y="9874"/>
                  <a:pt x="21303" y="9894"/>
                  <a:pt x="21336" y="9906"/>
                </a:cubicBezTo>
                <a:cubicBezTo>
                  <a:pt x="21414" y="9934"/>
                  <a:pt x="21478" y="9943"/>
                  <a:pt x="21558" y="9906"/>
                </a:cubicBezTo>
                <a:cubicBezTo>
                  <a:pt x="21601" y="9886"/>
                  <a:pt x="21647" y="9841"/>
                  <a:pt x="21685" y="9811"/>
                </a:cubicBezTo>
              </a:path>
              <a:path w="4319" h="4636">
                <a:moveTo>
                  <a:pt x="17812" y="10668"/>
                </a:moveTo>
                <a:cubicBezTo>
                  <a:pt x="17753" y="10688"/>
                  <a:pt x="17780" y="10788"/>
                  <a:pt x="17780" y="10858"/>
                </a:cubicBezTo>
                <a:cubicBezTo>
                  <a:pt x="17780" y="11059"/>
                  <a:pt x="17748" y="11258"/>
                  <a:pt x="17748" y="11462"/>
                </a:cubicBezTo>
                <a:cubicBezTo>
                  <a:pt x="17748" y="11675"/>
                  <a:pt x="17716" y="11882"/>
                  <a:pt x="17716" y="12097"/>
                </a:cubicBezTo>
                <a:cubicBezTo>
                  <a:pt x="17716" y="12136"/>
                  <a:pt x="17716" y="12446"/>
                  <a:pt x="17716" y="12382"/>
                </a:cubicBezTo>
              </a:path>
              <a:path w="4319" h="4636">
                <a:moveTo>
                  <a:pt x="17970" y="11144"/>
                </a:moveTo>
                <a:cubicBezTo>
                  <a:pt x="18016" y="11071"/>
                  <a:pt x="18068" y="11016"/>
                  <a:pt x="18129" y="10954"/>
                </a:cubicBezTo>
                <a:cubicBezTo>
                  <a:pt x="18193" y="10889"/>
                  <a:pt x="18268" y="10784"/>
                  <a:pt x="18352" y="10763"/>
                </a:cubicBezTo>
                <a:cubicBezTo>
                  <a:pt x="18403" y="10833"/>
                  <a:pt x="18411" y="10894"/>
                  <a:pt x="18415" y="10986"/>
                </a:cubicBezTo>
                <a:cubicBezTo>
                  <a:pt x="18421" y="11146"/>
                  <a:pt x="18359" y="11308"/>
                  <a:pt x="18320" y="11462"/>
                </a:cubicBezTo>
                <a:cubicBezTo>
                  <a:pt x="18279" y="11626"/>
                  <a:pt x="18215" y="11803"/>
                  <a:pt x="18193" y="11970"/>
                </a:cubicBezTo>
                <a:cubicBezTo>
                  <a:pt x="18182" y="12055"/>
                  <a:pt x="18184" y="12155"/>
                  <a:pt x="18129" y="12192"/>
                </a:cubicBezTo>
                <a:cubicBezTo>
                  <a:pt x="18160" y="12140"/>
                  <a:pt x="18159" y="12010"/>
                  <a:pt x="18193" y="11970"/>
                </a:cubicBezTo>
                <a:cubicBezTo>
                  <a:pt x="18235" y="11920"/>
                  <a:pt x="18325" y="11879"/>
                  <a:pt x="18383" y="11874"/>
                </a:cubicBezTo>
                <a:cubicBezTo>
                  <a:pt x="18464" y="11867"/>
                  <a:pt x="18502" y="11981"/>
                  <a:pt x="18542" y="12033"/>
                </a:cubicBezTo>
                <a:cubicBezTo>
                  <a:pt x="18585" y="12089"/>
                  <a:pt x="18602" y="12143"/>
                  <a:pt x="18669" y="12160"/>
                </a:cubicBezTo>
              </a:path>
              <a:path w="4319" h="4636">
                <a:moveTo>
                  <a:pt x="18860" y="11208"/>
                </a:moveTo>
                <a:cubicBezTo>
                  <a:pt x="18860" y="11289"/>
                  <a:pt x="18882" y="11351"/>
                  <a:pt x="18891" y="11430"/>
                </a:cubicBezTo>
                <a:cubicBezTo>
                  <a:pt x="18909" y="11587"/>
                  <a:pt x="18893" y="11751"/>
                  <a:pt x="18923" y="11906"/>
                </a:cubicBezTo>
                <a:cubicBezTo>
                  <a:pt x="18943" y="12008"/>
                  <a:pt x="18968" y="12088"/>
                  <a:pt x="19050" y="12128"/>
                </a:cubicBezTo>
                <a:cubicBezTo>
                  <a:pt x="19061" y="12128"/>
                  <a:pt x="19071" y="12128"/>
                  <a:pt x="19082" y="12128"/>
                </a:cubicBezTo>
                <a:cubicBezTo>
                  <a:pt x="19114" y="12034"/>
                  <a:pt x="19127" y="11941"/>
                  <a:pt x="19145" y="11843"/>
                </a:cubicBezTo>
                <a:cubicBezTo>
                  <a:pt x="19177" y="11671"/>
                  <a:pt x="19153" y="11506"/>
                  <a:pt x="19177" y="11335"/>
                </a:cubicBezTo>
                <a:cubicBezTo>
                  <a:pt x="19188" y="11258"/>
                  <a:pt x="19202" y="11213"/>
                  <a:pt x="19209" y="11144"/>
                </a:cubicBezTo>
                <a:cubicBezTo>
                  <a:pt x="19245" y="11227"/>
                  <a:pt x="19269" y="11295"/>
                  <a:pt x="19272" y="11398"/>
                </a:cubicBezTo>
                <a:cubicBezTo>
                  <a:pt x="19278" y="11579"/>
                  <a:pt x="19303" y="11759"/>
                  <a:pt x="19336" y="11938"/>
                </a:cubicBezTo>
                <a:cubicBezTo>
                  <a:pt x="19376" y="12157"/>
                  <a:pt x="19395" y="12382"/>
                  <a:pt x="19399" y="12605"/>
                </a:cubicBezTo>
                <a:cubicBezTo>
                  <a:pt x="19403" y="12820"/>
                  <a:pt x="19387" y="13000"/>
                  <a:pt x="19336" y="13208"/>
                </a:cubicBezTo>
                <a:cubicBezTo>
                  <a:pt x="19294" y="13380"/>
                  <a:pt x="19259" y="13551"/>
                  <a:pt x="19114" y="13652"/>
                </a:cubicBezTo>
                <a:cubicBezTo>
                  <a:pt x="19032" y="13710"/>
                  <a:pt x="18885" y="13712"/>
                  <a:pt x="18828" y="13621"/>
                </a:cubicBezTo>
                <a:cubicBezTo>
                  <a:pt x="18796" y="13526"/>
                  <a:pt x="18785" y="13494"/>
                  <a:pt x="18764" y="13430"/>
                </a:cubicBezTo>
              </a:path>
              <a:path w="4319" h="4636">
                <a:moveTo>
                  <a:pt x="19685" y="11366"/>
                </a:moveTo>
                <a:cubicBezTo>
                  <a:pt x="19735" y="11354"/>
                  <a:pt x="19755" y="11335"/>
                  <a:pt x="19812" y="11335"/>
                </a:cubicBezTo>
                <a:cubicBezTo>
                  <a:pt x="19881" y="11335"/>
                  <a:pt x="19939" y="11296"/>
                  <a:pt x="20002" y="11271"/>
                </a:cubicBezTo>
                <a:cubicBezTo>
                  <a:pt x="20054" y="11246"/>
                  <a:pt x="20063" y="11235"/>
                  <a:pt x="20098" y="11240"/>
                </a:cubicBezTo>
              </a:path>
              <a:path w="4319" h="4636">
                <a:moveTo>
                  <a:pt x="19780" y="11748"/>
                </a:moveTo>
                <a:cubicBezTo>
                  <a:pt x="19842" y="11722"/>
                  <a:pt x="19884" y="11736"/>
                  <a:pt x="19939" y="11716"/>
                </a:cubicBezTo>
                <a:cubicBezTo>
                  <a:pt x="19960" y="11705"/>
                  <a:pt x="19981" y="11695"/>
                  <a:pt x="20002" y="11684"/>
                </a:cubicBezTo>
              </a:path>
              <a:path w="4319" h="4636">
                <a:moveTo>
                  <a:pt x="20923" y="10922"/>
                </a:moveTo>
                <a:cubicBezTo>
                  <a:pt x="20923" y="10872"/>
                  <a:pt x="20971" y="10802"/>
                  <a:pt x="20955" y="10763"/>
                </a:cubicBezTo>
                <a:cubicBezTo>
                  <a:pt x="20942" y="10731"/>
                  <a:pt x="20898" y="10653"/>
                  <a:pt x="20860" y="10636"/>
                </a:cubicBezTo>
                <a:cubicBezTo>
                  <a:pt x="20771" y="10596"/>
                  <a:pt x="20693" y="10681"/>
                  <a:pt x="20638" y="10732"/>
                </a:cubicBezTo>
                <a:cubicBezTo>
                  <a:pt x="20525" y="10838"/>
                  <a:pt x="20505" y="10909"/>
                  <a:pt x="20447" y="11049"/>
                </a:cubicBezTo>
                <a:cubicBezTo>
                  <a:pt x="20416" y="11125"/>
                  <a:pt x="20427" y="11205"/>
                  <a:pt x="20479" y="11271"/>
                </a:cubicBezTo>
                <a:cubicBezTo>
                  <a:pt x="20534" y="11341"/>
                  <a:pt x="20600" y="11342"/>
                  <a:pt x="20669" y="11366"/>
                </a:cubicBezTo>
                <a:cubicBezTo>
                  <a:pt x="20760" y="11398"/>
                  <a:pt x="20817" y="11476"/>
                  <a:pt x="20860" y="11557"/>
                </a:cubicBezTo>
                <a:cubicBezTo>
                  <a:pt x="20911" y="11653"/>
                  <a:pt x="20894" y="11716"/>
                  <a:pt x="20860" y="11811"/>
                </a:cubicBezTo>
                <a:cubicBezTo>
                  <a:pt x="20824" y="11912"/>
                  <a:pt x="20766" y="11986"/>
                  <a:pt x="20669" y="12002"/>
                </a:cubicBezTo>
                <a:cubicBezTo>
                  <a:pt x="20588" y="12016"/>
                  <a:pt x="20577" y="11979"/>
                  <a:pt x="20574" y="11906"/>
                </a:cubicBezTo>
                <a:cubicBezTo>
                  <a:pt x="20569" y="11763"/>
                  <a:pt x="20571" y="11625"/>
                  <a:pt x="20638" y="11494"/>
                </a:cubicBezTo>
                <a:cubicBezTo>
                  <a:pt x="20718" y="11338"/>
                  <a:pt x="20838" y="11203"/>
                  <a:pt x="20923" y="11049"/>
                </a:cubicBezTo>
              </a:path>
              <a:path w="4319" h="4636">
                <a:moveTo>
                  <a:pt x="21209" y="10700"/>
                </a:moveTo>
                <a:cubicBezTo>
                  <a:pt x="21245" y="10759"/>
                  <a:pt x="21258" y="10845"/>
                  <a:pt x="21241" y="10922"/>
                </a:cubicBezTo>
                <a:cubicBezTo>
                  <a:pt x="21216" y="11037"/>
                  <a:pt x="21195" y="11159"/>
                  <a:pt x="21177" y="11271"/>
                </a:cubicBezTo>
                <a:cubicBezTo>
                  <a:pt x="21165" y="11348"/>
                  <a:pt x="21159" y="11402"/>
                  <a:pt x="21114" y="11462"/>
                </a:cubicBezTo>
                <a:cubicBezTo>
                  <a:pt x="21160" y="11416"/>
                  <a:pt x="21197" y="11405"/>
                  <a:pt x="21241" y="11366"/>
                </a:cubicBezTo>
                <a:cubicBezTo>
                  <a:pt x="21286" y="11326"/>
                  <a:pt x="21371" y="11317"/>
                  <a:pt x="21431" y="11303"/>
                </a:cubicBezTo>
                <a:cubicBezTo>
                  <a:pt x="21500" y="11287"/>
                  <a:pt x="21522" y="11326"/>
                  <a:pt x="21590" y="11303"/>
                </a:cubicBezTo>
                <a:cubicBezTo>
                  <a:pt x="21622" y="11303"/>
                  <a:pt x="21633" y="11303"/>
                  <a:pt x="21654" y="11303"/>
                </a:cubicBezTo>
                <a:cubicBezTo>
                  <a:pt x="21654" y="11212"/>
                  <a:pt x="21677" y="11140"/>
                  <a:pt x="21685" y="11049"/>
                </a:cubicBezTo>
              </a:path>
              <a:path w="4319" h="4636">
                <a:moveTo>
                  <a:pt x="21654" y="10382"/>
                </a:moveTo>
                <a:cubicBezTo>
                  <a:pt x="21634" y="10484"/>
                  <a:pt x="21599" y="10592"/>
                  <a:pt x="21590" y="10700"/>
                </a:cubicBezTo>
                <a:cubicBezTo>
                  <a:pt x="21570" y="10933"/>
                  <a:pt x="21558" y="11162"/>
                  <a:pt x="21558" y="11398"/>
                </a:cubicBezTo>
                <a:cubicBezTo>
                  <a:pt x="21558" y="11636"/>
                  <a:pt x="21583" y="11862"/>
                  <a:pt x="21590" y="12097"/>
                </a:cubicBezTo>
                <a:cubicBezTo>
                  <a:pt x="21590" y="12129"/>
                  <a:pt x="21590" y="12160"/>
                  <a:pt x="21590" y="12192"/>
                </a:cubicBezTo>
              </a:path>
              <a:path w="4319" h="4636">
                <a:moveTo>
                  <a:pt x="17494" y="12890"/>
                </a:moveTo>
                <a:cubicBezTo>
                  <a:pt x="17452" y="12890"/>
                  <a:pt x="17431" y="12890"/>
                  <a:pt x="17399" y="12890"/>
                </a:cubicBezTo>
              </a:path>
              <a:path w="4319" h="4636">
                <a:moveTo>
                  <a:pt x="17367" y="12890"/>
                </a:moveTo>
                <a:cubicBezTo>
                  <a:pt x="17391" y="12861"/>
                  <a:pt x="17422" y="12811"/>
                  <a:pt x="17462" y="12764"/>
                </a:cubicBezTo>
                <a:cubicBezTo>
                  <a:pt x="17558" y="12651"/>
                  <a:pt x="17656" y="12610"/>
                  <a:pt x="17780" y="12541"/>
                </a:cubicBezTo>
                <a:cubicBezTo>
                  <a:pt x="17947" y="12449"/>
                  <a:pt x="18088" y="12317"/>
                  <a:pt x="18256" y="12224"/>
                </a:cubicBezTo>
                <a:cubicBezTo>
                  <a:pt x="18456" y="12113"/>
                  <a:pt x="18654" y="12004"/>
                  <a:pt x="18860" y="11906"/>
                </a:cubicBezTo>
                <a:cubicBezTo>
                  <a:pt x="19010" y="11835"/>
                  <a:pt x="19169" y="11786"/>
                  <a:pt x="19336" y="11779"/>
                </a:cubicBezTo>
                <a:cubicBezTo>
                  <a:pt x="19399" y="11776"/>
                  <a:pt x="19463" y="11779"/>
                  <a:pt x="19526" y="11779"/>
                </a:cubicBezTo>
              </a:path>
              <a:path w="4319" h="4636">
                <a:moveTo>
                  <a:pt x="18383" y="12541"/>
                </a:moveTo>
                <a:cubicBezTo>
                  <a:pt x="18403" y="12622"/>
                  <a:pt x="18398" y="12704"/>
                  <a:pt x="18415" y="12795"/>
                </a:cubicBezTo>
                <a:cubicBezTo>
                  <a:pt x="18443" y="12945"/>
                  <a:pt x="18447" y="13084"/>
                  <a:pt x="18447" y="13240"/>
                </a:cubicBezTo>
                <a:cubicBezTo>
                  <a:pt x="18447" y="13314"/>
                  <a:pt x="18447" y="13388"/>
                  <a:pt x="18447" y="13462"/>
                </a:cubicBezTo>
              </a:path>
              <a:path w="4319" h="4636">
                <a:moveTo>
                  <a:pt x="18606" y="12636"/>
                </a:moveTo>
                <a:cubicBezTo>
                  <a:pt x="18618" y="12586"/>
                  <a:pt x="18654" y="12556"/>
                  <a:pt x="18669" y="12510"/>
                </a:cubicBezTo>
                <a:cubicBezTo>
                  <a:pt x="18687" y="12456"/>
                  <a:pt x="18719" y="12426"/>
                  <a:pt x="18764" y="12382"/>
                </a:cubicBezTo>
                <a:cubicBezTo>
                  <a:pt x="18806" y="12341"/>
                  <a:pt x="18835" y="12351"/>
                  <a:pt x="18891" y="12351"/>
                </a:cubicBezTo>
                <a:cubicBezTo>
                  <a:pt x="18891" y="12446"/>
                  <a:pt x="18889" y="12517"/>
                  <a:pt x="18860" y="12605"/>
                </a:cubicBezTo>
                <a:cubicBezTo>
                  <a:pt x="18818" y="12732"/>
                  <a:pt x="18788" y="12885"/>
                  <a:pt x="18764" y="13018"/>
                </a:cubicBezTo>
                <a:cubicBezTo>
                  <a:pt x="18764" y="13081"/>
                  <a:pt x="18764" y="13102"/>
                  <a:pt x="18764" y="13144"/>
                </a:cubicBezTo>
                <a:cubicBezTo>
                  <a:pt x="18813" y="13096"/>
                  <a:pt x="18855" y="13040"/>
                  <a:pt x="18923" y="13018"/>
                </a:cubicBezTo>
                <a:cubicBezTo>
                  <a:pt x="18994" y="12995"/>
                  <a:pt x="19061" y="13039"/>
                  <a:pt x="19114" y="13049"/>
                </a:cubicBezTo>
                <a:cubicBezTo>
                  <a:pt x="19135" y="13049"/>
                  <a:pt x="19156" y="13049"/>
                  <a:pt x="19177" y="13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Ink 10"/>
          <p:cNvSpPr/>
          <p:nvPr/>
        </p:nvSpPr>
        <p:spPr>
          <a:xfrm>
            <a:off x="7165800" y="4251240"/>
            <a:ext cx="709920" cy="1533600"/>
          </a:xfrm>
          <a:custGeom>
            <a:avLst/>
            <a:gdLst/>
            <a:ahLst/>
            <a:rect l="l" t="t" r="r" b="b"/>
            <a:pathLst>
              <a:path w="1970" h="4256">
                <a:moveTo>
                  <a:pt x="20320" y="12097"/>
                </a:moveTo>
                <a:cubicBezTo>
                  <a:pt x="20332" y="12131"/>
                  <a:pt x="20364" y="12156"/>
                  <a:pt x="20415" y="12160"/>
                </a:cubicBezTo>
                <a:cubicBezTo>
                  <a:pt x="20517" y="12167"/>
                  <a:pt x="20634" y="12122"/>
                  <a:pt x="20733" y="12097"/>
                </a:cubicBezTo>
                <a:cubicBezTo>
                  <a:pt x="20890" y="12057"/>
                  <a:pt x="21024" y="11985"/>
                  <a:pt x="21177" y="11938"/>
                </a:cubicBezTo>
                <a:cubicBezTo>
                  <a:pt x="21325" y="11893"/>
                  <a:pt x="21476" y="11875"/>
                  <a:pt x="21622" y="11843"/>
                </a:cubicBezTo>
                <a:cubicBezTo>
                  <a:pt x="21743" y="11816"/>
                  <a:pt x="21748" y="11811"/>
                  <a:pt x="21844" y="11843"/>
                </a:cubicBezTo>
                <a:cubicBezTo>
                  <a:pt x="21855" y="11843"/>
                  <a:pt x="21865" y="11843"/>
                  <a:pt x="21876" y="11843"/>
                </a:cubicBezTo>
              </a:path>
              <a:path w="1970" h="4256">
                <a:moveTo>
                  <a:pt x="20892" y="12319"/>
                </a:moveTo>
                <a:lnTo>
                  <a:pt x="20892" y="12319"/>
                </a:lnTo>
              </a:path>
              <a:path w="1970" h="4256">
                <a:moveTo>
                  <a:pt x="20892" y="12319"/>
                </a:moveTo>
                <a:cubicBezTo>
                  <a:pt x="20902" y="12319"/>
                  <a:pt x="20913" y="12319"/>
                  <a:pt x="20923" y="12319"/>
                </a:cubicBezTo>
              </a:path>
              <a:path w="1970" h="4256">
                <a:moveTo>
                  <a:pt x="20923" y="12319"/>
                </a:moveTo>
                <a:cubicBezTo>
                  <a:pt x="20940" y="12387"/>
                  <a:pt x="20955" y="12428"/>
                  <a:pt x="20955" y="12510"/>
                </a:cubicBezTo>
                <a:cubicBezTo>
                  <a:pt x="20955" y="12695"/>
                  <a:pt x="20964" y="12875"/>
                  <a:pt x="20923" y="13049"/>
                </a:cubicBezTo>
                <a:cubicBezTo>
                  <a:pt x="20923" y="13081"/>
                  <a:pt x="20923" y="13092"/>
                  <a:pt x="20923" y="13113"/>
                </a:cubicBezTo>
              </a:path>
              <a:path w="1970" h="4256">
                <a:moveTo>
                  <a:pt x="21209" y="12319"/>
                </a:moveTo>
                <a:cubicBezTo>
                  <a:pt x="21252" y="12244"/>
                  <a:pt x="21252" y="12224"/>
                  <a:pt x="21336" y="12224"/>
                </a:cubicBezTo>
                <a:cubicBezTo>
                  <a:pt x="21455" y="12224"/>
                  <a:pt x="21377" y="12363"/>
                  <a:pt x="21368" y="12414"/>
                </a:cubicBezTo>
                <a:cubicBezTo>
                  <a:pt x="21350" y="12520"/>
                  <a:pt x="21343" y="12630"/>
                  <a:pt x="21304" y="12732"/>
                </a:cubicBezTo>
                <a:cubicBezTo>
                  <a:pt x="21273" y="12813"/>
                  <a:pt x="21272" y="12866"/>
                  <a:pt x="21272" y="12954"/>
                </a:cubicBezTo>
                <a:cubicBezTo>
                  <a:pt x="21348" y="12954"/>
                  <a:pt x="21373" y="12941"/>
                  <a:pt x="21431" y="12922"/>
                </a:cubicBezTo>
                <a:cubicBezTo>
                  <a:pt x="21483" y="12905"/>
                  <a:pt x="21543" y="12874"/>
                  <a:pt x="21590" y="12859"/>
                </a:cubicBezTo>
                <a:cubicBezTo>
                  <a:pt x="21622" y="12859"/>
                  <a:pt x="21633" y="12859"/>
                  <a:pt x="21654" y="12859"/>
                </a:cubicBezTo>
              </a:path>
              <a:path w="1970" h="4256">
                <a:moveTo>
                  <a:pt x="19939" y="13970"/>
                </a:moveTo>
                <a:cubicBezTo>
                  <a:pt x="19874" y="13938"/>
                  <a:pt x="19934" y="14005"/>
                  <a:pt x="19939" y="14097"/>
                </a:cubicBezTo>
                <a:cubicBezTo>
                  <a:pt x="19946" y="14226"/>
                  <a:pt x="19993" y="14349"/>
                  <a:pt x="20002" y="14478"/>
                </a:cubicBezTo>
                <a:cubicBezTo>
                  <a:pt x="20012" y="14615"/>
                  <a:pt x="20031" y="14712"/>
                  <a:pt x="20066" y="14827"/>
                </a:cubicBezTo>
                <a:cubicBezTo>
                  <a:pt x="20066" y="14838"/>
                  <a:pt x="20066" y="14848"/>
                  <a:pt x="20066" y="14859"/>
                </a:cubicBezTo>
                <a:cubicBezTo>
                  <a:pt x="20135" y="14790"/>
                  <a:pt x="20165" y="14734"/>
                  <a:pt x="20193" y="14637"/>
                </a:cubicBezTo>
                <a:cubicBezTo>
                  <a:pt x="20243" y="14466"/>
                  <a:pt x="20259" y="14300"/>
                  <a:pt x="20288" y="14129"/>
                </a:cubicBezTo>
                <a:cubicBezTo>
                  <a:pt x="20304" y="14036"/>
                  <a:pt x="20362" y="13892"/>
                  <a:pt x="20384" y="13843"/>
                </a:cubicBezTo>
                <a:cubicBezTo>
                  <a:pt x="20384" y="14058"/>
                  <a:pt x="20377" y="14266"/>
                  <a:pt x="20415" y="14478"/>
                </a:cubicBezTo>
                <a:cubicBezTo>
                  <a:pt x="20449" y="14669"/>
                  <a:pt x="20452" y="14860"/>
                  <a:pt x="20479" y="15050"/>
                </a:cubicBezTo>
                <a:cubicBezTo>
                  <a:pt x="20505" y="15235"/>
                  <a:pt x="20535" y="15433"/>
                  <a:pt x="20510" y="15621"/>
                </a:cubicBezTo>
                <a:cubicBezTo>
                  <a:pt x="20496" y="15726"/>
                  <a:pt x="20452" y="15883"/>
                  <a:pt x="20384" y="15970"/>
                </a:cubicBezTo>
                <a:cubicBezTo>
                  <a:pt x="20304" y="16073"/>
                  <a:pt x="20274" y="16076"/>
                  <a:pt x="20161" y="16034"/>
                </a:cubicBezTo>
              </a:path>
              <a:path w="1970" h="4256">
                <a:moveTo>
                  <a:pt x="20701" y="14129"/>
                </a:moveTo>
                <a:cubicBezTo>
                  <a:pt x="20751" y="14141"/>
                  <a:pt x="20771" y="14160"/>
                  <a:pt x="20828" y="14160"/>
                </a:cubicBezTo>
                <a:cubicBezTo>
                  <a:pt x="20905" y="14160"/>
                  <a:pt x="20892" y="14125"/>
                  <a:pt x="20955" y="14097"/>
                </a:cubicBezTo>
                <a:cubicBezTo>
                  <a:pt x="20991" y="14097"/>
                  <a:pt x="21005" y="14094"/>
                  <a:pt x="21018" y="14065"/>
                </a:cubicBezTo>
              </a:path>
              <a:path w="1970" h="4256">
                <a:moveTo>
                  <a:pt x="20796" y="14542"/>
                </a:moveTo>
                <a:cubicBezTo>
                  <a:pt x="20846" y="14530"/>
                  <a:pt x="20866" y="14510"/>
                  <a:pt x="20923" y="14510"/>
                </a:cubicBezTo>
                <a:cubicBezTo>
                  <a:pt x="20983" y="14510"/>
                  <a:pt x="21038" y="14479"/>
                  <a:pt x="21082" y="14446"/>
                </a:cubicBezTo>
              </a:path>
              <a:path w="1970" h="4256">
                <a:moveTo>
                  <a:pt x="21241" y="13811"/>
                </a:moveTo>
                <a:cubicBezTo>
                  <a:pt x="21296" y="13756"/>
                  <a:pt x="21303" y="13766"/>
                  <a:pt x="21368" y="13748"/>
                </a:cubicBezTo>
                <a:cubicBezTo>
                  <a:pt x="21443" y="13728"/>
                  <a:pt x="21488" y="13688"/>
                  <a:pt x="21558" y="13652"/>
                </a:cubicBezTo>
                <a:cubicBezTo>
                  <a:pt x="21642" y="13608"/>
                  <a:pt x="21689" y="13550"/>
                  <a:pt x="21780" y="13526"/>
                </a:cubicBezTo>
                <a:cubicBezTo>
                  <a:pt x="21791" y="13526"/>
                  <a:pt x="21801" y="13526"/>
                  <a:pt x="21812" y="13526"/>
                </a:cubicBezTo>
                <a:cubicBezTo>
                  <a:pt x="21812" y="13607"/>
                  <a:pt x="21788" y="13670"/>
                  <a:pt x="21780" y="13748"/>
                </a:cubicBezTo>
                <a:cubicBezTo>
                  <a:pt x="21757" y="13981"/>
                  <a:pt x="21726" y="14215"/>
                  <a:pt x="21685" y="14446"/>
                </a:cubicBezTo>
                <a:cubicBezTo>
                  <a:pt x="21647" y="14663"/>
                  <a:pt x="21622" y="14860"/>
                  <a:pt x="21622" y="15081"/>
                </a:cubicBezTo>
                <a:cubicBezTo>
                  <a:pt x="21622" y="15198"/>
                  <a:pt x="21622" y="15230"/>
                  <a:pt x="21622" y="153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ing Systems by Eli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 + 5y = -2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x + 3y =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Ink 4"/>
          <p:cNvSpPr/>
          <p:nvPr/>
        </p:nvSpPr>
        <p:spPr>
          <a:xfrm>
            <a:off x="250920" y="1189080"/>
            <a:ext cx="595080" cy="1279440"/>
          </a:xfrm>
          <a:custGeom>
            <a:avLst/>
            <a:gdLst/>
            <a:ahLst/>
            <a:rect l="l" t="t" r="r" b="b"/>
            <a:pathLst>
              <a:path w="1653" h="3557">
                <a:moveTo>
                  <a:pt x="2350" y="3302"/>
                </a:moveTo>
                <a:cubicBezTo>
                  <a:pt x="2305" y="3347"/>
                  <a:pt x="2208" y="3424"/>
                  <a:pt x="2159" y="3492"/>
                </a:cubicBezTo>
                <a:cubicBezTo>
                  <a:pt x="2084" y="3595"/>
                  <a:pt x="2009" y="3702"/>
                  <a:pt x="1937" y="3810"/>
                </a:cubicBezTo>
                <a:cubicBezTo>
                  <a:pt x="1833" y="3965"/>
                  <a:pt x="1791" y="4107"/>
                  <a:pt x="1746" y="4286"/>
                </a:cubicBezTo>
                <a:cubicBezTo>
                  <a:pt x="1713" y="4417"/>
                  <a:pt x="1673" y="4604"/>
                  <a:pt x="1746" y="4731"/>
                </a:cubicBezTo>
                <a:cubicBezTo>
                  <a:pt x="1812" y="4846"/>
                  <a:pt x="1951" y="4906"/>
                  <a:pt x="2064" y="4953"/>
                </a:cubicBezTo>
              </a:path>
              <a:path w="1653" h="3557">
                <a:moveTo>
                  <a:pt x="2254" y="5239"/>
                </a:moveTo>
                <a:cubicBezTo>
                  <a:pt x="2264" y="5277"/>
                  <a:pt x="2268" y="5316"/>
                  <a:pt x="2191" y="5398"/>
                </a:cubicBezTo>
                <a:cubicBezTo>
                  <a:pt x="2092" y="5503"/>
                  <a:pt x="1991" y="5609"/>
                  <a:pt x="1937" y="5747"/>
                </a:cubicBezTo>
                <a:cubicBezTo>
                  <a:pt x="1873" y="5910"/>
                  <a:pt x="1847" y="6113"/>
                  <a:pt x="1842" y="6286"/>
                </a:cubicBezTo>
                <a:cubicBezTo>
                  <a:pt x="1838" y="6421"/>
                  <a:pt x="1866" y="6597"/>
                  <a:pt x="1968" y="6699"/>
                </a:cubicBezTo>
                <a:cubicBezTo>
                  <a:pt x="2058" y="6789"/>
                  <a:pt x="2203" y="6819"/>
                  <a:pt x="2318" y="6858"/>
                </a:cubicBezTo>
              </a:path>
              <a:path w="1653" h="3557">
                <a:moveTo>
                  <a:pt x="857" y="3810"/>
                </a:moveTo>
                <a:cubicBezTo>
                  <a:pt x="857" y="3909"/>
                  <a:pt x="844" y="4001"/>
                  <a:pt x="826" y="4096"/>
                </a:cubicBezTo>
                <a:cubicBezTo>
                  <a:pt x="798" y="4241"/>
                  <a:pt x="775" y="4396"/>
                  <a:pt x="762" y="4540"/>
                </a:cubicBezTo>
                <a:cubicBezTo>
                  <a:pt x="746" y="4717"/>
                  <a:pt x="762" y="4902"/>
                  <a:pt x="762" y="5080"/>
                </a:cubicBezTo>
              </a:path>
              <a:path w="1653" h="3557">
                <a:moveTo>
                  <a:pt x="1143" y="3778"/>
                </a:moveTo>
                <a:cubicBezTo>
                  <a:pt x="1108" y="3871"/>
                  <a:pt x="1061" y="3995"/>
                  <a:pt x="1048" y="4096"/>
                </a:cubicBezTo>
                <a:cubicBezTo>
                  <a:pt x="1029" y="4245"/>
                  <a:pt x="1016" y="4388"/>
                  <a:pt x="1016" y="4540"/>
                </a:cubicBezTo>
                <a:cubicBezTo>
                  <a:pt x="1016" y="4650"/>
                  <a:pt x="1005" y="4710"/>
                  <a:pt x="1080" y="4794"/>
                </a:cubicBezTo>
                <a:cubicBezTo>
                  <a:pt x="1131" y="4852"/>
                  <a:pt x="1259" y="4784"/>
                  <a:pt x="1302" y="4731"/>
                </a:cubicBezTo>
                <a:cubicBezTo>
                  <a:pt x="1386" y="4628"/>
                  <a:pt x="1424" y="4548"/>
                  <a:pt x="1429" y="4413"/>
                </a:cubicBezTo>
                <a:cubicBezTo>
                  <a:pt x="1434" y="4270"/>
                  <a:pt x="1432" y="4130"/>
                  <a:pt x="1365" y="4000"/>
                </a:cubicBezTo>
                <a:cubicBezTo>
                  <a:pt x="1316" y="3906"/>
                  <a:pt x="1235" y="3793"/>
                  <a:pt x="1143" y="3778"/>
                </a:cubicBezTo>
                <a:cubicBezTo>
                  <a:pt x="1111" y="3778"/>
                  <a:pt x="1101" y="3778"/>
                  <a:pt x="1080" y="3778"/>
                </a:cubicBezTo>
              </a:path>
              <a:path w="1653" h="3557">
                <a:moveTo>
                  <a:pt x="889" y="5778"/>
                </a:moveTo>
                <a:cubicBezTo>
                  <a:pt x="866" y="5755"/>
                  <a:pt x="881" y="5680"/>
                  <a:pt x="921" y="5620"/>
                </a:cubicBezTo>
                <a:cubicBezTo>
                  <a:pt x="959" y="5562"/>
                  <a:pt x="1019" y="5556"/>
                  <a:pt x="1080" y="5556"/>
                </a:cubicBezTo>
                <a:cubicBezTo>
                  <a:pt x="1164" y="5556"/>
                  <a:pt x="1190" y="5677"/>
                  <a:pt x="1175" y="5747"/>
                </a:cubicBezTo>
                <a:cubicBezTo>
                  <a:pt x="1152" y="5855"/>
                  <a:pt x="1134" y="5993"/>
                  <a:pt x="1080" y="6096"/>
                </a:cubicBezTo>
                <a:cubicBezTo>
                  <a:pt x="1015" y="6221"/>
                  <a:pt x="957" y="6355"/>
                  <a:pt x="889" y="6477"/>
                </a:cubicBezTo>
                <a:cubicBezTo>
                  <a:pt x="860" y="6530"/>
                  <a:pt x="788" y="6699"/>
                  <a:pt x="730" y="6731"/>
                </a:cubicBezTo>
                <a:cubicBezTo>
                  <a:pt x="670" y="6764"/>
                  <a:pt x="779" y="6649"/>
                  <a:pt x="794" y="6636"/>
                </a:cubicBezTo>
                <a:cubicBezTo>
                  <a:pt x="838" y="6598"/>
                  <a:pt x="910" y="6567"/>
                  <a:pt x="952" y="6540"/>
                </a:cubicBezTo>
                <a:cubicBezTo>
                  <a:pt x="1001" y="6508"/>
                  <a:pt x="1047" y="6497"/>
                  <a:pt x="1080" y="6572"/>
                </a:cubicBezTo>
                <a:cubicBezTo>
                  <a:pt x="1104" y="6626"/>
                  <a:pt x="1106" y="6641"/>
                  <a:pt x="1143" y="6668"/>
                </a:cubicBezTo>
                <a:cubicBezTo>
                  <a:pt x="1209" y="6716"/>
                  <a:pt x="1240" y="6694"/>
                  <a:pt x="1302" y="6636"/>
                </a:cubicBezTo>
                <a:cubicBezTo>
                  <a:pt x="1323" y="6615"/>
                  <a:pt x="1344" y="6593"/>
                  <a:pt x="1365" y="65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Ink 5"/>
          <p:cNvSpPr/>
          <p:nvPr/>
        </p:nvSpPr>
        <p:spPr>
          <a:xfrm>
            <a:off x="3360600" y="1325520"/>
            <a:ext cx="606600" cy="892080"/>
          </a:xfrm>
          <a:custGeom>
            <a:avLst/>
            <a:gdLst/>
            <a:ahLst/>
            <a:rect l="l" t="t" r="r" b="b"/>
            <a:pathLst>
              <a:path w="1684" h="2478">
                <a:moveTo>
                  <a:pt x="9747" y="4000"/>
                </a:moveTo>
                <a:cubicBezTo>
                  <a:pt x="9694" y="4000"/>
                  <a:pt x="9753" y="4029"/>
                  <a:pt x="9779" y="4032"/>
                </a:cubicBezTo>
                <a:cubicBezTo>
                  <a:pt x="9868" y="4043"/>
                  <a:pt x="9949" y="4050"/>
                  <a:pt x="10033" y="4064"/>
                </a:cubicBezTo>
                <a:cubicBezTo>
                  <a:pt x="10138" y="4082"/>
                  <a:pt x="10221" y="4036"/>
                  <a:pt x="10319" y="4032"/>
                </a:cubicBezTo>
                <a:cubicBezTo>
                  <a:pt x="10435" y="4027"/>
                  <a:pt x="10607" y="4070"/>
                  <a:pt x="10700" y="4000"/>
                </a:cubicBezTo>
              </a:path>
              <a:path w="1684" h="2478">
                <a:moveTo>
                  <a:pt x="10478" y="3683"/>
                </a:moveTo>
                <a:cubicBezTo>
                  <a:pt x="10520" y="3758"/>
                  <a:pt x="10520" y="3778"/>
                  <a:pt x="10604" y="3778"/>
                </a:cubicBezTo>
                <a:cubicBezTo>
                  <a:pt x="10672" y="3778"/>
                  <a:pt x="10762" y="3820"/>
                  <a:pt x="10827" y="3842"/>
                </a:cubicBezTo>
                <a:cubicBezTo>
                  <a:pt x="10870" y="3856"/>
                  <a:pt x="10953" y="3883"/>
                  <a:pt x="10986" y="3905"/>
                </a:cubicBezTo>
                <a:cubicBezTo>
                  <a:pt x="11014" y="3934"/>
                  <a:pt x="11024" y="3940"/>
                  <a:pt x="11017" y="3969"/>
                </a:cubicBezTo>
                <a:cubicBezTo>
                  <a:pt x="10959" y="3983"/>
                  <a:pt x="10916" y="4033"/>
                  <a:pt x="10858" y="4064"/>
                </a:cubicBezTo>
                <a:cubicBezTo>
                  <a:pt x="10767" y="4112"/>
                  <a:pt x="10698" y="4176"/>
                  <a:pt x="10604" y="4223"/>
                </a:cubicBezTo>
                <a:cubicBezTo>
                  <a:pt x="10553" y="4248"/>
                  <a:pt x="10526" y="4274"/>
                  <a:pt x="10478" y="4286"/>
                </a:cubicBezTo>
              </a:path>
              <a:path w="1684" h="2478">
                <a:moveTo>
                  <a:pt x="9334" y="5588"/>
                </a:moveTo>
                <a:cubicBezTo>
                  <a:pt x="9402" y="5656"/>
                  <a:pt x="9428" y="5652"/>
                  <a:pt x="9525" y="5652"/>
                </a:cubicBezTo>
                <a:cubicBezTo>
                  <a:pt x="9631" y="5652"/>
                  <a:pt x="9729" y="5683"/>
                  <a:pt x="9842" y="5683"/>
                </a:cubicBezTo>
                <a:cubicBezTo>
                  <a:pt x="10086" y="5683"/>
                  <a:pt x="10329" y="5683"/>
                  <a:pt x="10573" y="5683"/>
                </a:cubicBezTo>
              </a:path>
              <a:path w="1684" h="2478">
                <a:moveTo>
                  <a:pt x="10224" y="5334"/>
                </a:moveTo>
                <a:cubicBezTo>
                  <a:pt x="10164" y="5364"/>
                  <a:pt x="10276" y="5396"/>
                  <a:pt x="10319" y="5429"/>
                </a:cubicBezTo>
                <a:cubicBezTo>
                  <a:pt x="10401" y="5490"/>
                  <a:pt x="10479" y="5515"/>
                  <a:pt x="10573" y="5556"/>
                </a:cubicBezTo>
                <a:cubicBezTo>
                  <a:pt x="10639" y="5585"/>
                  <a:pt x="10710" y="5635"/>
                  <a:pt x="10763" y="5683"/>
                </a:cubicBezTo>
                <a:cubicBezTo>
                  <a:pt x="10829" y="5742"/>
                  <a:pt x="10781" y="5814"/>
                  <a:pt x="10732" y="5874"/>
                </a:cubicBezTo>
                <a:cubicBezTo>
                  <a:pt x="10661" y="5961"/>
                  <a:pt x="10570" y="6006"/>
                  <a:pt x="10478" y="6064"/>
                </a:cubicBezTo>
                <a:cubicBezTo>
                  <a:pt x="10394" y="6120"/>
                  <a:pt x="10376" y="6134"/>
                  <a:pt x="10319" y="61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Ink 6"/>
          <p:cNvSpPr/>
          <p:nvPr/>
        </p:nvSpPr>
        <p:spPr>
          <a:xfrm>
            <a:off x="4240080" y="1257480"/>
            <a:ext cx="2916360" cy="823680"/>
          </a:xfrm>
          <a:custGeom>
            <a:avLst/>
            <a:gdLst/>
            <a:ahLst/>
            <a:rect l="l" t="t" r="r" b="b"/>
            <a:pathLst>
              <a:path w="8098" h="2287">
                <a:moveTo>
                  <a:pt x="11874" y="3905"/>
                </a:moveTo>
                <a:cubicBezTo>
                  <a:pt x="11843" y="3905"/>
                  <a:pt x="11832" y="3905"/>
                  <a:pt x="11811" y="3905"/>
                </a:cubicBezTo>
                <a:cubicBezTo>
                  <a:pt x="11811" y="3838"/>
                  <a:pt x="11826" y="3826"/>
                  <a:pt x="11874" y="3778"/>
                </a:cubicBezTo>
                <a:cubicBezTo>
                  <a:pt x="11918" y="3733"/>
                  <a:pt x="12004" y="3672"/>
                  <a:pt x="12065" y="3651"/>
                </a:cubicBezTo>
                <a:cubicBezTo>
                  <a:pt x="12149" y="3623"/>
                  <a:pt x="12156" y="3629"/>
                  <a:pt x="12224" y="3651"/>
                </a:cubicBezTo>
                <a:cubicBezTo>
                  <a:pt x="12298" y="3675"/>
                  <a:pt x="12287" y="3698"/>
                  <a:pt x="12287" y="3778"/>
                </a:cubicBezTo>
                <a:cubicBezTo>
                  <a:pt x="12287" y="3928"/>
                  <a:pt x="12221" y="4056"/>
                  <a:pt x="12160" y="4191"/>
                </a:cubicBezTo>
                <a:cubicBezTo>
                  <a:pt x="12091" y="4343"/>
                  <a:pt x="12017" y="4492"/>
                  <a:pt x="11938" y="4636"/>
                </a:cubicBezTo>
                <a:cubicBezTo>
                  <a:pt x="11896" y="4713"/>
                  <a:pt x="11867" y="4782"/>
                  <a:pt x="11811" y="4826"/>
                </a:cubicBezTo>
                <a:cubicBezTo>
                  <a:pt x="11800" y="4837"/>
                  <a:pt x="11790" y="4847"/>
                  <a:pt x="11779" y="4858"/>
                </a:cubicBezTo>
                <a:cubicBezTo>
                  <a:pt x="11791" y="4798"/>
                  <a:pt x="11804" y="4744"/>
                  <a:pt x="11843" y="4699"/>
                </a:cubicBezTo>
                <a:cubicBezTo>
                  <a:pt x="11882" y="4655"/>
                  <a:pt x="11915" y="4667"/>
                  <a:pt x="11970" y="4667"/>
                </a:cubicBezTo>
                <a:cubicBezTo>
                  <a:pt x="12024" y="4667"/>
                  <a:pt x="12060" y="4725"/>
                  <a:pt x="12097" y="4762"/>
                </a:cubicBezTo>
                <a:cubicBezTo>
                  <a:pt x="12138" y="4803"/>
                  <a:pt x="12167" y="4852"/>
                  <a:pt x="12224" y="4858"/>
                </a:cubicBezTo>
                <a:cubicBezTo>
                  <a:pt x="12294" y="4866"/>
                  <a:pt x="12286" y="4917"/>
                  <a:pt x="12351" y="4858"/>
                </a:cubicBezTo>
                <a:cubicBezTo>
                  <a:pt x="12379" y="4829"/>
                  <a:pt x="12389" y="4823"/>
                  <a:pt x="12382" y="4794"/>
                </a:cubicBezTo>
              </a:path>
              <a:path w="8098" h="2287">
                <a:moveTo>
                  <a:pt x="12700" y="3778"/>
                </a:moveTo>
                <a:cubicBezTo>
                  <a:pt x="12592" y="3778"/>
                  <a:pt x="12582" y="3801"/>
                  <a:pt x="12541" y="3905"/>
                </a:cubicBezTo>
                <a:cubicBezTo>
                  <a:pt x="12478" y="4064"/>
                  <a:pt x="12457" y="4184"/>
                  <a:pt x="12414" y="4350"/>
                </a:cubicBezTo>
                <a:cubicBezTo>
                  <a:pt x="12371" y="4513"/>
                  <a:pt x="12388" y="4633"/>
                  <a:pt x="12446" y="4794"/>
                </a:cubicBezTo>
                <a:cubicBezTo>
                  <a:pt x="12476" y="4877"/>
                  <a:pt x="12517" y="4955"/>
                  <a:pt x="12605" y="4985"/>
                </a:cubicBezTo>
                <a:cubicBezTo>
                  <a:pt x="12656" y="5002"/>
                  <a:pt x="12776" y="4890"/>
                  <a:pt x="12795" y="4858"/>
                </a:cubicBezTo>
                <a:cubicBezTo>
                  <a:pt x="12857" y="4754"/>
                  <a:pt x="12845" y="4526"/>
                  <a:pt x="12827" y="4413"/>
                </a:cubicBezTo>
                <a:cubicBezTo>
                  <a:pt x="12809" y="4302"/>
                  <a:pt x="12769" y="4125"/>
                  <a:pt x="12700" y="4032"/>
                </a:cubicBezTo>
                <a:cubicBezTo>
                  <a:pt x="12669" y="3991"/>
                  <a:pt x="12561" y="3896"/>
                  <a:pt x="12510" y="3874"/>
                </a:cubicBezTo>
                <a:cubicBezTo>
                  <a:pt x="12499" y="3874"/>
                  <a:pt x="12489" y="3874"/>
                  <a:pt x="12478" y="3874"/>
                </a:cubicBezTo>
              </a:path>
              <a:path w="8098" h="2287">
                <a:moveTo>
                  <a:pt x="12890" y="4064"/>
                </a:moveTo>
                <a:cubicBezTo>
                  <a:pt x="12944" y="4172"/>
                  <a:pt x="13013" y="4250"/>
                  <a:pt x="13081" y="4350"/>
                </a:cubicBezTo>
                <a:cubicBezTo>
                  <a:pt x="13163" y="4469"/>
                  <a:pt x="13242" y="4590"/>
                  <a:pt x="13335" y="4699"/>
                </a:cubicBezTo>
                <a:cubicBezTo>
                  <a:pt x="13379" y="4750"/>
                  <a:pt x="13466" y="4828"/>
                  <a:pt x="13494" y="4890"/>
                </a:cubicBezTo>
                <a:cubicBezTo>
                  <a:pt x="13494" y="4900"/>
                  <a:pt x="13494" y="4911"/>
                  <a:pt x="13494" y="4921"/>
                </a:cubicBezTo>
              </a:path>
              <a:path w="8098" h="2287">
                <a:moveTo>
                  <a:pt x="13335" y="4064"/>
                </a:moveTo>
                <a:cubicBezTo>
                  <a:pt x="13274" y="4125"/>
                  <a:pt x="13192" y="4337"/>
                  <a:pt x="13144" y="4445"/>
                </a:cubicBezTo>
                <a:cubicBezTo>
                  <a:pt x="13049" y="4662"/>
                  <a:pt x="12979" y="4892"/>
                  <a:pt x="12890" y="5112"/>
                </a:cubicBezTo>
              </a:path>
              <a:path w="8098" h="2287">
                <a:moveTo>
                  <a:pt x="14097" y="3937"/>
                </a:moveTo>
                <a:cubicBezTo>
                  <a:pt x="14053" y="4010"/>
                  <a:pt x="14048" y="4131"/>
                  <a:pt x="14065" y="4223"/>
                </a:cubicBezTo>
                <a:cubicBezTo>
                  <a:pt x="14085" y="4331"/>
                  <a:pt x="14123" y="4429"/>
                  <a:pt x="14129" y="4540"/>
                </a:cubicBezTo>
                <a:cubicBezTo>
                  <a:pt x="14134" y="4631"/>
                  <a:pt x="14150" y="4747"/>
                  <a:pt x="14097" y="4826"/>
                </a:cubicBezTo>
                <a:cubicBezTo>
                  <a:pt x="14086" y="4837"/>
                  <a:pt x="14076" y="4847"/>
                  <a:pt x="14065" y="4858"/>
                </a:cubicBezTo>
              </a:path>
              <a:path w="8098" h="2287">
                <a:moveTo>
                  <a:pt x="13875" y="4477"/>
                </a:moveTo>
                <a:cubicBezTo>
                  <a:pt x="13962" y="4499"/>
                  <a:pt x="13970" y="4492"/>
                  <a:pt x="14065" y="4477"/>
                </a:cubicBezTo>
                <a:cubicBezTo>
                  <a:pt x="14086" y="4477"/>
                  <a:pt x="14108" y="4477"/>
                  <a:pt x="14129" y="4477"/>
                </a:cubicBezTo>
              </a:path>
              <a:path w="8098" h="2287">
                <a:moveTo>
                  <a:pt x="15081" y="3746"/>
                </a:moveTo>
                <a:cubicBezTo>
                  <a:pt x="15113" y="3746"/>
                  <a:pt x="15124" y="3746"/>
                  <a:pt x="15145" y="3746"/>
                </a:cubicBezTo>
                <a:cubicBezTo>
                  <a:pt x="15078" y="3797"/>
                  <a:pt x="15034" y="3756"/>
                  <a:pt x="14954" y="3778"/>
                </a:cubicBezTo>
                <a:cubicBezTo>
                  <a:pt x="14856" y="3805"/>
                  <a:pt x="14729" y="3807"/>
                  <a:pt x="14637" y="3842"/>
                </a:cubicBezTo>
                <a:cubicBezTo>
                  <a:pt x="14590" y="3860"/>
                  <a:pt x="14571" y="3874"/>
                  <a:pt x="14510" y="3874"/>
                </a:cubicBezTo>
                <a:cubicBezTo>
                  <a:pt x="14534" y="3991"/>
                  <a:pt x="14528" y="4006"/>
                  <a:pt x="14510" y="4128"/>
                </a:cubicBezTo>
                <a:cubicBezTo>
                  <a:pt x="14496" y="4225"/>
                  <a:pt x="14462" y="4320"/>
                  <a:pt x="14446" y="4413"/>
                </a:cubicBezTo>
                <a:cubicBezTo>
                  <a:pt x="14446" y="4471"/>
                  <a:pt x="14451" y="4487"/>
                  <a:pt x="14414" y="4508"/>
                </a:cubicBezTo>
                <a:cubicBezTo>
                  <a:pt x="14457" y="4452"/>
                  <a:pt x="14500" y="4382"/>
                  <a:pt x="14542" y="4318"/>
                </a:cubicBezTo>
                <a:cubicBezTo>
                  <a:pt x="14590" y="4245"/>
                  <a:pt x="14670" y="4180"/>
                  <a:pt x="14764" y="4159"/>
                </a:cubicBezTo>
                <a:cubicBezTo>
                  <a:pt x="14835" y="4143"/>
                  <a:pt x="14937" y="4166"/>
                  <a:pt x="14986" y="4223"/>
                </a:cubicBezTo>
                <a:cubicBezTo>
                  <a:pt x="15053" y="4301"/>
                  <a:pt x="15076" y="4376"/>
                  <a:pt x="15081" y="4477"/>
                </a:cubicBezTo>
                <a:cubicBezTo>
                  <a:pt x="15085" y="4556"/>
                  <a:pt x="15061" y="4725"/>
                  <a:pt x="15018" y="4794"/>
                </a:cubicBezTo>
                <a:cubicBezTo>
                  <a:pt x="14959" y="4888"/>
                  <a:pt x="14881" y="4951"/>
                  <a:pt x="14796" y="5016"/>
                </a:cubicBezTo>
                <a:cubicBezTo>
                  <a:pt x="14733" y="5064"/>
                  <a:pt x="14749" y="5051"/>
                  <a:pt x="14668" y="5016"/>
                </a:cubicBezTo>
              </a:path>
              <a:path w="8098" h="2287">
                <a:moveTo>
                  <a:pt x="15430" y="3810"/>
                </a:moveTo>
                <a:cubicBezTo>
                  <a:pt x="15350" y="3912"/>
                  <a:pt x="15322" y="4011"/>
                  <a:pt x="15272" y="4128"/>
                </a:cubicBezTo>
                <a:cubicBezTo>
                  <a:pt x="15197" y="4303"/>
                  <a:pt x="15151" y="4444"/>
                  <a:pt x="15145" y="4636"/>
                </a:cubicBezTo>
                <a:cubicBezTo>
                  <a:pt x="15143" y="4699"/>
                  <a:pt x="15155" y="4834"/>
                  <a:pt x="15240" y="4858"/>
                </a:cubicBezTo>
                <a:cubicBezTo>
                  <a:pt x="15368" y="4895"/>
                  <a:pt x="15460" y="4740"/>
                  <a:pt x="15526" y="4667"/>
                </a:cubicBezTo>
                <a:cubicBezTo>
                  <a:pt x="15626" y="4556"/>
                  <a:pt x="15707" y="4433"/>
                  <a:pt x="15716" y="4286"/>
                </a:cubicBezTo>
                <a:cubicBezTo>
                  <a:pt x="15724" y="4163"/>
                  <a:pt x="15710" y="3913"/>
                  <a:pt x="15589" y="3842"/>
                </a:cubicBezTo>
                <a:cubicBezTo>
                  <a:pt x="15533" y="3809"/>
                  <a:pt x="15410" y="3848"/>
                  <a:pt x="15367" y="3874"/>
                </a:cubicBezTo>
              </a:path>
              <a:path w="8098" h="2287">
                <a:moveTo>
                  <a:pt x="15843" y="4064"/>
                </a:moveTo>
                <a:cubicBezTo>
                  <a:pt x="15814" y="4163"/>
                  <a:pt x="15787" y="4305"/>
                  <a:pt x="15812" y="4413"/>
                </a:cubicBezTo>
                <a:cubicBezTo>
                  <a:pt x="15839" y="4528"/>
                  <a:pt x="15861" y="4648"/>
                  <a:pt x="15907" y="4762"/>
                </a:cubicBezTo>
                <a:cubicBezTo>
                  <a:pt x="15935" y="4831"/>
                  <a:pt x="15982" y="4870"/>
                  <a:pt x="16034" y="4921"/>
                </a:cubicBezTo>
                <a:cubicBezTo>
                  <a:pt x="16080" y="4864"/>
                  <a:pt x="16101" y="4807"/>
                  <a:pt x="16129" y="4731"/>
                </a:cubicBezTo>
                <a:cubicBezTo>
                  <a:pt x="16182" y="4586"/>
                  <a:pt x="16188" y="4408"/>
                  <a:pt x="16192" y="4254"/>
                </a:cubicBezTo>
                <a:cubicBezTo>
                  <a:pt x="16192" y="4136"/>
                  <a:pt x="16189" y="4102"/>
                  <a:pt x="16224" y="4032"/>
                </a:cubicBezTo>
                <a:cubicBezTo>
                  <a:pt x="16224" y="4127"/>
                  <a:pt x="16224" y="4159"/>
                  <a:pt x="16224" y="4254"/>
                </a:cubicBezTo>
                <a:cubicBezTo>
                  <a:pt x="16224" y="4413"/>
                  <a:pt x="16253" y="4576"/>
                  <a:pt x="16288" y="4731"/>
                </a:cubicBezTo>
                <a:cubicBezTo>
                  <a:pt x="16323" y="4888"/>
                  <a:pt x="16346" y="5047"/>
                  <a:pt x="16351" y="5207"/>
                </a:cubicBezTo>
                <a:cubicBezTo>
                  <a:pt x="16354" y="5313"/>
                  <a:pt x="16316" y="5466"/>
                  <a:pt x="16256" y="5556"/>
                </a:cubicBezTo>
                <a:cubicBezTo>
                  <a:pt x="16174" y="5679"/>
                  <a:pt x="16064" y="5696"/>
                  <a:pt x="15938" y="5747"/>
                </a:cubicBezTo>
                <a:cubicBezTo>
                  <a:pt x="15858" y="5786"/>
                  <a:pt x="15818" y="5797"/>
                  <a:pt x="15748" y="5778"/>
                </a:cubicBezTo>
              </a:path>
              <a:path w="8098" h="2287">
                <a:moveTo>
                  <a:pt x="16669" y="4191"/>
                </a:moveTo>
                <a:cubicBezTo>
                  <a:pt x="16751" y="4212"/>
                  <a:pt x="16722" y="4207"/>
                  <a:pt x="16796" y="4191"/>
                </a:cubicBezTo>
                <a:cubicBezTo>
                  <a:pt x="16874" y="4174"/>
                  <a:pt x="16973" y="4172"/>
                  <a:pt x="17050" y="4159"/>
                </a:cubicBezTo>
                <a:cubicBezTo>
                  <a:pt x="17127" y="4146"/>
                  <a:pt x="17202" y="4094"/>
                  <a:pt x="17272" y="4128"/>
                </a:cubicBezTo>
                <a:cubicBezTo>
                  <a:pt x="17272" y="4138"/>
                  <a:pt x="17272" y="4149"/>
                  <a:pt x="17272" y="4159"/>
                </a:cubicBezTo>
              </a:path>
              <a:path w="8098" h="2287">
                <a:moveTo>
                  <a:pt x="16605" y="4572"/>
                </a:moveTo>
                <a:cubicBezTo>
                  <a:pt x="16616" y="4583"/>
                  <a:pt x="16626" y="4593"/>
                  <a:pt x="16637" y="4604"/>
                </a:cubicBezTo>
                <a:cubicBezTo>
                  <a:pt x="16697" y="4568"/>
                  <a:pt x="16755" y="4543"/>
                  <a:pt x="16828" y="4540"/>
                </a:cubicBezTo>
                <a:cubicBezTo>
                  <a:pt x="16931" y="4535"/>
                  <a:pt x="17008" y="4508"/>
                  <a:pt x="17113" y="4508"/>
                </a:cubicBezTo>
                <a:cubicBezTo>
                  <a:pt x="17177" y="4508"/>
                  <a:pt x="17198" y="4508"/>
                  <a:pt x="17240" y="4508"/>
                </a:cubicBezTo>
              </a:path>
              <a:path w="8098" h="2287">
                <a:moveTo>
                  <a:pt x="17399" y="3905"/>
                </a:moveTo>
                <a:cubicBezTo>
                  <a:pt x="17515" y="3905"/>
                  <a:pt x="17632" y="3905"/>
                  <a:pt x="17748" y="3905"/>
                </a:cubicBezTo>
              </a:path>
              <a:path w="8098" h="2287">
                <a:moveTo>
                  <a:pt x="17970" y="3778"/>
                </a:moveTo>
                <a:cubicBezTo>
                  <a:pt x="17970" y="3700"/>
                  <a:pt x="17998" y="3653"/>
                  <a:pt x="18034" y="3588"/>
                </a:cubicBezTo>
                <a:cubicBezTo>
                  <a:pt x="18062" y="3538"/>
                  <a:pt x="18153" y="3468"/>
                  <a:pt x="18224" y="3492"/>
                </a:cubicBezTo>
                <a:cubicBezTo>
                  <a:pt x="18307" y="3520"/>
                  <a:pt x="18265" y="3552"/>
                  <a:pt x="18288" y="3620"/>
                </a:cubicBezTo>
                <a:cubicBezTo>
                  <a:pt x="18311" y="3690"/>
                  <a:pt x="18309" y="3823"/>
                  <a:pt x="18288" y="3905"/>
                </a:cubicBezTo>
                <a:cubicBezTo>
                  <a:pt x="18259" y="4019"/>
                  <a:pt x="18199" y="4140"/>
                  <a:pt x="18161" y="4254"/>
                </a:cubicBezTo>
                <a:cubicBezTo>
                  <a:pt x="18128" y="4353"/>
                  <a:pt x="18077" y="4461"/>
                  <a:pt x="18034" y="4540"/>
                </a:cubicBezTo>
                <a:cubicBezTo>
                  <a:pt x="18016" y="4573"/>
                  <a:pt x="17966" y="4609"/>
                  <a:pt x="17939" y="4636"/>
                </a:cubicBezTo>
                <a:cubicBezTo>
                  <a:pt x="17939" y="4578"/>
                  <a:pt x="17943" y="4510"/>
                  <a:pt x="18002" y="4477"/>
                </a:cubicBezTo>
                <a:cubicBezTo>
                  <a:pt x="18051" y="4450"/>
                  <a:pt x="18096" y="4497"/>
                  <a:pt x="18129" y="4508"/>
                </a:cubicBezTo>
                <a:cubicBezTo>
                  <a:pt x="18181" y="4525"/>
                  <a:pt x="18240" y="4524"/>
                  <a:pt x="18288" y="4540"/>
                </a:cubicBezTo>
                <a:cubicBezTo>
                  <a:pt x="18352" y="4561"/>
                  <a:pt x="18399" y="4524"/>
                  <a:pt x="18447" y="4508"/>
                </a:cubicBezTo>
                <a:cubicBezTo>
                  <a:pt x="18489" y="4508"/>
                  <a:pt x="18499" y="4497"/>
                  <a:pt x="18478" y="4445"/>
                </a:cubicBezTo>
              </a:path>
              <a:path w="8098" h="2287">
                <a:moveTo>
                  <a:pt x="18606" y="3746"/>
                </a:moveTo>
                <a:cubicBezTo>
                  <a:pt x="18586" y="3689"/>
                  <a:pt x="18564" y="3699"/>
                  <a:pt x="18606" y="3620"/>
                </a:cubicBezTo>
                <a:cubicBezTo>
                  <a:pt x="18650" y="3536"/>
                  <a:pt x="18668" y="3498"/>
                  <a:pt x="18764" y="3492"/>
                </a:cubicBezTo>
                <a:cubicBezTo>
                  <a:pt x="18855" y="3487"/>
                  <a:pt x="18929" y="3480"/>
                  <a:pt x="18955" y="3588"/>
                </a:cubicBezTo>
                <a:cubicBezTo>
                  <a:pt x="18980" y="3694"/>
                  <a:pt x="18968" y="3741"/>
                  <a:pt x="18955" y="3842"/>
                </a:cubicBezTo>
                <a:cubicBezTo>
                  <a:pt x="18936" y="3987"/>
                  <a:pt x="18907" y="4113"/>
                  <a:pt x="18860" y="4254"/>
                </a:cubicBezTo>
                <a:cubicBezTo>
                  <a:pt x="18826" y="4356"/>
                  <a:pt x="18782" y="4450"/>
                  <a:pt x="18732" y="4540"/>
                </a:cubicBezTo>
                <a:cubicBezTo>
                  <a:pt x="18707" y="4592"/>
                  <a:pt x="18683" y="4613"/>
                  <a:pt x="18732" y="4604"/>
                </a:cubicBezTo>
                <a:cubicBezTo>
                  <a:pt x="18792" y="4528"/>
                  <a:pt x="18813" y="4518"/>
                  <a:pt x="18891" y="4477"/>
                </a:cubicBezTo>
                <a:cubicBezTo>
                  <a:pt x="18957" y="4442"/>
                  <a:pt x="19069" y="4424"/>
                  <a:pt x="19145" y="4445"/>
                </a:cubicBezTo>
                <a:cubicBezTo>
                  <a:pt x="19183" y="4456"/>
                  <a:pt x="19302" y="4523"/>
                  <a:pt x="19336" y="4508"/>
                </a:cubicBezTo>
                <a:cubicBezTo>
                  <a:pt x="19370" y="4493"/>
                  <a:pt x="19401" y="4468"/>
                  <a:pt x="19431" y="4445"/>
                </a:cubicBezTo>
              </a:path>
              <a:path w="8098" h="2287">
                <a:moveTo>
                  <a:pt x="19526" y="3588"/>
                </a:moveTo>
                <a:cubicBezTo>
                  <a:pt x="19468" y="3646"/>
                  <a:pt x="19397" y="3740"/>
                  <a:pt x="19368" y="3810"/>
                </a:cubicBezTo>
                <a:cubicBezTo>
                  <a:pt x="19314" y="3941"/>
                  <a:pt x="19273" y="4144"/>
                  <a:pt x="19304" y="4286"/>
                </a:cubicBezTo>
                <a:cubicBezTo>
                  <a:pt x="19326" y="4388"/>
                  <a:pt x="19408" y="4463"/>
                  <a:pt x="19494" y="4508"/>
                </a:cubicBezTo>
                <a:cubicBezTo>
                  <a:pt x="19600" y="4564"/>
                  <a:pt x="19648" y="4527"/>
                  <a:pt x="19748" y="4477"/>
                </a:cubicBezTo>
                <a:cubicBezTo>
                  <a:pt x="19865" y="4419"/>
                  <a:pt x="19872" y="4313"/>
                  <a:pt x="19876" y="4191"/>
                </a:cubicBezTo>
                <a:cubicBezTo>
                  <a:pt x="19881" y="4029"/>
                  <a:pt x="19884" y="3910"/>
                  <a:pt x="19780" y="3778"/>
                </a:cubicBezTo>
                <a:cubicBezTo>
                  <a:pt x="19691" y="3666"/>
                  <a:pt x="19617" y="3661"/>
                  <a:pt x="19494" y="36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Ink 7"/>
          <p:cNvSpPr/>
          <p:nvPr/>
        </p:nvSpPr>
        <p:spPr>
          <a:xfrm>
            <a:off x="4194000" y="1954080"/>
            <a:ext cx="2630520" cy="984240"/>
          </a:xfrm>
          <a:custGeom>
            <a:avLst/>
            <a:gdLst/>
            <a:ahLst/>
            <a:rect l="l" t="t" r="r" b="b"/>
            <a:pathLst>
              <a:path w="7304" h="2732">
                <a:moveTo>
                  <a:pt x="11684" y="5652"/>
                </a:moveTo>
                <a:cubicBezTo>
                  <a:pt x="11650" y="5601"/>
                  <a:pt x="11708" y="5599"/>
                  <a:pt x="11779" y="5556"/>
                </a:cubicBezTo>
                <a:cubicBezTo>
                  <a:pt x="11820" y="5531"/>
                  <a:pt x="11955" y="5492"/>
                  <a:pt x="12002" y="5524"/>
                </a:cubicBezTo>
                <a:cubicBezTo>
                  <a:pt x="12119" y="5603"/>
                  <a:pt x="12097" y="5720"/>
                  <a:pt x="12097" y="5842"/>
                </a:cubicBezTo>
                <a:cubicBezTo>
                  <a:pt x="12097" y="6008"/>
                  <a:pt x="12029" y="6197"/>
                  <a:pt x="11970" y="6350"/>
                </a:cubicBezTo>
                <a:cubicBezTo>
                  <a:pt x="11918" y="6485"/>
                  <a:pt x="11845" y="6604"/>
                  <a:pt x="11779" y="6731"/>
                </a:cubicBezTo>
                <a:cubicBezTo>
                  <a:pt x="11769" y="6752"/>
                  <a:pt x="11758" y="6773"/>
                  <a:pt x="11748" y="6794"/>
                </a:cubicBezTo>
                <a:cubicBezTo>
                  <a:pt x="11767" y="6718"/>
                  <a:pt x="11798" y="6731"/>
                  <a:pt x="11874" y="6731"/>
                </a:cubicBezTo>
                <a:cubicBezTo>
                  <a:pt x="11943" y="6731"/>
                  <a:pt x="11980" y="6746"/>
                  <a:pt x="12033" y="6794"/>
                </a:cubicBezTo>
                <a:cubicBezTo>
                  <a:pt x="12086" y="6842"/>
                  <a:pt x="12116" y="6882"/>
                  <a:pt x="12192" y="6890"/>
                </a:cubicBezTo>
                <a:cubicBezTo>
                  <a:pt x="12245" y="6895"/>
                  <a:pt x="12247" y="6889"/>
                  <a:pt x="12287" y="6858"/>
                </a:cubicBezTo>
              </a:path>
              <a:path w="7304" h="2732">
                <a:moveTo>
                  <a:pt x="12510" y="5652"/>
                </a:moveTo>
                <a:cubicBezTo>
                  <a:pt x="12499" y="5652"/>
                  <a:pt x="12489" y="5652"/>
                  <a:pt x="12478" y="5652"/>
                </a:cubicBezTo>
              </a:path>
              <a:path w="7304" h="2732">
                <a:moveTo>
                  <a:pt x="12510" y="5652"/>
                </a:moveTo>
                <a:lnTo>
                  <a:pt x="12510" y="5652"/>
                </a:lnTo>
              </a:path>
              <a:path w="7304" h="2732">
                <a:moveTo>
                  <a:pt x="12446" y="5683"/>
                </a:moveTo>
                <a:cubicBezTo>
                  <a:pt x="12425" y="5810"/>
                  <a:pt x="12379" y="5937"/>
                  <a:pt x="12351" y="6064"/>
                </a:cubicBezTo>
                <a:cubicBezTo>
                  <a:pt x="12308" y="6260"/>
                  <a:pt x="12306" y="6443"/>
                  <a:pt x="12351" y="6636"/>
                </a:cubicBezTo>
                <a:cubicBezTo>
                  <a:pt x="12376" y="6745"/>
                  <a:pt x="12398" y="6875"/>
                  <a:pt x="12510" y="6922"/>
                </a:cubicBezTo>
                <a:cubicBezTo>
                  <a:pt x="12553" y="6940"/>
                  <a:pt x="12668" y="6925"/>
                  <a:pt x="12700" y="6890"/>
                </a:cubicBezTo>
                <a:cubicBezTo>
                  <a:pt x="12767" y="6817"/>
                  <a:pt x="12785" y="6663"/>
                  <a:pt x="12795" y="6572"/>
                </a:cubicBezTo>
                <a:cubicBezTo>
                  <a:pt x="12812" y="6415"/>
                  <a:pt x="12766" y="6217"/>
                  <a:pt x="12732" y="6064"/>
                </a:cubicBezTo>
                <a:cubicBezTo>
                  <a:pt x="12708" y="5955"/>
                  <a:pt x="12650" y="5824"/>
                  <a:pt x="12541" y="5778"/>
                </a:cubicBezTo>
                <a:cubicBezTo>
                  <a:pt x="12508" y="5764"/>
                  <a:pt x="12451" y="5778"/>
                  <a:pt x="12414" y="5778"/>
                </a:cubicBezTo>
              </a:path>
              <a:path w="7304" h="2732">
                <a:moveTo>
                  <a:pt x="12986" y="5683"/>
                </a:moveTo>
                <a:cubicBezTo>
                  <a:pt x="13008" y="5771"/>
                  <a:pt x="13050" y="5873"/>
                  <a:pt x="13081" y="5969"/>
                </a:cubicBezTo>
                <a:cubicBezTo>
                  <a:pt x="13134" y="6131"/>
                  <a:pt x="13178" y="6287"/>
                  <a:pt x="13240" y="6445"/>
                </a:cubicBezTo>
                <a:cubicBezTo>
                  <a:pt x="13281" y="6550"/>
                  <a:pt x="13374" y="6653"/>
                  <a:pt x="13398" y="6763"/>
                </a:cubicBezTo>
                <a:cubicBezTo>
                  <a:pt x="13413" y="6829"/>
                  <a:pt x="13406" y="6871"/>
                  <a:pt x="13462" y="6890"/>
                </a:cubicBezTo>
              </a:path>
              <a:path w="7304" h="2732">
                <a:moveTo>
                  <a:pt x="13398" y="5874"/>
                </a:moveTo>
                <a:cubicBezTo>
                  <a:pt x="13363" y="5886"/>
                  <a:pt x="13291" y="6016"/>
                  <a:pt x="13272" y="6064"/>
                </a:cubicBezTo>
                <a:cubicBezTo>
                  <a:pt x="13195" y="6263"/>
                  <a:pt x="13144" y="6465"/>
                  <a:pt x="13081" y="6668"/>
                </a:cubicBezTo>
                <a:cubicBezTo>
                  <a:pt x="13021" y="6862"/>
                  <a:pt x="12951" y="7046"/>
                  <a:pt x="12890" y="7239"/>
                </a:cubicBezTo>
              </a:path>
              <a:path w="7304" h="2732">
                <a:moveTo>
                  <a:pt x="14097" y="5778"/>
                </a:moveTo>
                <a:cubicBezTo>
                  <a:pt x="14097" y="6015"/>
                  <a:pt x="14111" y="6243"/>
                  <a:pt x="14129" y="6477"/>
                </a:cubicBezTo>
                <a:cubicBezTo>
                  <a:pt x="14143" y="6655"/>
                  <a:pt x="14129" y="6838"/>
                  <a:pt x="14129" y="7017"/>
                </a:cubicBezTo>
              </a:path>
              <a:path w="7304" h="2732">
                <a:moveTo>
                  <a:pt x="13906" y="6509"/>
                </a:moveTo>
                <a:cubicBezTo>
                  <a:pt x="13962" y="6550"/>
                  <a:pt x="13992" y="6540"/>
                  <a:pt x="14065" y="6540"/>
                </a:cubicBezTo>
                <a:cubicBezTo>
                  <a:pt x="14158" y="6540"/>
                  <a:pt x="14232" y="6488"/>
                  <a:pt x="14319" y="6477"/>
                </a:cubicBezTo>
                <a:cubicBezTo>
                  <a:pt x="14418" y="6464"/>
                  <a:pt x="14451" y="6458"/>
                  <a:pt x="14542" y="6414"/>
                </a:cubicBezTo>
              </a:path>
              <a:path w="7304" h="2732">
                <a:moveTo>
                  <a:pt x="14891" y="5588"/>
                </a:moveTo>
                <a:cubicBezTo>
                  <a:pt x="14846" y="5711"/>
                  <a:pt x="14820" y="5811"/>
                  <a:pt x="14796" y="5937"/>
                </a:cubicBezTo>
                <a:cubicBezTo>
                  <a:pt x="14764" y="6109"/>
                  <a:pt x="14764" y="6269"/>
                  <a:pt x="14764" y="6445"/>
                </a:cubicBezTo>
                <a:cubicBezTo>
                  <a:pt x="14764" y="6576"/>
                  <a:pt x="14769" y="6647"/>
                  <a:pt x="14827" y="6763"/>
                </a:cubicBezTo>
                <a:cubicBezTo>
                  <a:pt x="14855" y="6819"/>
                  <a:pt x="14941" y="6911"/>
                  <a:pt x="15018" y="6890"/>
                </a:cubicBezTo>
                <a:cubicBezTo>
                  <a:pt x="15130" y="6860"/>
                  <a:pt x="15180" y="6838"/>
                  <a:pt x="15240" y="6731"/>
                </a:cubicBezTo>
                <a:cubicBezTo>
                  <a:pt x="15301" y="6622"/>
                  <a:pt x="15304" y="6535"/>
                  <a:pt x="15304" y="6414"/>
                </a:cubicBezTo>
                <a:cubicBezTo>
                  <a:pt x="15304" y="6341"/>
                  <a:pt x="15296" y="6204"/>
                  <a:pt x="15208" y="6191"/>
                </a:cubicBezTo>
                <a:cubicBezTo>
                  <a:pt x="15125" y="6179"/>
                  <a:pt x="15036" y="6269"/>
                  <a:pt x="15018" y="6350"/>
                </a:cubicBezTo>
                <a:cubicBezTo>
                  <a:pt x="14989" y="6484"/>
                  <a:pt x="14986" y="6624"/>
                  <a:pt x="14986" y="6763"/>
                </a:cubicBezTo>
                <a:cubicBezTo>
                  <a:pt x="14986" y="6838"/>
                  <a:pt x="14987" y="6933"/>
                  <a:pt x="15050" y="6953"/>
                </a:cubicBezTo>
              </a:path>
              <a:path w="7304" h="2732">
                <a:moveTo>
                  <a:pt x="15494" y="6001"/>
                </a:moveTo>
                <a:cubicBezTo>
                  <a:pt x="15494" y="6231"/>
                  <a:pt x="15465" y="6479"/>
                  <a:pt x="15526" y="6699"/>
                </a:cubicBezTo>
                <a:cubicBezTo>
                  <a:pt x="15553" y="6796"/>
                  <a:pt x="15585" y="6854"/>
                  <a:pt x="15653" y="6922"/>
                </a:cubicBezTo>
                <a:cubicBezTo>
                  <a:pt x="15699" y="6882"/>
                  <a:pt x="15733" y="6882"/>
                  <a:pt x="15748" y="6794"/>
                </a:cubicBezTo>
                <a:cubicBezTo>
                  <a:pt x="15775" y="6642"/>
                  <a:pt x="15799" y="6472"/>
                  <a:pt x="15812" y="6318"/>
                </a:cubicBezTo>
                <a:cubicBezTo>
                  <a:pt x="15820" y="6225"/>
                  <a:pt x="15812" y="6126"/>
                  <a:pt x="15812" y="6032"/>
                </a:cubicBezTo>
                <a:cubicBezTo>
                  <a:pt x="15789" y="6123"/>
                  <a:pt x="15761" y="6218"/>
                  <a:pt x="15780" y="6318"/>
                </a:cubicBezTo>
                <a:cubicBezTo>
                  <a:pt x="15810" y="6477"/>
                  <a:pt x="15808" y="6634"/>
                  <a:pt x="15843" y="6794"/>
                </a:cubicBezTo>
                <a:cubicBezTo>
                  <a:pt x="15880" y="6960"/>
                  <a:pt x="15923" y="7163"/>
                  <a:pt x="15907" y="7334"/>
                </a:cubicBezTo>
                <a:cubicBezTo>
                  <a:pt x="15890" y="7509"/>
                  <a:pt x="15884" y="7742"/>
                  <a:pt x="15812" y="7906"/>
                </a:cubicBezTo>
                <a:cubicBezTo>
                  <a:pt x="15766" y="8011"/>
                  <a:pt x="15712" y="8132"/>
                  <a:pt x="15589" y="8160"/>
                </a:cubicBezTo>
                <a:cubicBezTo>
                  <a:pt x="15463" y="8188"/>
                  <a:pt x="15416" y="8114"/>
                  <a:pt x="15335" y="8033"/>
                </a:cubicBezTo>
              </a:path>
              <a:path w="7304" h="2732">
                <a:moveTo>
                  <a:pt x="16288" y="6350"/>
                </a:moveTo>
                <a:cubicBezTo>
                  <a:pt x="16382" y="6350"/>
                  <a:pt x="16454" y="6333"/>
                  <a:pt x="16542" y="6318"/>
                </a:cubicBezTo>
                <a:cubicBezTo>
                  <a:pt x="16662" y="6298"/>
                  <a:pt x="16800" y="6318"/>
                  <a:pt x="16923" y="6318"/>
                </a:cubicBezTo>
              </a:path>
              <a:path w="7304" h="2732">
                <a:moveTo>
                  <a:pt x="16446" y="6731"/>
                </a:moveTo>
                <a:cubicBezTo>
                  <a:pt x="16504" y="6717"/>
                  <a:pt x="16536" y="6699"/>
                  <a:pt x="16605" y="6699"/>
                </a:cubicBezTo>
                <a:cubicBezTo>
                  <a:pt x="16730" y="6699"/>
                  <a:pt x="16833" y="6698"/>
                  <a:pt x="16954" y="6731"/>
                </a:cubicBezTo>
              </a:path>
              <a:path w="7304" h="2732">
                <a:moveTo>
                  <a:pt x="17558" y="5588"/>
                </a:moveTo>
                <a:cubicBezTo>
                  <a:pt x="17558" y="5577"/>
                  <a:pt x="17558" y="5567"/>
                  <a:pt x="17558" y="5556"/>
                </a:cubicBezTo>
              </a:path>
              <a:path w="7304" h="2732">
                <a:moveTo>
                  <a:pt x="17558" y="5588"/>
                </a:moveTo>
                <a:lnTo>
                  <a:pt x="17558" y="5588"/>
                </a:lnTo>
              </a:path>
              <a:path w="7304" h="2732">
                <a:moveTo>
                  <a:pt x="17558" y="5652"/>
                </a:moveTo>
                <a:cubicBezTo>
                  <a:pt x="17558" y="5767"/>
                  <a:pt x="17557" y="5893"/>
                  <a:pt x="17526" y="6001"/>
                </a:cubicBezTo>
                <a:cubicBezTo>
                  <a:pt x="17503" y="6082"/>
                  <a:pt x="17496" y="6185"/>
                  <a:pt x="17462" y="6255"/>
                </a:cubicBezTo>
                <a:cubicBezTo>
                  <a:pt x="17453" y="6272"/>
                  <a:pt x="17390" y="6378"/>
                  <a:pt x="17431" y="6318"/>
                </a:cubicBezTo>
                <a:cubicBezTo>
                  <a:pt x="17469" y="6263"/>
                  <a:pt x="17477" y="6256"/>
                  <a:pt x="17526" y="6223"/>
                </a:cubicBezTo>
                <a:cubicBezTo>
                  <a:pt x="17605" y="6170"/>
                  <a:pt x="17578" y="6207"/>
                  <a:pt x="17653" y="6223"/>
                </a:cubicBezTo>
                <a:cubicBezTo>
                  <a:pt x="17726" y="6239"/>
                  <a:pt x="17768" y="6267"/>
                  <a:pt x="17844" y="6286"/>
                </a:cubicBezTo>
                <a:cubicBezTo>
                  <a:pt x="17923" y="6305"/>
                  <a:pt x="17924" y="6309"/>
                  <a:pt x="18002" y="6286"/>
                </a:cubicBezTo>
                <a:cubicBezTo>
                  <a:pt x="18030" y="6277"/>
                  <a:pt x="18118" y="6260"/>
                  <a:pt x="18129" y="6223"/>
                </a:cubicBezTo>
                <a:cubicBezTo>
                  <a:pt x="18129" y="6202"/>
                  <a:pt x="18129" y="6181"/>
                  <a:pt x="18129" y="6160"/>
                </a:cubicBezTo>
              </a:path>
              <a:path w="7304" h="2732">
                <a:moveTo>
                  <a:pt x="18034" y="5461"/>
                </a:moveTo>
                <a:cubicBezTo>
                  <a:pt x="18034" y="5948"/>
                  <a:pt x="18034" y="7345"/>
                  <a:pt x="18034" y="6858"/>
                </a:cubicBezTo>
              </a:path>
              <a:path w="7304" h="2732">
                <a:moveTo>
                  <a:pt x="18352" y="5556"/>
                </a:moveTo>
                <a:cubicBezTo>
                  <a:pt x="18404" y="5645"/>
                  <a:pt x="18355" y="5707"/>
                  <a:pt x="18352" y="5810"/>
                </a:cubicBezTo>
                <a:cubicBezTo>
                  <a:pt x="18347" y="5948"/>
                  <a:pt x="18312" y="6056"/>
                  <a:pt x="18288" y="6191"/>
                </a:cubicBezTo>
                <a:cubicBezTo>
                  <a:pt x="18281" y="6231"/>
                  <a:pt x="18288" y="6277"/>
                  <a:pt x="18288" y="6318"/>
                </a:cubicBezTo>
                <a:cubicBezTo>
                  <a:pt x="18348" y="6303"/>
                  <a:pt x="18389" y="6235"/>
                  <a:pt x="18447" y="6223"/>
                </a:cubicBezTo>
                <a:cubicBezTo>
                  <a:pt x="18543" y="6202"/>
                  <a:pt x="18645" y="6235"/>
                  <a:pt x="18732" y="6255"/>
                </a:cubicBezTo>
                <a:cubicBezTo>
                  <a:pt x="18796" y="6270"/>
                  <a:pt x="18843" y="6238"/>
                  <a:pt x="18891" y="6223"/>
                </a:cubicBezTo>
                <a:cubicBezTo>
                  <a:pt x="18946" y="6206"/>
                  <a:pt x="18944" y="6184"/>
                  <a:pt x="18955" y="6128"/>
                </a:cubicBezTo>
              </a:path>
              <a:path w="7304" h="2732">
                <a:moveTo>
                  <a:pt x="18764" y="5429"/>
                </a:moveTo>
                <a:cubicBezTo>
                  <a:pt x="18743" y="5511"/>
                  <a:pt x="18746" y="5590"/>
                  <a:pt x="18732" y="5683"/>
                </a:cubicBezTo>
                <a:cubicBezTo>
                  <a:pt x="18704" y="5866"/>
                  <a:pt x="18701" y="6036"/>
                  <a:pt x="18701" y="6223"/>
                </a:cubicBezTo>
                <a:cubicBezTo>
                  <a:pt x="18701" y="6461"/>
                  <a:pt x="18714" y="6688"/>
                  <a:pt x="18732" y="6922"/>
                </a:cubicBezTo>
                <a:cubicBezTo>
                  <a:pt x="18732" y="6964"/>
                  <a:pt x="18732" y="7006"/>
                  <a:pt x="18732" y="70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Ink 8"/>
          <p:cNvSpPr/>
          <p:nvPr/>
        </p:nvSpPr>
        <p:spPr>
          <a:xfrm>
            <a:off x="399960" y="708120"/>
            <a:ext cx="3611520" cy="1692360"/>
          </a:xfrm>
          <a:custGeom>
            <a:avLst/>
            <a:gdLst/>
            <a:ahLst/>
            <a:rect l="l" t="t" r="r" b="b"/>
            <a:pathLst>
              <a:path w="10034" h="4701">
                <a:moveTo>
                  <a:pt x="8509" y="3238"/>
                </a:moveTo>
                <a:cubicBezTo>
                  <a:pt x="8583" y="3257"/>
                  <a:pt x="8607" y="3273"/>
                  <a:pt x="8668" y="3334"/>
                </a:cubicBezTo>
                <a:cubicBezTo>
                  <a:pt x="8747" y="3413"/>
                  <a:pt x="8823" y="3499"/>
                  <a:pt x="8890" y="3588"/>
                </a:cubicBezTo>
                <a:cubicBezTo>
                  <a:pt x="8973" y="3697"/>
                  <a:pt x="9033" y="3841"/>
                  <a:pt x="9080" y="3969"/>
                </a:cubicBezTo>
                <a:cubicBezTo>
                  <a:pt x="9134" y="4115"/>
                  <a:pt x="9122" y="4266"/>
                  <a:pt x="9080" y="4413"/>
                </a:cubicBezTo>
                <a:cubicBezTo>
                  <a:pt x="9044" y="4541"/>
                  <a:pt x="8992" y="4650"/>
                  <a:pt x="8922" y="4762"/>
                </a:cubicBezTo>
                <a:cubicBezTo>
                  <a:pt x="8871" y="4843"/>
                  <a:pt x="8830" y="4918"/>
                  <a:pt x="8763" y="4985"/>
                </a:cubicBezTo>
              </a:path>
              <a:path w="10034" h="4701">
                <a:moveTo>
                  <a:pt x="8700" y="5048"/>
                </a:moveTo>
                <a:cubicBezTo>
                  <a:pt x="8700" y="4992"/>
                  <a:pt x="8755" y="5069"/>
                  <a:pt x="8795" y="5112"/>
                </a:cubicBezTo>
                <a:cubicBezTo>
                  <a:pt x="8883" y="5206"/>
                  <a:pt x="8950" y="5292"/>
                  <a:pt x="9017" y="5398"/>
                </a:cubicBezTo>
                <a:cubicBezTo>
                  <a:pt x="9070" y="5482"/>
                  <a:pt x="9098" y="5705"/>
                  <a:pt x="9112" y="5810"/>
                </a:cubicBezTo>
                <a:cubicBezTo>
                  <a:pt x="9129" y="5936"/>
                  <a:pt x="9115" y="6071"/>
                  <a:pt x="9080" y="6191"/>
                </a:cubicBezTo>
                <a:cubicBezTo>
                  <a:pt x="9041" y="6325"/>
                  <a:pt x="9002" y="6448"/>
                  <a:pt x="8890" y="6540"/>
                </a:cubicBezTo>
                <a:cubicBezTo>
                  <a:pt x="8809" y="6607"/>
                  <a:pt x="8732" y="6633"/>
                  <a:pt x="8636" y="6668"/>
                </a:cubicBezTo>
              </a:path>
              <a:path w="10034" h="4701">
                <a:moveTo>
                  <a:pt x="1270" y="3524"/>
                </a:moveTo>
                <a:cubicBezTo>
                  <a:pt x="1249" y="3503"/>
                  <a:pt x="1201" y="3507"/>
                  <a:pt x="1206" y="3461"/>
                </a:cubicBezTo>
                <a:cubicBezTo>
                  <a:pt x="1210" y="3421"/>
                  <a:pt x="1273" y="3334"/>
                  <a:pt x="1302" y="3302"/>
                </a:cubicBezTo>
                <a:cubicBezTo>
                  <a:pt x="1355" y="3244"/>
                  <a:pt x="1433" y="3223"/>
                  <a:pt x="1492" y="3175"/>
                </a:cubicBezTo>
                <a:cubicBezTo>
                  <a:pt x="1578" y="3105"/>
                  <a:pt x="1682" y="3032"/>
                  <a:pt x="1778" y="2984"/>
                </a:cubicBezTo>
                <a:cubicBezTo>
                  <a:pt x="1853" y="2947"/>
                  <a:pt x="2042" y="2882"/>
                  <a:pt x="2127" y="2889"/>
                </a:cubicBezTo>
                <a:cubicBezTo>
                  <a:pt x="2215" y="2896"/>
                  <a:pt x="2362" y="2930"/>
                  <a:pt x="2445" y="2953"/>
                </a:cubicBezTo>
                <a:cubicBezTo>
                  <a:pt x="2541" y="2980"/>
                  <a:pt x="2642" y="3063"/>
                  <a:pt x="2699" y="3143"/>
                </a:cubicBezTo>
                <a:cubicBezTo>
                  <a:pt x="2759" y="3226"/>
                  <a:pt x="2788" y="3341"/>
                  <a:pt x="2826" y="3429"/>
                </a:cubicBezTo>
                <a:cubicBezTo>
                  <a:pt x="2851" y="3487"/>
                  <a:pt x="2867" y="3537"/>
                  <a:pt x="2889" y="3588"/>
                </a:cubicBezTo>
              </a:path>
              <a:path w="10034" h="4701">
                <a:moveTo>
                  <a:pt x="1175" y="3080"/>
                </a:moveTo>
                <a:cubicBezTo>
                  <a:pt x="1244" y="3011"/>
                  <a:pt x="1294" y="2946"/>
                  <a:pt x="1365" y="2889"/>
                </a:cubicBezTo>
                <a:cubicBezTo>
                  <a:pt x="1474" y="2801"/>
                  <a:pt x="1614" y="2771"/>
                  <a:pt x="1746" y="2730"/>
                </a:cubicBezTo>
                <a:cubicBezTo>
                  <a:pt x="1899" y="2683"/>
                  <a:pt x="2038" y="2615"/>
                  <a:pt x="2191" y="2572"/>
                </a:cubicBezTo>
                <a:cubicBezTo>
                  <a:pt x="2364" y="2524"/>
                  <a:pt x="2583" y="2493"/>
                  <a:pt x="2762" y="2476"/>
                </a:cubicBezTo>
                <a:cubicBezTo>
                  <a:pt x="2961" y="2457"/>
                  <a:pt x="3171" y="2472"/>
                  <a:pt x="3366" y="2508"/>
                </a:cubicBezTo>
                <a:cubicBezTo>
                  <a:pt x="3568" y="2545"/>
                  <a:pt x="3769" y="2589"/>
                  <a:pt x="3969" y="2635"/>
                </a:cubicBezTo>
                <a:cubicBezTo>
                  <a:pt x="4169" y="2681"/>
                  <a:pt x="4305" y="2788"/>
                  <a:pt x="4477" y="2889"/>
                </a:cubicBezTo>
                <a:cubicBezTo>
                  <a:pt x="4621" y="2973"/>
                  <a:pt x="4752" y="3073"/>
                  <a:pt x="4858" y="3207"/>
                </a:cubicBezTo>
                <a:cubicBezTo>
                  <a:pt x="4946" y="3318"/>
                  <a:pt x="5012" y="3439"/>
                  <a:pt x="5080" y="3556"/>
                </a:cubicBezTo>
                <a:cubicBezTo>
                  <a:pt x="5116" y="3619"/>
                  <a:pt x="5177" y="3683"/>
                  <a:pt x="5207" y="3746"/>
                </a:cubicBezTo>
                <a:cubicBezTo>
                  <a:pt x="5207" y="3757"/>
                  <a:pt x="5207" y="3767"/>
                  <a:pt x="5207" y="3778"/>
                </a:cubicBezTo>
              </a:path>
              <a:path w="10034" h="4701">
                <a:moveTo>
                  <a:pt x="1111" y="2826"/>
                </a:moveTo>
                <a:cubicBezTo>
                  <a:pt x="1166" y="2779"/>
                  <a:pt x="1178" y="2740"/>
                  <a:pt x="1238" y="2699"/>
                </a:cubicBezTo>
                <a:cubicBezTo>
                  <a:pt x="1313" y="2648"/>
                  <a:pt x="1413" y="2585"/>
                  <a:pt x="1492" y="2540"/>
                </a:cubicBezTo>
                <a:cubicBezTo>
                  <a:pt x="1670" y="2439"/>
                  <a:pt x="1841" y="2388"/>
                  <a:pt x="2032" y="2318"/>
                </a:cubicBezTo>
                <a:cubicBezTo>
                  <a:pt x="2229" y="2246"/>
                  <a:pt x="2434" y="2180"/>
                  <a:pt x="2635" y="2127"/>
                </a:cubicBezTo>
                <a:cubicBezTo>
                  <a:pt x="2998" y="2031"/>
                  <a:pt x="3404" y="1975"/>
                  <a:pt x="3778" y="1968"/>
                </a:cubicBezTo>
                <a:cubicBezTo>
                  <a:pt x="4042" y="1963"/>
                  <a:pt x="4280" y="1992"/>
                  <a:pt x="4540" y="2032"/>
                </a:cubicBezTo>
                <a:cubicBezTo>
                  <a:pt x="4829" y="2076"/>
                  <a:pt x="5112" y="2141"/>
                  <a:pt x="5398" y="2191"/>
                </a:cubicBezTo>
                <a:cubicBezTo>
                  <a:pt x="5702" y="2244"/>
                  <a:pt x="6025" y="2279"/>
                  <a:pt x="6318" y="2381"/>
                </a:cubicBezTo>
                <a:cubicBezTo>
                  <a:pt x="6601" y="2480"/>
                  <a:pt x="6871" y="2609"/>
                  <a:pt x="7144" y="2730"/>
                </a:cubicBezTo>
                <a:cubicBezTo>
                  <a:pt x="7360" y="2825"/>
                  <a:pt x="7505" y="2965"/>
                  <a:pt x="7684" y="3112"/>
                </a:cubicBezTo>
                <a:cubicBezTo>
                  <a:pt x="7819" y="3223"/>
                  <a:pt x="7963" y="3377"/>
                  <a:pt x="8064" y="3524"/>
                </a:cubicBezTo>
                <a:cubicBezTo>
                  <a:pt x="8111" y="3592"/>
                  <a:pt x="8125" y="3673"/>
                  <a:pt x="8160" y="3746"/>
                </a:cubicBezTo>
              </a:path>
              <a:path w="10034" h="4701">
                <a:moveTo>
                  <a:pt x="10986" y="6382"/>
                </a:moveTo>
                <a:cubicBezTo>
                  <a:pt x="10949" y="6419"/>
                  <a:pt x="10904" y="6462"/>
                  <a:pt x="10858" y="6477"/>
                </a:cubicBezTo>
                <a:cubicBezTo>
                  <a:pt x="10815" y="6492"/>
                  <a:pt x="10710" y="6502"/>
                  <a:pt x="10668" y="6509"/>
                </a:cubicBezTo>
                <a:cubicBezTo>
                  <a:pt x="10407" y="6555"/>
                  <a:pt x="9673" y="6509"/>
                  <a:pt x="9938" y="6509"/>
                </a:cubicBezTo>
                <a:cubicBezTo>
                  <a:pt x="10008" y="6456"/>
                  <a:pt x="10012" y="6503"/>
                  <a:pt x="10096" y="6509"/>
                </a:cubicBezTo>
                <a:cubicBezTo>
                  <a:pt x="10330" y="6525"/>
                  <a:pt x="10568" y="6510"/>
                  <a:pt x="10795" y="6477"/>
                </a:cubicBezTo>
                <a:cubicBezTo>
                  <a:pt x="10869" y="6466"/>
                  <a:pt x="11145" y="6477"/>
                  <a:pt x="11112" y="6477"/>
                </a:cubicBezTo>
                <a:cubicBezTo>
                  <a:pt x="11081" y="6524"/>
                  <a:pt x="11026" y="6509"/>
                  <a:pt x="10954" y="6509"/>
                </a:cubicBezTo>
                <a:cubicBezTo>
                  <a:pt x="10842" y="6509"/>
                  <a:pt x="10744" y="6559"/>
                  <a:pt x="10636" y="6572"/>
                </a:cubicBezTo>
                <a:cubicBezTo>
                  <a:pt x="10498" y="6588"/>
                  <a:pt x="10361" y="6621"/>
                  <a:pt x="10224" y="6636"/>
                </a:cubicBezTo>
                <a:cubicBezTo>
                  <a:pt x="10145" y="6644"/>
                  <a:pt x="9858" y="6596"/>
                  <a:pt x="9906" y="66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Ink 9"/>
          <p:cNvSpPr/>
          <p:nvPr/>
        </p:nvSpPr>
        <p:spPr>
          <a:xfrm>
            <a:off x="5086440" y="2778120"/>
            <a:ext cx="2160360" cy="1519200"/>
          </a:xfrm>
          <a:custGeom>
            <a:avLst/>
            <a:gdLst/>
            <a:ahLst/>
            <a:rect l="l" t="t" r="r" b="b"/>
            <a:pathLst>
              <a:path w="6002" h="4224">
                <a:moveTo>
                  <a:pt x="14351" y="8287"/>
                </a:moveTo>
                <a:cubicBezTo>
                  <a:pt x="14351" y="8400"/>
                  <a:pt x="14334" y="8494"/>
                  <a:pt x="14319" y="8604"/>
                </a:cubicBezTo>
                <a:cubicBezTo>
                  <a:pt x="14305" y="8710"/>
                  <a:pt x="14303" y="8817"/>
                  <a:pt x="14288" y="8922"/>
                </a:cubicBezTo>
                <a:cubicBezTo>
                  <a:pt x="14279" y="8989"/>
                  <a:pt x="14267" y="9158"/>
                  <a:pt x="14319" y="9176"/>
                </a:cubicBezTo>
                <a:cubicBezTo>
                  <a:pt x="14376" y="9157"/>
                  <a:pt x="14365" y="9121"/>
                  <a:pt x="14446" y="9080"/>
                </a:cubicBezTo>
                <a:cubicBezTo>
                  <a:pt x="14590" y="9007"/>
                  <a:pt x="14790" y="9167"/>
                  <a:pt x="14891" y="9017"/>
                </a:cubicBezTo>
              </a:path>
              <a:path w="6002" h="4224">
                <a:moveTo>
                  <a:pt x="14732" y="8128"/>
                </a:moveTo>
                <a:cubicBezTo>
                  <a:pt x="14732" y="8690"/>
                  <a:pt x="14737" y="9253"/>
                  <a:pt x="14700" y="9811"/>
                </a:cubicBezTo>
                <a:cubicBezTo>
                  <a:pt x="14698" y="9843"/>
                  <a:pt x="14700" y="10299"/>
                  <a:pt x="14700" y="10128"/>
                </a:cubicBezTo>
              </a:path>
              <a:path w="6002" h="4224">
                <a:moveTo>
                  <a:pt x="14922" y="8414"/>
                </a:moveTo>
                <a:cubicBezTo>
                  <a:pt x="14922" y="8610"/>
                  <a:pt x="14916" y="8795"/>
                  <a:pt x="14891" y="8985"/>
                </a:cubicBezTo>
                <a:cubicBezTo>
                  <a:pt x="14880" y="9067"/>
                  <a:pt x="14891" y="9156"/>
                  <a:pt x="14891" y="9239"/>
                </a:cubicBezTo>
                <a:cubicBezTo>
                  <a:pt x="14941" y="9202"/>
                  <a:pt x="15002" y="9209"/>
                  <a:pt x="15050" y="9176"/>
                </a:cubicBezTo>
                <a:cubicBezTo>
                  <a:pt x="15106" y="9138"/>
                  <a:pt x="15134" y="9144"/>
                  <a:pt x="15208" y="9144"/>
                </a:cubicBezTo>
                <a:cubicBezTo>
                  <a:pt x="15308" y="9144"/>
                  <a:pt x="15383" y="9178"/>
                  <a:pt x="15399" y="9080"/>
                </a:cubicBezTo>
              </a:path>
              <a:path w="6002" h="4224">
                <a:moveTo>
                  <a:pt x="15272" y="8128"/>
                </a:moveTo>
                <a:cubicBezTo>
                  <a:pt x="15245" y="8208"/>
                  <a:pt x="15272" y="8339"/>
                  <a:pt x="15272" y="8446"/>
                </a:cubicBezTo>
                <a:cubicBezTo>
                  <a:pt x="15272" y="8640"/>
                  <a:pt x="15283" y="8856"/>
                  <a:pt x="15304" y="9049"/>
                </a:cubicBezTo>
                <a:cubicBezTo>
                  <a:pt x="15326" y="9253"/>
                  <a:pt x="15335" y="9446"/>
                  <a:pt x="15335" y="9652"/>
                </a:cubicBezTo>
                <a:cubicBezTo>
                  <a:pt x="15335" y="9775"/>
                  <a:pt x="15304" y="9879"/>
                  <a:pt x="15304" y="10001"/>
                </a:cubicBezTo>
              </a:path>
              <a:path w="6002" h="4224">
                <a:moveTo>
                  <a:pt x="15430" y="8826"/>
                </a:moveTo>
                <a:cubicBezTo>
                  <a:pt x="15453" y="8894"/>
                  <a:pt x="15518" y="9001"/>
                  <a:pt x="15526" y="9080"/>
                </a:cubicBezTo>
                <a:cubicBezTo>
                  <a:pt x="15547" y="9283"/>
                  <a:pt x="15539" y="9484"/>
                  <a:pt x="15589" y="9684"/>
                </a:cubicBezTo>
                <a:cubicBezTo>
                  <a:pt x="15617" y="9796"/>
                  <a:pt x="15626" y="9849"/>
                  <a:pt x="15684" y="9938"/>
                </a:cubicBezTo>
                <a:cubicBezTo>
                  <a:pt x="15752" y="9881"/>
                  <a:pt x="15750" y="9862"/>
                  <a:pt x="15780" y="9747"/>
                </a:cubicBezTo>
                <a:cubicBezTo>
                  <a:pt x="15827" y="9564"/>
                  <a:pt x="15838" y="9364"/>
                  <a:pt x="15843" y="9176"/>
                </a:cubicBezTo>
                <a:cubicBezTo>
                  <a:pt x="15846" y="9041"/>
                  <a:pt x="15860" y="8925"/>
                  <a:pt x="15875" y="8795"/>
                </a:cubicBezTo>
                <a:cubicBezTo>
                  <a:pt x="15835" y="8874"/>
                  <a:pt x="15869" y="8897"/>
                  <a:pt x="15875" y="8985"/>
                </a:cubicBezTo>
                <a:cubicBezTo>
                  <a:pt x="15888" y="9177"/>
                  <a:pt x="15885" y="9366"/>
                  <a:pt x="15907" y="9557"/>
                </a:cubicBezTo>
                <a:cubicBezTo>
                  <a:pt x="15935" y="9801"/>
                  <a:pt x="15975" y="10044"/>
                  <a:pt x="16002" y="10287"/>
                </a:cubicBezTo>
                <a:cubicBezTo>
                  <a:pt x="16027" y="10513"/>
                  <a:pt x="16034" y="10726"/>
                  <a:pt x="16034" y="10954"/>
                </a:cubicBezTo>
                <a:cubicBezTo>
                  <a:pt x="16034" y="11103"/>
                  <a:pt x="16003" y="11205"/>
                  <a:pt x="15938" y="11335"/>
                </a:cubicBezTo>
                <a:cubicBezTo>
                  <a:pt x="15831" y="11311"/>
                  <a:pt x="15797" y="11312"/>
                  <a:pt x="15716" y="11208"/>
                </a:cubicBezTo>
                <a:cubicBezTo>
                  <a:pt x="15613" y="11075"/>
                  <a:pt x="15594" y="10926"/>
                  <a:pt x="15589" y="10763"/>
                </a:cubicBezTo>
                <a:cubicBezTo>
                  <a:pt x="15584" y="10572"/>
                  <a:pt x="15600" y="10408"/>
                  <a:pt x="15653" y="10224"/>
                </a:cubicBezTo>
                <a:cubicBezTo>
                  <a:pt x="15663" y="10192"/>
                  <a:pt x="15674" y="10160"/>
                  <a:pt x="15684" y="10128"/>
                </a:cubicBezTo>
              </a:path>
              <a:path w="6002" h="4224">
                <a:moveTo>
                  <a:pt x="16415" y="9080"/>
                </a:moveTo>
                <a:cubicBezTo>
                  <a:pt x="16404" y="9080"/>
                  <a:pt x="16394" y="9080"/>
                  <a:pt x="16383" y="9080"/>
                </a:cubicBezTo>
                <a:cubicBezTo>
                  <a:pt x="16477" y="9080"/>
                  <a:pt x="16557" y="9065"/>
                  <a:pt x="16637" y="9049"/>
                </a:cubicBezTo>
                <a:cubicBezTo>
                  <a:pt x="16753" y="9026"/>
                  <a:pt x="16899" y="9049"/>
                  <a:pt x="17018" y="9049"/>
                </a:cubicBezTo>
              </a:path>
              <a:path w="6002" h="4224">
                <a:moveTo>
                  <a:pt x="16446" y="9557"/>
                </a:moveTo>
                <a:cubicBezTo>
                  <a:pt x="16520" y="9557"/>
                  <a:pt x="16578" y="9537"/>
                  <a:pt x="16637" y="9525"/>
                </a:cubicBezTo>
                <a:cubicBezTo>
                  <a:pt x="16694" y="9513"/>
                  <a:pt x="16770" y="9525"/>
                  <a:pt x="16828" y="9525"/>
                </a:cubicBezTo>
              </a:path>
              <a:path w="6002" h="4224">
                <a:moveTo>
                  <a:pt x="17431" y="8223"/>
                </a:moveTo>
                <a:cubicBezTo>
                  <a:pt x="17431" y="8234"/>
                  <a:pt x="17431" y="8244"/>
                  <a:pt x="17431" y="8255"/>
                </a:cubicBezTo>
                <a:cubicBezTo>
                  <a:pt x="17486" y="8213"/>
                  <a:pt x="17516" y="8223"/>
                  <a:pt x="17590" y="8223"/>
                </a:cubicBezTo>
                <a:cubicBezTo>
                  <a:pt x="17639" y="8223"/>
                  <a:pt x="17660" y="8192"/>
                  <a:pt x="17716" y="8192"/>
                </a:cubicBezTo>
                <a:cubicBezTo>
                  <a:pt x="17759" y="8192"/>
                  <a:pt x="17801" y="8192"/>
                  <a:pt x="17844" y="8192"/>
                </a:cubicBezTo>
                <a:cubicBezTo>
                  <a:pt x="17824" y="8232"/>
                  <a:pt x="17836" y="8206"/>
                  <a:pt x="17780" y="8192"/>
                </a:cubicBezTo>
              </a:path>
              <a:path w="6002" h="4224">
                <a:moveTo>
                  <a:pt x="18066" y="8382"/>
                </a:moveTo>
                <a:cubicBezTo>
                  <a:pt x="18039" y="8328"/>
                  <a:pt x="18062" y="8326"/>
                  <a:pt x="18066" y="8255"/>
                </a:cubicBezTo>
                <a:cubicBezTo>
                  <a:pt x="18072" y="8162"/>
                  <a:pt x="18086" y="8120"/>
                  <a:pt x="18129" y="8033"/>
                </a:cubicBezTo>
                <a:cubicBezTo>
                  <a:pt x="18153" y="7985"/>
                  <a:pt x="18194" y="7860"/>
                  <a:pt x="18256" y="7842"/>
                </a:cubicBezTo>
                <a:cubicBezTo>
                  <a:pt x="18351" y="7815"/>
                  <a:pt x="18359" y="7880"/>
                  <a:pt x="18383" y="7938"/>
                </a:cubicBezTo>
                <a:cubicBezTo>
                  <a:pt x="18436" y="8066"/>
                  <a:pt x="18418" y="8184"/>
                  <a:pt x="18383" y="8318"/>
                </a:cubicBezTo>
                <a:cubicBezTo>
                  <a:pt x="18327" y="8532"/>
                  <a:pt x="18278" y="8750"/>
                  <a:pt x="18193" y="8954"/>
                </a:cubicBezTo>
                <a:cubicBezTo>
                  <a:pt x="18137" y="9087"/>
                  <a:pt x="18071" y="9242"/>
                  <a:pt x="18002" y="9366"/>
                </a:cubicBezTo>
                <a:cubicBezTo>
                  <a:pt x="17964" y="9435"/>
                  <a:pt x="17796" y="9559"/>
                  <a:pt x="17875" y="9557"/>
                </a:cubicBezTo>
                <a:cubicBezTo>
                  <a:pt x="17909" y="9556"/>
                  <a:pt x="17976" y="9488"/>
                  <a:pt x="18002" y="9462"/>
                </a:cubicBezTo>
                <a:cubicBezTo>
                  <a:pt x="18056" y="9408"/>
                  <a:pt x="18073" y="9406"/>
                  <a:pt x="18161" y="9398"/>
                </a:cubicBezTo>
                <a:cubicBezTo>
                  <a:pt x="18243" y="9391"/>
                  <a:pt x="18294" y="9429"/>
                  <a:pt x="18352" y="9462"/>
                </a:cubicBezTo>
                <a:cubicBezTo>
                  <a:pt x="18390" y="9484"/>
                  <a:pt x="18430" y="9529"/>
                  <a:pt x="18478" y="9525"/>
                </a:cubicBezTo>
                <a:cubicBezTo>
                  <a:pt x="18510" y="9525"/>
                  <a:pt x="18521" y="9525"/>
                  <a:pt x="18510" y="9493"/>
                </a:cubicBezTo>
              </a:path>
              <a:path w="6002" h="4224">
                <a:moveTo>
                  <a:pt x="18796" y="8033"/>
                </a:moveTo>
                <a:cubicBezTo>
                  <a:pt x="18786" y="8138"/>
                  <a:pt x="18764" y="8213"/>
                  <a:pt x="18732" y="8318"/>
                </a:cubicBezTo>
                <a:cubicBezTo>
                  <a:pt x="18682" y="8481"/>
                  <a:pt x="18661" y="8630"/>
                  <a:pt x="18637" y="8795"/>
                </a:cubicBezTo>
                <a:cubicBezTo>
                  <a:pt x="18611" y="8975"/>
                  <a:pt x="18592" y="9154"/>
                  <a:pt x="18637" y="9334"/>
                </a:cubicBezTo>
                <a:cubicBezTo>
                  <a:pt x="18655" y="9404"/>
                  <a:pt x="18712" y="9500"/>
                  <a:pt x="18764" y="9525"/>
                </a:cubicBezTo>
                <a:cubicBezTo>
                  <a:pt x="18887" y="9582"/>
                  <a:pt x="18906" y="9448"/>
                  <a:pt x="18955" y="9398"/>
                </a:cubicBezTo>
                <a:cubicBezTo>
                  <a:pt x="19059" y="9293"/>
                  <a:pt x="19060" y="9231"/>
                  <a:pt x="19114" y="9080"/>
                </a:cubicBezTo>
                <a:cubicBezTo>
                  <a:pt x="19146" y="8990"/>
                  <a:pt x="19162" y="8940"/>
                  <a:pt x="19114" y="8858"/>
                </a:cubicBezTo>
                <a:cubicBezTo>
                  <a:pt x="19005" y="8874"/>
                  <a:pt x="19005" y="8917"/>
                  <a:pt x="18955" y="9017"/>
                </a:cubicBezTo>
                <a:cubicBezTo>
                  <a:pt x="18897" y="9133"/>
                  <a:pt x="18900" y="9254"/>
                  <a:pt x="18860" y="9366"/>
                </a:cubicBezTo>
                <a:cubicBezTo>
                  <a:pt x="18838" y="9427"/>
                  <a:pt x="18797" y="9571"/>
                  <a:pt x="18828" y="9652"/>
                </a:cubicBezTo>
                <a:cubicBezTo>
                  <a:pt x="18828" y="9684"/>
                  <a:pt x="18828" y="9695"/>
                  <a:pt x="18860" y="9684"/>
                </a:cubicBezTo>
              </a:path>
              <a:path w="6002" h="4224">
                <a:moveTo>
                  <a:pt x="19304" y="8192"/>
                </a:moveTo>
                <a:cubicBezTo>
                  <a:pt x="19304" y="8300"/>
                  <a:pt x="19298" y="8406"/>
                  <a:pt x="19272" y="8509"/>
                </a:cubicBezTo>
                <a:cubicBezTo>
                  <a:pt x="19248" y="8603"/>
                  <a:pt x="19224" y="8703"/>
                  <a:pt x="19209" y="8795"/>
                </a:cubicBezTo>
                <a:cubicBezTo>
                  <a:pt x="19201" y="8844"/>
                  <a:pt x="19209" y="8904"/>
                  <a:pt x="19209" y="8954"/>
                </a:cubicBezTo>
                <a:cubicBezTo>
                  <a:pt x="19273" y="8954"/>
                  <a:pt x="19284" y="8939"/>
                  <a:pt x="19336" y="8922"/>
                </a:cubicBezTo>
                <a:cubicBezTo>
                  <a:pt x="19379" y="8908"/>
                  <a:pt x="19493" y="8939"/>
                  <a:pt x="19526" y="8954"/>
                </a:cubicBezTo>
                <a:cubicBezTo>
                  <a:pt x="19593" y="8984"/>
                  <a:pt x="19637" y="8985"/>
                  <a:pt x="19717" y="8985"/>
                </a:cubicBezTo>
                <a:cubicBezTo>
                  <a:pt x="19770" y="8985"/>
                  <a:pt x="19808" y="8940"/>
                  <a:pt x="19812" y="8890"/>
                </a:cubicBezTo>
                <a:cubicBezTo>
                  <a:pt x="19818" y="8809"/>
                  <a:pt x="19836" y="8751"/>
                  <a:pt x="19844" y="8668"/>
                </a:cubicBezTo>
              </a:path>
              <a:path w="6002" h="4224">
                <a:moveTo>
                  <a:pt x="19748" y="7715"/>
                </a:moveTo>
                <a:cubicBezTo>
                  <a:pt x="19689" y="7735"/>
                  <a:pt x="19729" y="7775"/>
                  <a:pt x="19717" y="7842"/>
                </a:cubicBezTo>
                <a:cubicBezTo>
                  <a:pt x="19681" y="8034"/>
                  <a:pt x="19685" y="8217"/>
                  <a:pt x="19685" y="8414"/>
                </a:cubicBezTo>
                <a:cubicBezTo>
                  <a:pt x="19685" y="8608"/>
                  <a:pt x="19696" y="8824"/>
                  <a:pt x="19717" y="9017"/>
                </a:cubicBezTo>
                <a:cubicBezTo>
                  <a:pt x="19738" y="9211"/>
                  <a:pt x="19748" y="9392"/>
                  <a:pt x="19748" y="9588"/>
                </a:cubicBezTo>
              </a:path>
              <a:path w="6002" h="4224">
                <a:moveTo>
                  <a:pt x="14192" y="10700"/>
                </a:moveTo>
                <a:cubicBezTo>
                  <a:pt x="14171" y="10700"/>
                  <a:pt x="14150" y="10700"/>
                  <a:pt x="14129" y="10700"/>
                </a:cubicBezTo>
                <a:cubicBezTo>
                  <a:pt x="14187" y="10671"/>
                  <a:pt x="14258" y="10641"/>
                  <a:pt x="14319" y="10604"/>
                </a:cubicBezTo>
                <a:cubicBezTo>
                  <a:pt x="14465" y="10515"/>
                  <a:pt x="14602" y="10497"/>
                  <a:pt x="14764" y="10446"/>
                </a:cubicBezTo>
                <a:cubicBezTo>
                  <a:pt x="15001" y="10372"/>
                  <a:pt x="15234" y="10284"/>
                  <a:pt x="15462" y="10192"/>
                </a:cubicBezTo>
                <a:cubicBezTo>
                  <a:pt x="15649" y="10116"/>
                  <a:pt x="15858" y="10067"/>
                  <a:pt x="16034" y="9970"/>
                </a:cubicBezTo>
                <a:cubicBezTo>
                  <a:pt x="16147" y="9908"/>
                  <a:pt x="16255" y="9852"/>
                  <a:pt x="16383" y="9842"/>
                </a:cubicBezTo>
                <a:cubicBezTo>
                  <a:pt x="16394" y="9842"/>
                  <a:pt x="16404" y="9842"/>
                  <a:pt x="16415" y="9842"/>
                </a:cubicBezTo>
              </a:path>
              <a:path w="6002" h="4224">
                <a:moveTo>
                  <a:pt x="14827" y="10795"/>
                </a:moveTo>
                <a:cubicBezTo>
                  <a:pt x="14847" y="10874"/>
                  <a:pt x="14859" y="10920"/>
                  <a:pt x="14859" y="11017"/>
                </a:cubicBezTo>
                <a:cubicBezTo>
                  <a:pt x="14859" y="11125"/>
                  <a:pt x="14850" y="11204"/>
                  <a:pt x="14827" y="11303"/>
                </a:cubicBezTo>
                <a:cubicBezTo>
                  <a:pt x="14810" y="11378"/>
                  <a:pt x="14825" y="11367"/>
                  <a:pt x="14827" y="11366"/>
                </a:cubicBezTo>
                <a:cubicBezTo>
                  <a:pt x="14871" y="11348"/>
                  <a:pt x="14901" y="11335"/>
                  <a:pt x="14954" y="11335"/>
                </a:cubicBezTo>
                <a:cubicBezTo>
                  <a:pt x="15032" y="11335"/>
                  <a:pt x="15181" y="11360"/>
                  <a:pt x="15208" y="11303"/>
                </a:cubicBezTo>
                <a:cubicBezTo>
                  <a:pt x="15219" y="11282"/>
                  <a:pt x="15229" y="11261"/>
                  <a:pt x="15240" y="11240"/>
                </a:cubicBezTo>
              </a:path>
              <a:path w="6002" h="4224">
                <a:moveTo>
                  <a:pt x="15176" y="10478"/>
                </a:moveTo>
                <a:cubicBezTo>
                  <a:pt x="15176" y="10830"/>
                  <a:pt x="15171" y="11177"/>
                  <a:pt x="15145" y="11525"/>
                </a:cubicBezTo>
                <a:cubicBezTo>
                  <a:pt x="15139" y="11612"/>
                  <a:pt x="15190" y="11912"/>
                  <a:pt x="15113" y="11938"/>
                </a:cubicBezTo>
              </a:path>
              <a:path w="6002" h="4224">
                <a:moveTo>
                  <a:pt x="15304" y="10668"/>
                </a:moveTo>
                <a:cubicBezTo>
                  <a:pt x="15304" y="10636"/>
                  <a:pt x="15304" y="10626"/>
                  <a:pt x="15335" y="10636"/>
                </a:cubicBezTo>
                <a:cubicBezTo>
                  <a:pt x="15335" y="10770"/>
                  <a:pt x="15324" y="10891"/>
                  <a:pt x="15304" y="11017"/>
                </a:cubicBezTo>
                <a:cubicBezTo>
                  <a:pt x="15291" y="11095"/>
                  <a:pt x="15272" y="11159"/>
                  <a:pt x="15272" y="11240"/>
                </a:cubicBezTo>
                <a:cubicBezTo>
                  <a:pt x="15272" y="11303"/>
                  <a:pt x="15259" y="11304"/>
                  <a:pt x="15304" y="11271"/>
                </a:cubicBezTo>
                <a:cubicBezTo>
                  <a:pt x="15346" y="11240"/>
                  <a:pt x="15361" y="11213"/>
                  <a:pt x="15399" y="11208"/>
                </a:cubicBezTo>
                <a:cubicBezTo>
                  <a:pt x="15478" y="11198"/>
                  <a:pt x="15526" y="11219"/>
                  <a:pt x="15589" y="11240"/>
                </a:cubicBezTo>
                <a:cubicBezTo>
                  <a:pt x="15655" y="11262"/>
                  <a:pt x="15650" y="11214"/>
                  <a:pt x="15684" y="11176"/>
                </a:cubicBezTo>
                <a:cubicBezTo>
                  <a:pt x="15695" y="11165"/>
                  <a:pt x="15705" y="11155"/>
                  <a:pt x="15716" y="11144"/>
                </a:cubicBezTo>
              </a:path>
              <a:path w="6002" h="4224">
                <a:moveTo>
                  <a:pt x="15589" y="10478"/>
                </a:moveTo>
                <a:cubicBezTo>
                  <a:pt x="15534" y="10515"/>
                  <a:pt x="15558" y="10646"/>
                  <a:pt x="15558" y="10732"/>
                </a:cubicBezTo>
                <a:cubicBezTo>
                  <a:pt x="15558" y="10937"/>
                  <a:pt x="15576" y="11133"/>
                  <a:pt x="15589" y="11335"/>
                </a:cubicBezTo>
                <a:cubicBezTo>
                  <a:pt x="15601" y="11517"/>
                  <a:pt x="15610" y="11694"/>
                  <a:pt x="15621" y="11874"/>
                </a:cubicBezTo>
              </a:path>
              <a:path w="6002" h="4224">
                <a:moveTo>
                  <a:pt x="17653" y="10160"/>
                </a:moveTo>
                <a:cubicBezTo>
                  <a:pt x="17723" y="10181"/>
                  <a:pt x="17751" y="10210"/>
                  <a:pt x="17844" y="10192"/>
                </a:cubicBezTo>
                <a:cubicBezTo>
                  <a:pt x="17975" y="10167"/>
                  <a:pt x="18107" y="10061"/>
                  <a:pt x="18224" y="10001"/>
                </a:cubicBezTo>
                <a:cubicBezTo>
                  <a:pt x="18421" y="9900"/>
                  <a:pt x="18623" y="9856"/>
                  <a:pt x="18828" y="9779"/>
                </a:cubicBezTo>
                <a:cubicBezTo>
                  <a:pt x="19049" y="9696"/>
                  <a:pt x="19273" y="9631"/>
                  <a:pt x="19494" y="9557"/>
                </a:cubicBezTo>
                <a:cubicBezTo>
                  <a:pt x="19624" y="9514"/>
                  <a:pt x="19899" y="9359"/>
                  <a:pt x="20034" y="9398"/>
                </a:cubicBezTo>
                <a:cubicBezTo>
                  <a:pt x="20086" y="9398"/>
                  <a:pt x="20110" y="9412"/>
                  <a:pt x="20130" y="9462"/>
                </a:cubicBezTo>
              </a:path>
              <a:path w="6002" h="4224">
                <a:moveTo>
                  <a:pt x="18542" y="10128"/>
                </a:moveTo>
                <a:cubicBezTo>
                  <a:pt x="18591" y="10144"/>
                  <a:pt x="18560" y="10258"/>
                  <a:pt x="18542" y="10319"/>
                </a:cubicBezTo>
                <a:cubicBezTo>
                  <a:pt x="18518" y="10401"/>
                  <a:pt x="18473" y="10495"/>
                  <a:pt x="18447" y="10573"/>
                </a:cubicBezTo>
                <a:cubicBezTo>
                  <a:pt x="18428" y="10628"/>
                  <a:pt x="18414" y="10658"/>
                  <a:pt x="18383" y="10700"/>
                </a:cubicBezTo>
                <a:cubicBezTo>
                  <a:pt x="18396" y="10662"/>
                  <a:pt x="18410" y="10646"/>
                  <a:pt x="18447" y="10604"/>
                </a:cubicBezTo>
                <a:cubicBezTo>
                  <a:pt x="18475" y="10572"/>
                  <a:pt x="18530" y="10558"/>
                  <a:pt x="18574" y="10573"/>
                </a:cubicBezTo>
                <a:cubicBezTo>
                  <a:pt x="18651" y="10600"/>
                  <a:pt x="18685" y="10629"/>
                  <a:pt x="18764" y="10636"/>
                </a:cubicBezTo>
                <a:cubicBezTo>
                  <a:pt x="18832" y="10642"/>
                  <a:pt x="18937" y="10658"/>
                  <a:pt x="18955" y="10604"/>
                </a:cubicBezTo>
              </a:path>
              <a:path w="6002" h="4224">
                <a:moveTo>
                  <a:pt x="18955" y="9970"/>
                </a:moveTo>
                <a:cubicBezTo>
                  <a:pt x="18937" y="10078"/>
                  <a:pt x="18890" y="10180"/>
                  <a:pt x="18860" y="10287"/>
                </a:cubicBezTo>
                <a:cubicBezTo>
                  <a:pt x="18814" y="10452"/>
                  <a:pt x="18783" y="10656"/>
                  <a:pt x="18764" y="10827"/>
                </a:cubicBezTo>
                <a:cubicBezTo>
                  <a:pt x="18745" y="11001"/>
                  <a:pt x="18768" y="11168"/>
                  <a:pt x="18732" y="11335"/>
                </a:cubicBezTo>
                <a:cubicBezTo>
                  <a:pt x="18732" y="11366"/>
                  <a:pt x="18732" y="11377"/>
                  <a:pt x="18764" y="11366"/>
                </a:cubicBezTo>
              </a:path>
              <a:path w="6002" h="4224">
                <a:moveTo>
                  <a:pt x="18986" y="10096"/>
                </a:moveTo>
                <a:cubicBezTo>
                  <a:pt x="18986" y="10181"/>
                  <a:pt x="18975" y="10270"/>
                  <a:pt x="18955" y="10350"/>
                </a:cubicBezTo>
                <a:cubicBezTo>
                  <a:pt x="18930" y="10448"/>
                  <a:pt x="18899" y="10537"/>
                  <a:pt x="18891" y="10636"/>
                </a:cubicBezTo>
                <a:cubicBezTo>
                  <a:pt x="18889" y="10667"/>
                  <a:pt x="18891" y="10700"/>
                  <a:pt x="18891" y="10732"/>
                </a:cubicBezTo>
                <a:cubicBezTo>
                  <a:pt x="18942" y="10719"/>
                  <a:pt x="18971" y="10684"/>
                  <a:pt x="19018" y="10668"/>
                </a:cubicBezTo>
                <a:cubicBezTo>
                  <a:pt x="19074" y="10649"/>
                  <a:pt x="19124" y="10695"/>
                  <a:pt x="19177" y="10700"/>
                </a:cubicBezTo>
                <a:cubicBezTo>
                  <a:pt x="19229" y="10705"/>
                  <a:pt x="19245" y="10732"/>
                  <a:pt x="19304" y="10732"/>
                </a:cubicBezTo>
                <a:cubicBezTo>
                  <a:pt x="19315" y="10732"/>
                  <a:pt x="19325" y="10732"/>
                  <a:pt x="19336" y="10732"/>
                </a:cubicBezTo>
              </a:path>
              <a:path w="6002" h="4224">
                <a:moveTo>
                  <a:pt x="19368" y="10033"/>
                </a:moveTo>
                <a:cubicBezTo>
                  <a:pt x="19317" y="9999"/>
                  <a:pt x="19314" y="10083"/>
                  <a:pt x="19304" y="10160"/>
                </a:cubicBezTo>
                <a:cubicBezTo>
                  <a:pt x="19262" y="10477"/>
                  <a:pt x="19303" y="10834"/>
                  <a:pt x="19336" y="11144"/>
                </a:cubicBezTo>
                <a:cubicBezTo>
                  <a:pt x="19336" y="11229"/>
                  <a:pt x="19336" y="11250"/>
                  <a:pt x="19336" y="11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Ink 10"/>
          <p:cNvSpPr/>
          <p:nvPr/>
        </p:nvSpPr>
        <p:spPr>
          <a:xfrm>
            <a:off x="411120" y="2251080"/>
            <a:ext cx="2503440" cy="595440"/>
          </a:xfrm>
          <a:custGeom>
            <a:avLst/>
            <a:gdLst/>
            <a:ahLst/>
            <a:rect l="l" t="t" r="r" b="b"/>
            <a:pathLst>
              <a:path w="6954" h="1652">
                <a:moveTo>
                  <a:pt x="1175" y="6890"/>
                </a:moveTo>
                <a:cubicBezTo>
                  <a:pt x="1182" y="6949"/>
                  <a:pt x="1162" y="6977"/>
                  <a:pt x="1206" y="7017"/>
                </a:cubicBezTo>
                <a:cubicBezTo>
                  <a:pt x="1242" y="7050"/>
                  <a:pt x="1290" y="7082"/>
                  <a:pt x="1334" y="7112"/>
                </a:cubicBezTo>
                <a:cubicBezTo>
                  <a:pt x="1414" y="7165"/>
                  <a:pt x="1471" y="7169"/>
                  <a:pt x="1556" y="7207"/>
                </a:cubicBezTo>
                <a:cubicBezTo>
                  <a:pt x="1681" y="7262"/>
                  <a:pt x="1767" y="7329"/>
                  <a:pt x="1905" y="7334"/>
                </a:cubicBezTo>
                <a:cubicBezTo>
                  <a:pt x="2056" y="7340"/>
                  <a:pt x="2206" y="7344"/>
                  <a:pt x="2350" y="7302"/>
                </a:cubicBezTo>
                <a:cubicBezTo>
                  <a:pt x="2494" y="7260"/>
                  <a:pt x="2598" y="7205"/>
                  <a:pt x="2730" y="7144"/>
                </a:cubicBezTo>
                <a:cubicBezTo>
                  <a:pt x="2853" y="7087"/>
                  <a:pt x="2958" y="6993"/>
                  <a:pt x="3048" y="6890"/>
                </a:cubicBezTo>
                <a:cubicBezTo>
                  <a:pt x="3133" y="6793"/>
                  <a:pt x="3271" y="6648"/>
                  <a:pt x="3334" y="6540"/>
                </a:cubicBezTo>
                <a:cubicBezTo>
                  <a:pt x="3386" y="6451"/>
                  <a:pt x="3435" y="6406"/>
                  <a:pt x="3492" y="6318"/>
                </a:cubicBezTo>
                <a:cubicBezTo>
                  <a:pt x="3521" y="6289"/>
                  <a:pt x="3531" y="6283"/>
                  <a:pt x="3524" y="6255"/>
                </a:cubicBezTo>
              </a:path>
              <a:path w="6954" h="1652">
                <a:moveTo>
                  <a:pt x="1238" y="7207"/>
                </a:moveTo>
                <a:cubicBezTo>
                  <a:pt x="1309" y="7278"/>
                  <a:pt x="1358" y="7292"/>
                  <a:pt x="1429" y="7334"/>
                </a:cubicBezTo>
                <a:cubicBezTo>
                  <a:pt x="1518" y="7386"/>
                  <a:pt x="1546" y="7391"/>
                  <a:pt x="1651" y="7398"/>
                </a:cubicBezTo>
                <a:cubicBezTo>
                  <a:pt x="1762" y="7405"/>
                  <a:pt x="1854" y="7427"/>
                  <a:pt x="1968" y="7430"/>
                </a:cubicBezTo>
                <a:cubicBezTo>
                  <a:pt x="2096" y="7434"/>
                  <a:pt x="2226" y="7433"/>
                  <a:pt x="2350" y="7461"/>
                </a:cubicBezTo>
                <a:cubicBezTo>
                  <a:pt x="2490" y="7492"/>
                  <a:pt x="2616" y="7493"/>
                  <a:pt x="2762" y="7493"/>
                </a:cubicBezTo>
                <a:cubicBezTo>
                  <a:pt x="2926" y="7493"/>
                  <a:pt x="3078" y="7474"/>
                  <a:pt x="3238" y="7461"/>
                </a:cubicBezTo>
                <a:cubicBezTo>
                  <a:pt x="3406" y="7447"/>
                  <a:pt x="3579" y="7424"/>
                  <a:pt x="3746" y="7398"/>
                </a:cubicBezTo>
                <a:cubicBezTo>
                  <a:pt x="3909" y="7373"/>
                  <a:pt x="4096" y="7293"/>
                  <a:pt x="4254" y="7239"/>
                </a:cubicBezTo>
                <a:cubicBezTo>
                  <a:pt x="4432" y="7178"/>
                  <a:pt x="4590" y="7089"/>
                  <a:pt x="4762" y="7017"/>
                </a:cubicBezTo>
                <a:cubicBezTo>
                  <a:pt x="4903" y="6958"/>
                  <a:pt x="4991" y="6922"/>
                  <a:pt x="5112" y="6826"/>
                </a:cubicBezTo>
                <a:cubicBezTo>
                  <a:pt x="5194" y="6761"/>
                  <a:pt x="5246" y="6726"/>
                  <a:pt x="5302" y="6636"/>
                </a:cubicBezTo>
                <a:cubicBezTo>
                  <a:pt x="5331" y="6590"/>
                  <a:pt x="5351" y="6561"/>
                  <a:pt x="5366" y="6509"/>
                </a:cubicBezTo>
                <a:cubicBezTo>
                  <a:pt x="5366" y="6498"/>
                  <a:pt x="5366" y="6488"/>
                  <a:pt x="5366" y="6477"/>
                </a:cubicBezTo>
              </a:path>
              <a:path w="6954" h="1652">
                <a:moveTo>
                  <a:pt x="1302" y="6953"/>
                </a:moveTo>
                <a:lnTo>
                  <a:pt x="1302" y="6953"/>
                </a:lnTo>
              </a:path>
              <a:path w="6954" h="1652">
                <a:moveTo>
                  <a:pt x="1302" y="6953"/>
                </a:moveTo>
                <a:lnTo>
                  <a:pt x="1302" y="6953"/>
                </a:lnTo>
              </a:path>
              <a:path w="6954" h="1652">
                <a:moveTo>
                  <a:pt x="1302" y="7017"/>
                </a:moveTo>
                <a:cubicBezTo>
                  <a:pt x="1356" y="7092"/>
                  <a:pt x="1398" y="7168"/>
                  <a:pt x="1460" y="7239"/>
                </a:cubicBezTo>
                <a:cubicBezTo>
                  <a:pt x="1534" y="7324"/>
                  <a:pt x="1615" y="7343"/>
                  <a:pt x="1714" y="7398"/>
                </a:cubicBezTo>
                <a:cubicBezTo>
                  <a:pt x="1830" y="7463"/>
                  <a:pt x="1933" y="7538"/>
                  <a:pt x="2064" y="7588"/>
                </a:cubicBezTo>
                <a:cubicBezTo>
                  <a:pt x="2232" y="7652"/>
                  <a:pt x="2398" y="7649"/>
                  <a:pt x="2572" y="7684"/>
                </a:cubicBezTo>
                <a:cubicBezTo>
                  <a:pt x="2781" y="7726"/>
                  <a:pt x="2994" y="7743"/>
                  <a:pt x="3207" y="7779"/>
                </a:cubicBezTo>
                <a:cubicBezTo>
                  <a:pt x="3531" y="7834"/>
                  <a:pt x="3834" y="7845"/>
                  <a:pt x="4159" y="7874"/>
                </a:cubicBezTo>
                <a:cubicBezTo>
                  <a:pt x="4428" y="7898"/>
                  <a:pt x="4683" y="7878"/>
                  <a:pt x="4953" y="7842"/>
                </a:cubicBezTo>
                <a:cubicBezTo>
                  <a:pt x="5253" y="7802"/>
                  <a:pt x="5521" y="7739"/>
                  <a:pt x="5810" y="7652"/>
                </a:cubicBezTo>
                <a:cubicBezTo>
                  <a:pt x="6093" y="7567"/>
                  <a:pt x="6340" y="7434"/>
                  <a:pt x="6604" y="7302"/>
                </a:cubicBezTo>
                <a:cubicBezTo>
                  <a:pt x="6851" y="7178"/>
                  <a:pt x="7074" y="7040"/>
                  <a:pt x="7302" y="6890"/>
                </a:cubicBezTo>
                <a:cubicBezTo>
                  <a:pt x="7466" y="6782"/>
                  <a:pt x="7618" y="6681"/>
                  <a:pt x="7779" y="6572"/>
                </a:cubicBezTo>
                <a:cubicBezTo>
                  <a:pt x="7870" y="6511"/>
                  <a:pt x="7946" y="6444"/>
                  <a:pt x="8033" y="6382"/>
                </a:cubicBezTo>
                <a:cubicBezTo>
                  <a:pt x="8069" y="6382"/>
                  <a:pt x="8082" y="6379"/>
                  <a:pt x="8096" y="6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nk 11"/>
          <p:cNvSpPr/>
          <p:nvPr/>
        </p:nvSpPr>
        <p:spPr>
          <a:xfrm>
            <a:off x="2251080" y="4971960"/>
            <a:ext cx="298440" cy="1360440"/>
          </a:xfrm>
          <a:custGeom>
            <a:avLst/>
            <a:gdLst/>
            <a:ahLst/>
            <a:rect l="l" t="t" r="r" b="b"/>
            <a:pathLst>
              <a:path w="826" h="3780">
                <a:moveTo>
                  <a:pt x="6414" y="13843"/>
                </a:moveTo>
                <a:cubicBezTo>
                  <a:pt x="6414" y="13911"/>
                  <a:pt x="6394" y="13937"/>
                  <a:pt x="6382" y="14002"/>
                </a:cubicBezTo>
                <a:cubicBezTo>
                  <a:pt x="6367" y="14085"/>
                  <a:pt x="6364" y="14182"/>
                  <a:pt x="6318" y="14256"/>
                </a:cubicBezTo>
                <a:cubicBezTo>
                  <a:pt x="6285" y="14309"/>
                  <a:pt x="6262" y="14379"/>
                  <a:pt x="6255" y="14446"/>
                </a:cubicBezTo>
                <a:cubicBezTo>
                  <a:pt x="6255" y="14457"/>
                  <a:pt x="6255" y="14467"/>
                  <a:pt x="6255" y="14478"/>
                </a:cubicBezTo>
                <a:cubicBezTo>
                  <a:pt x="6305" y="14465"/>
                  <a:pt x="6325" y="14446"/>
                  <a:pt x="6382" y="14446"/>
                </a:cubicBezTo>
                <a:cubicBezTo>
                  <a:pt x="6440" y="14446"/>
                  <a:pt x="6468" y="14414"/>
                  <a:pt x="6540" y="14414"/>
                </a:cubicBezTo>
                <a:cubicBezTo>
                  <a:pt x="6601" y="14414"/>
                  <a:pt x="6619" y="14411"/>
                  <a:pt x="6668" y="14383"/>
                </a:cubicBezTo>
              </a:path>
              <a:path w="826" h="3780">
                <a:moveTo>
                  <a:pt x="6699" y="13811"/>
                </a:moveTo>
                <a:cubicBezTo>
                  <a:pt x="6699" y="13904"/>
                  <a:pt x="6688" y="14008"/>
                  <a:pt x="6668" y="14097"/>
                </a:cubicBezTo>
                <a:cubicBezTo>
                  <a:pt x="6633" y="14254"/>
                  <a:pt x="6585" y="14417"/>
                  <a:pt x="6540" y="14573"/>
                </a:cubicBezTo>
                <a:cubicBezTo>
                  <a:pt x="6509" y="14679"/>
                  <a:pt x="6478" y="14785"/>
                  <a:pt x="6445" y="14891"/>
                </a:cubicBezTo>
              </a:path>
              <a:path w="826" h="3780">
                <a:moveTo>
                  <a:pt x="6604" y="16256"/>
                </a:moveTo>
                <a:cubicBezTo>
                  <a:pt x="6574" y="16306"/>
                  <a:pt x="6556" y="16383"/>
                  <a:pt x="6540" y="16446"/>
                </a:cubicBezTo>
                <a:cubicBezTo>
                  <a:pt x="6514" y="16549"/>
                  <a:pt x="6483" y="16663"/>
                  <a:pt x="6445" y="16764"/>
                </a:cubicBezTo>
                <a:cubicBezTo>
                  <a:pt x="6418" y="16836"/>
                  <a:pt x="6382" y="16877"/>
                  <a:pt x="6382" y="16954"/>
                </a:cubicBezTo>
                <a:cubicBezTo>
                  <a:pt x="6382" y="16965"/>
                  <a:pt x="6382" y="16975"/>
                  <a:pt x="6382" y="16986"/>
                </a:cubicBezTo>
                <a:cubicBezTo>
                  <a:pt x="6438" y="16972"/>
                  <a:pt x="6493" y="16934"/>
                  <a:pt x="6540" y="16891"/>
                </a:cubicBezTo>
                <a:cubicBezTo>
                  <a:pt x="6586" y="16850"/>
                  <a:pt x="6650" y="16857"/>
                  <a:pt x="6699" y="16828"/>
                </a:cubicBezTo>
                <a:cubicBezTo>
                  <a:pt x="6710" y="16817"/>
                  <a:pt x="6720" y="16807"/>
                  <a:pt x="6731" y="16796"/>
                </a:cubicBezTo>
                <a:cubicBezTo>
                  <a:pt x="6777" y="16831"/>
                  <a:pt x="6813" y="16846"/>
                  <a:pt x="6858" y="16891"/>
                </a:cubicBezTo>
                <a:cubicBezTo>
                  <a:pt x="6894" y="16927"/>
                  <a:pt x="6911" y="16938"/>
                  <a:pt x="6953" y="16923"/>
                </a:cubicBezTo>
              </a:path>
              <a:path w="826" h="3780">
                <a:moveTo>
                  <a:pt x="7080" y="16383"/>
                </a:moveTo>
                <a:cubicBezTo>
                  <a:pt x="7080" y="16509"/>
                  <a:pt x="7021" y="16557"/>
                  <a:pt x="6985" y="16669"/>
                </a:cubicBezTo>
                <a:cubicBezTo>
                  <a:pt x="6920" y="16868"/>
                  <a:pt x="6888" y="17047"/>
                  <a:pt x="6794" y="17240"/>
                </a:cubicBezTo>
                <a:cubicBezTo>
                  <a:pt x="6732" y="17367"/>
                  <a:pt x="6652" y="17474"/>
                  <a:pt x="6572" y="175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nk 12"/>
          <p:cNvSpPr/>
          <p:nvPr/>
        </p:nvSpPr>
        <p:spPr>
          <a:xfrm>
            <a:off x="3497400" y="4572000"/>
            <a:ext cx="1589040" cy="1406520"/>
          </a:xfrm>
          <a:custGeom>
            <a:avLst/>
            <a:gdLst/>
            <a:ahLst/>
            <a:rect l="l" t="t" r="r" b="b"/>
            <a:pathLst>
              <a:path w="4414" h="3906">
                <a:moveTo>
                  <a:pt x="11017" y="13208"/>
                </a:moveTo>
                <a:cubicBezTo>
                  <a:pt x="10964" y="13238"/>
                  <a:pt x="10916" y="13268"/>
                  <a:pt x="10858" y="13303"/>
                </a:cubicBezTo>
                <a:cubicBezTo>
                  <a:pt x="10729" y="13381"/>
                  <a:pt x="10551" y="13513"/>
                  <a:pt x="10446" y="13621"/>
                </a:cubicBezTo>
                <a:cubicBezTo>
                  <a:pt x="10290" y="13781"/>
                  <a:pt x="10127" y="13975"/>
                  <a:pt x="10001" y="14160"/>
                </a:cubicBezTo>
                <a:cubicBezTo>
                  <a:pt x="9779" y="14485"/>
                  <a:pt x="9647" y="14879"/>
                  <a:pt x="9747" y="15272"/>
                </a:cubicBezTo>
                <a:cubicBezTo>
                  <a:pt x="9806" y="15502"/>
                  <a:pt x="9951" y="15639"/>
                  <a:pt x="10096" y="15812"/>
                </a:cubicBezTo>
                <a:cubicBezTo>
                  <a:pt x="10191" y="15925"/>
                  <a:pt x="10251" y="16061"/>
                  <a:pt x="10319" y="16192"/>
                </a:cubicBezTo>
                <a:cubicBezTo>
                  <a:pt x="10350" y="16252"/>
                  <a:pt x="10372" y="16272"/>
                  <a:pt x="10414" y="16320"/>
                </a:cubicBezTo>
              </a:path>
              <a:path w="4414" h="3906">
                <a:moveTo>
                  <a:pt x="11843" y="15367"/>
                </a:moveTo>
                <a:cubicBezTo>
                  <a:pt x="11806" y="15465"/>
                  <a:pt x="11819" y="15556"/>
                  <a:pt x="11779" y="15653"/>
                </a:cubicBezTo>
                <a:cubicBezTo>
                  <a:pt x="11739" y="15749"/>
                  <a:pt x="11689" y="15861"/>
                  <a:pt x="11620" y="15938"/>
                </a:cubicBezTo>
                <a:cubicBezTo>
                  <a:pt x="11592" y="15967"/>
                  <a:pt x="11582" y="15973"/>
                  <a:pt x="11589" y="16002"/>
                </a:cubicBezTo>
              </a:path>
              <a:path w="4414" h="3906">
                <a:moveTo>
                  <a:pt x="12351" y="14129"/>
                </a:moveTo>
                <a:cubicBezTo>
                  <a:pt x="12485" y="14129"/>
                  <a:pt x="12602" y="14129"/>
                  <a:pt x="12732" y="14160"/>
                </a:cubicBezTo>
              </a:path>
              <a:path w="4414" h="3906">
                <a:moveTo>
                  <a:pt x="13272" y="13780"/>
                </a:moveTo>
                <a:cubicBezTo>
                  <a:pt x="13260" y="13813"/>
                  <a:pt x="13198" y="13960"/>
                  <a:pt x="13176" y="14034"/>
                </a:cubicBezTo>
                <a:cubicBezTo>
                  <a:pt x="13124" y="14212"/>
                  <a:pt x="13067" y="14395"/>
                  <a:pt x="13018" y="14573"/>
                </a:cubicBezTo>
                <a:cubicBezTo>
                  <a:pt x="12972" y="14740"/>
                  <a:pt x="12881" y="14937"/>
                  <a:pt x="12890" y="15113"/>
                </a:cubicBezTo>
                <a:cubicBezTo>
                  <a:pt x="12894" y="15200"/>
                  <a:pt x="12925" y="15413"/>
                  <a:pt x="13018" y="15462"/>
                </a:cubicBezTo>
                <a:cubicBezTo>
                  <a:pt x="13115" y="15514"/>
                  <a:pt x="13264" y="15424"/>
                  <a:pt x="13335" y="15367"/>
                </a:cubicBezTo>
                <a:cubicBezTo>
                  <a:pt x="13415" y="15303"/>
                  <a:pt x="13509" y="15186"/>
                  <a:pt x="13494" y="15081"/>
                </a:cubicBezTo>
                <a:cubicBezTo>
                  <a:pt x="13487" y="15034"/>
                  <a:pt x="13416" y="14966"/>
                  <a:pt x="13367" y="14954"/>
                </a:cubicBezTo>
                <a:cubicBezTo>
                  <a:pt x="13270" y="14931"/>
                  <a:pt x="13160" y="15040"/>
                  <a:pt x="13113" y="15113"/>
                </a:cubicBezTo>
                <a:cubicBezTo>
                  <a:pt x="13054" y="15204"/>
                  <a:pt x="12966" y="15363"/>
                  <a:pt x="13018" y="15462"/>
                </a:cubicBezTo>
                <a:cubicBezTo>
                  <a:pt x="13049" y="15494"/>
                  <a:pt x="13060" y="15505"/>
                  <a:pt x="13081" y="15526"/>
                </a:cubicBezTo>
              </a:path>
              <a:path w="4414" h="3906">
                <a:moveTo>
                  <a:pt x="13843" y="12827"/>
                </a:moveTo>
                <a:cubicBezTo>
                  <a:pt x="13843" y="12753"/>
                  <a:pt x="13843" y="12742"/>
                  <a:pt x="13843" y="12700"/>
                </a:cubicBezTo>
                <a:cubicBezTo>
                  <a:pt x="13860" y="12739"/>
                  <a:pt x="13914" y="12879"/>
                  <a:pt x="13938" y="12954"/>
                </a:cubicBezTo>
                <a:cubicBezTo>
                  <a:pt x="14033" y="13258"/>
                  <a:pt x="14081" y="13586"/>
                  <a:pt x="14097" y="13906"/>
                </a:cubicBezTo>
                <a:cubicBezTo>
                  <a:pt x="14117" y="14308"/>
                  <a:pt x="14106" y="14680"/>
                  <a:pt x="14065" y="15081"/>
                </a:cubicBezTo>
                <a:cubicBezTo>
                  <a:pt x="14028" y="15443"/>
                  <a:pt x="13937" y="15841"/>
                  <a:pt x="13748" y="16161"/>
                </a:cubicBezTo>
                <a:cubicBezTo>
                  <a:pt x="13651" y="16325"/>
                  <a:pt x="13496" y="16468"/>
                  <a:pt x="13367" y="16605"/>
                </a:cubicBezTo>
              </a:path>
              <a:path w="4414" h="3906">
                <a:moveTo>
                  <a:pt x="10732" y="13780"/>
                </a:moveTo>
                <a:cubicBezTo>
                  <a:pt x="10732" y="13862"/>
                  <a:pt x="10724" y="13958"/>
                  <a:pt x="10700" y="14034"/>
                </a:cubicBezTo>
                <a:cubicBezTo>
                  <a:pt x="10673" y="14119"/>
                  <a:pt x="10639" y="14208"/>
                  <a:pt x="10604" y="14288"/>
                </a:cubicBezTo>
                <a:cubicBezTo>
                  <a:pt x="10575" y="14354"/>
                  <a:pt x="10542" y="14453"/>
                  <a:pt x="10509" y="14510"/>
                </a:cubicBezTo>
                <a:cubicBezTo>
                  <a:pt x="10481" y="14539"/>
                  <a:pt x="10471" y="14545"/>
                  <a:pt x="10478" y="14573"/>
                </a:cubicBezTo>
                <a:cubicBezTo>
                  <a:pt x="10554" y="14573"/>
                  <a:pt x="10600" y="14603"/>
                  <a:pt x="10668" y="14637"/>
                </a:cubicBezTo>
                <a:cubicBezTo>
                  <a:pt x="10763" y="14684"/>
                  <a:pt x="10831" y="14746"/>
                  <a:pt x="10922" y="14796"/>
                </a:cubicBezTo>
                <a:cubicBezTo>
                  <a:pt x="11060" y="14872"/>
                  <a:pt x="11073" y="14780"/>
                  <a:pt x="11144" y="14668"/>
                </a:cubicBezTo>
              </a:path>
              <a:path w="4414" h="3906">
                <a:moveTo>
                  <a:pt x="11366" y="13748"/>
                </a:moveTo>
                <a:cubicBezTo>
                  <a:pt x="11354" y="13846"/>
                  <a:pt x="11307" y="13876"/>
                  <a:pt x="11271" y="13970"/>
                </a:cubicBezTo>
                <a:cubicBezTo>
                  <a:pt x="11188" y="14187"/>
                  <a:pt x="11134" y="14419"/>
                  <a:pt x="11049" y="14637"/>
                </a:cubicBezTo>
                <a:cubicBezTo>
                  <a:pt x="10923" y="14962"/>
                  <a:pt x="10819" y="15293"/>
                  <a:pt x="10700" y="156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Ink 13"/>
          <p:cNvSpPr/>
          <p:nvPr/>
        </p:nvSpPr>
        <p:spPr>
          <a:xfrm>
            <a:off x="6114960" y="4297320"/>
            <a:ext cx="1017720" cy="1098720"/>
          </a:xfrm>
          <a:custGeom>
            <a:avLst/>
            <a:gdLst/>
            <a:ahLst/>
            <a:rect l="l" t="t" r="r" b="b"/>
            <a:pathLst>
              <a:path w="2827" h="3049">
                <a:moveTo>
                  <a:pt x="17018" y="12414"/>
                </a:moveTo>
                <a:cubicBezTo>
                  <a:pt x="17018" y="12467"/>
                  <a:pt x="17018" y="12457"/>
                  <a:pt x="17018" y="12510"/>
                </a:cubicBezTo>
                <a:cubicBezTo>
                  <a:pt x="17018" y="12648"/>
                  <a:pt x="16986" y="12777"/>
                  <a:pt x="16986" y="12922"/>
                </a:cubicBezTo>
                <a:cubicBezTo>
                  <a:pt x="16986" y="13150"/>
                  <a:pt x="16989" y="13368"/>
                  <a:pt x="17018" y="13589"/>
                </a:cubicBezTo>
                <a:cubicBezTo>
                  <a:pt x="17028" y="13667"/>
                  <a:pt x="17041" y="13731"/>
                  <a:pt x="17113" y="13780"/>
                </a:cubicBezTo>
                <a:cubicBezTo>
                  <a:pt x="17124" y="13780"/>
                  <a:pt x="17134" y="13780"/>
                  <a:pt x="17145" y="13780"/>
                </a:cubicBezTo>
                <a:cubicBezTo>
                  <a:pt x="17204" y="13737"/>
                  <a:pt x="17238" y="13707"/>
                  <a:pt x="17272" y="13621"/>
                </a:cubicBezTo>
                <a:cubicBezTo>
                  <a:pt x="17333" y="13467"/>
                  <a:pt x="17360" y="13305"/>
                  <a:pt x="17399" y="13144"/>
                </a:cubicBezTo>
                <a:cubicBezTo>
                  <a:pt x="17438" y="12986"/>
                  <a:pt x="17473" y="12826"/>
                  <a:pt x="17494" y="12668"/>
                </a:cubicBezTo>
                <a:cubicBezTo>
                  <a:pt x="17501" y="12615"/>
                  <a:pt x="17494" y="12626"/>
                  <a:pt x="17494" y="12573"/>
                </a:cubicBezTo>
                <a:cubicBezTo>
                  <a:pt x="17494" y="12685"/>
                  <a:pt x="17516" y="12783"/>
                  <a:pt x="17526" y="12890"/>
                </a:cubicBezTo>
                <a:cubicBezTo>
                  <a:pt x="17544" y="13079"/>
                  <a:pt x="17553" y="13273"/>
                  <a:pt x="17558" y="13462"/>
                </a:cubicBezTo>
                <a:cubicBezTo>
                  <a:pt x="17563" y="13665"/>
                  <a:pt x="17590" y="13860"/>
                  <a:pt x="17590" y="14065"/>
                </a:cubicBezTo>
                <a:cubicBezTo>
                  <a:pt x="17590" y="14243"/>
                  <a:pt x="17592" y="14431"/>
                  <a:pt x="17558" y="14605"/>
                </a:cubicBezTo>
                <a:cubicBezTo>
                  <a:pt x="17542" y="14685"/>
                  <a:pt x="17495" y="14863"/>
                  <a:pt x="17431" y="14922"/>
                </a:cubicBezTo>
                <a:cubicBezTo>
                  <a:pt x="17355" y="14993"/>
                  <a:pt x="17298" y="14994"/>
                  <a:pt x="17208" y="14954"/>
                </a:cubicBezTo>
                <a:cubicBezTo>
                  <a:pt x="17109" y="14910"/>
                  <a:pt x="17055" y="14797"/>
                  <a:pt x="17018" y="14700"/>
                </a:cubicBezTo>
                <a:cubicBezTo>
                  <a:pt x="16967" y="14569"/>
                  <a:pt x="16986" y="14427"/>
                  <a:pt x="16986" y="14288"/>
                </a:cubicBezTo>
              </a:path>
              <a:path w="2827" h="3049">
                <a:moveTo>
                  <a:pt x="17844" y="12954"/>
                </a:moveTo>
                <a:cubicBezTo>
                  <a:pt x="17844" y="12943"/>
                  <a:pt x="17844" y="12933"/>
                  <a:pt x="17844" y="12922"/>
                </a:cubicBezTo>
                <a:cubicBezTo>
                  <a:pt x="17917" y="12911"/>
                  <a:pt x="17955" y="12890"/>
                  <a:pt x="18034" y="12890"/>
                </a:cubicBezTo>
                <a:cubicBezTo>
                  <a:pt x="18109" y="12890"/>
                  <a:pt x="18144" y="12859"/>
                  <a:pt x="18224" y="12859"/>
                </a:cubicBezTo>
                <a:cubicBezTo>
                  <a:pt x="18277" y="12859"/>
                  <a:pt x="18288" y="12859"/>
                  <a:pt x="18320" y="12859"/>
                </a:cubicBezTo>
              </a:path>
              <a:path w="2827" h="3049">
                <a:moveTo>
                  <a:pt x="17907" y="13240"/>
                </a:moveTo>
                <a:cubicBezTo>
                  <a:pt x="17843" y="13272"/>
                  <a:pt x="17929" y="13272"/>
                  <a:pt x="17970" y="13272"/>
                </a:cubicBezTo>
                <a:cubicBezTo>
                  <a:pt x="18038" y="13272"/>
                  <a:pt x="18100" y="13265"/>
                  <a:pt x="18161" y="13240"/>
                </a:cubicBezTo>
                <a:cubicBezTo>
                  <a:pt x="18222" y="13209"/>
                  <a:pt x="18241" y="13198"/>
                  <a:pt x="18288" y="13208"/>
                </a:cubicBezTo>
              </a:path>
              <a:path w="2827" h="3049">
                <a:moveTo>
                  <a:pt x="18637" y="12446"/>
                </a:moveTo>
                <a:cubicBezTo>
                  <a:pt x="18710" y="12446"/>
                  <a:pt x="18761" y="12425"/>
                  <a:pt x="18828" y="12414"/>
                </a:cubicBezTo>
                <a:cubicBezTo>
                  <a:pt x="18916" y="12399"/>
                  <a:pt x="18999" y="12388"/>
                  <a:pt x="19082" y="12351"/>
                </a:cubicBezTo>
                <a:cubicBezTo>
                  <a:pt x="19103" y="12340"/>
                  <a:pt x="19124" y="12330"/>
                  <a:pt x="19145" y="12319"/>
                </a:cubicBezTo>
              </a:path>
              <a:path w="2827" h="3049">
                <a:moveTo>
                  <a:pt x="19463" y="11938"/>
                </a:moveTo>
                <a:cubicBezTo>
                  <a:pt x="19420" y="12009"/>
                  <a:pt x="19398" y="12105"/>
                  <a:pt x="19368" y="12192"/>
                </a:cubicBezTo>
                <a:cubicBezTo>
                  <a:pt x="19316" y="12343"/>
                  <a:pt x="19223" y="12484"/>
                  <a:pt x="19177" y="12636"/>
                </a:cubicBezTo>
                <a:cubicBezTo>
                  <a:pt x="19129" y="12795"/>
                  <a:pt x="19088" y="12979"/>
                  <a:pt x="19082" y="13144"/>
                </a:cubicBezTo>
                <a:cubicBezTo>
                  <a:pt x="19081" y="13184"/>
                  <a:pt x="19086" y="13349"/>
                  <a:pt x="19145" y="13367"/>
                </a:cubicBezTo>
                <a:cubicBezTo>
                  <a:pt x="19214" y="13388"/>
                  <a:pt x="19309" y="13362"/>
                  <a:pt x="19368" y="13335"/>
                </a:cubicBezTo>
                <a:cubicBezTo>
                  <a:pt x="19453" y="13297"/>
                  <a:pt x="19547" y="13194"/>
                  <a:pt x="19590" y="13113"/>
                </a:cubicBezTo>
                <a:cubicBezTo>
                  <a:pt x="19649" y="13001"/>
                  <a:pt x="19680" y="12913"/>
                  <a:pt x="19717" y="12795"/>
                </a:cubicBezTo>
                <a:cubicBezTo>
                  <a:pt x="19742" y="12743"/>
                  <a:pt x="19753" y="12735"/>
                  <a:pt x="19748" y="12700"/>
                </a:cubicBezTo>
                <a:cubicBezTo>
                  <a:pt x="19684" y="12716"/>
                  <a:pt x="19627" y="12721"/>
                  <a:pt x="19590" y="12795"/>
                </a:cubicBezTo>
                <a:cubicBezTo>
                  <a:pt x="19533" y="12908"/>
                  <a:pt x="19483" y="13029"/>
                  <a:pt x="19431" y="13144"/>
                </a:cubicBezTo>
                <a:cubicBezTo>
                  <a:pt x="19398" y="13217"/>
                  <a:pt x="19399" y="13255"/>
                  <a:pt x="19399" y="13335"/>
                </a:cubicBezTo>
              </a:path>
              <a:path w="2827" h="3049">
                <a:moveTo>
                  <a:pt x="17177" y="14288"/>
                </a:moveTo>
                <a:cubicBezTo>
                  <a:pt x="17166" y="14288"/>
                  <a:pt x="17156" y="14288"/>
                  <a:pt x="17145" y="14288"/>
                </a:cubicBezTo>
                <a:cubicBezTo>
                  <a:pt x="17201" y="14260"/>
                  <a:pt x="17269" y="14235"/>
                  <a:pt x="17336" y="14224"/>
                </a:cubicBezTo>
                <a:cubicBezTo>
                  <a:pt x="17449" y="14205"/>
                  <a:pt x="17572" y="14171"/>
                  <a:pt x="17685" y="14160"/>
                </a:cubicBezTo>
                <a:cubicBezTo>
                  <a:pt x="17862" y="14143"/>
                  <a:pt x="18047" y="14133"/>
                  <a:pt x="18224" y="14129"/>
                </a:cubicBezTo>
                <a:cubicBezTo>
                  <a:pt x="18439" y="14124"/>
                  <a:pt x="18646" y="14102"/>
                  <a:pt x="18860" y="14097"/>
                </a:cubicBezTo>
                <a:cubicBezTo>
                  <a:pt x="19128" y="14091"/>
                  <a:pt x="19392" y="14101"/>
                  <a:pt x="19653" y="14129"/>
                </a:cubicBezTo>
                <a:cubicBezTo>
                  <a:pt x="19738" y="14129"/>
                  <a:pt x="19759" y="14129"/>
                  <a:pt x="19812" y="141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Ink 14"/>
          <p:cNvSpPr/>
          <p:nvPr/>
        </p:nvSpPr>
        <p:spPr>
          <a:xfrm>
            <a:off x="593640" y="3108240"/>
            <a:ext cx="3213360" cy="698760"/>
          </a:xfrm>
          <a:custGeom>
            <a:avLst/>
            <a:gdLst/>
            <a:ahLst/>
            <a:rect l="l" t="t" r="r" b="b"/>
            <a:pathLst>
              <a:path w="8923" h="1938">
                <a:moveTo>
                  <a:pt x="1905" y="8954"/>
                </a:moveTo>
                <a:cubicBezTo>
                  <a:pt x="1905" y="9058"/>
                  <a:pt x="1885" y="9138"/>
                  <a:pt x="1873" y="9239"/>
                </a:cubicBezTo>
                <a:cubicBezTo>
                  <a:pt x="1857" y="9377"/>
                  <a:pt x="1825" y="9515"/>
                  <a:pt x="1810" y="9652"/>
                </a:cubicBezTo>
                <a:cubicBezTo>
                  <a:pt x="1792" y="9810"/>
                  <a:pt x="1775" y="9946"/>
                  <a:pt x="1714" y="10096"/>
                </a:cubicBezTo>
                <a:cubicBezTo>
                  <a:pt x="1700" y="10130"/>
                  <a:pt x="1651" y="10293"/>
                  <a:pt x="1651" y="10224"/>
                </a:cubicBezTo>
                <a:cubicBezTo>
                  <a:pt x="1651" y="10203"/>
                  <a:pt x="1651" y="10181"/>
                  <a:pt x="1651" y="10160"/>
                </a:cubicBezTo>
              </a:path>
              <a:path w="8923" h="1938">
                <a:moveTo>
                  <a:pt x="2286" y="9017"/>
                </a:moveTo>
                <a:cubicBezTo>
                  <a:pt x="2231" y="9090"/>
                  <a:pt x="2206" y="9187"/>
                  <a:pt x="2159" y="9271"/>
                </a:cubicBezTo>
                <a:cubicBezTo>
                  <a:pt x="2072" y="9429"/>
                  <a:pt x="2019" y="9627"/>
                  <a:pt x="2000" y="9811"/>
                </a:cubicBezTo>
                <a:cubicBezTo>
                  <a:pt x="1990" y="9910"/>
                  <a:pt x="1980" y="10081"/>
                  <a:pt x="2064" y="10160"/>
                </a:cubicBezTo>
                <a:cubicBezTo>
                  <a:pt x="2158" y="10248"/>
                  <a:pt x="2250" y="10160"/>
                  <a:pt x="2318" y="10096"/>
                </a:cubicBezTo>
                <a:cubicBezTo>
                  <a:pt x="2419" y="10001"/>
                  <a:pt x="2545" y="9821"/>
                  <a:pt x="2572" y="9684"/>
                </a:cubicBezTo>
                <a:cubicBezTo>
                  <a:pt x="2599" y="9546"/>
                  <a:pt x="2591" y="9342"/>
                  <a:pt x="2540" y="9208"/>
                </a:cubicBezTo>
                <a:cubicBezTo>
                  <a:pt x="2515" y="9142"/>
                  <a:pt x="2417" y="9036"/>
                  <a:pt x="2350" y="9049"/>
                </a:cubicBezTo>
                <a:cubicBezTo>
                  <a:pt x="2288" y="9061"/>
                  <a:pt x="2294" y="9096"/>
                  <a:pt x="2286" y="9144"/>
                </a:cubicBezTo>
              </a:path>
              <a:path w="8923" h="1938">
                <a:moveTo>
                  <a:pt x="3016" y="9080"/>
                </a:moveTo>
                <a:cubicBezTo>
                  <a:pt x="2976" y="9080"/>
                  <a:pt x="3022" y="9133"/>
                  <a:pt x="3048" y="9208"/>
                </a:cubicBezTo>
                <a:cubicBezTo>
                  <a:pt x="3102" y="9361"/>
                  <a:pt x="3186" y="9491"/>
                  <a:pt x="3238" y="9652"/>
                </a:cubicBezTo>
                <a:cubicBezTo>
                  <a:pt x="3286" y="9801"/>
                  <a:pt x="3355" y="9956"/>
                  <a:pt x="3429" y="10096"/>
                </a:cubicBezTo>
                <a:cubicBezTo>
                  <a:pt x="3473" y="10179"/>
                  <a:pt x="3523" y="10254"/>
                  <a:pt x="3588" y="10319"/>
                </a:cubicBezTo>
              </a:path>
              <a:path w="8923" h="1938">
                <a:moveTo>
                  <a:pt x="3715" y="9271"/>
                </a:moveTo>
                <a:cubicBezTo>
                  <a:pt x="3628" y="9358"/>
                  <a:pt x="3553" y="9449"/>
                  <a:pt x="3492" y="9557"/>
                </a:cubicBezTo>
                <a:cubicBezTo>
                  <a:pt x="3396" y="9728"/>
                  <a:pt x="3302" y="9914"/>
                  <a:pt x="3175" y="10065"/>
                </a:cubicBezTo>
                <a:cubicBezTo>
                  <a:pt x="3103" y="10151"/>
                  <a:pt x="3027" y="10235"/>
                  <a:pt x="2953" y="10319"/>
                </a:cubicBezTo>
              </a:path>
              <a:path w="8923" h="1938">
                <a:moveTo>
                  <a:pt x="4413" y="9144"/>
                </a:moveTo>
                <a:cubicBezTo>
                  <a:pt x="4413" y="9223"/>
                  <a:pt x="4389" y="9295"/>
                  <a:pt x="4382" y="9366"/>
                </a:cubicBezTo>
                <a:cubicBezTo>
                  <a:pt x="4350" y="9687"/>
                  <a:pt x="4382" y="10027"/>
                  <a:pt x="4382" y="10350"/>
                </a:cubicBezTo>
              </a:path>
              <a:path w="8923" h="1938">
                <a:moveTo>
                  <a:pt x="4128" y="9842"/>
                </a:moveTo>
                <a:cubicBezTo>
                  <a:pt x="4194" y="9882"/>
                  <a:pt x="4244" y="9886"/>
                  <a:pt x="4318" y="9906"/>
                </a:cubicBezTo>
                <a:cubicBezTo>
                  <a:pt x="4428" y="9936"/>
                  <a:pt x="4528" y="9915"/>
                  <a:pt x="4636" y="9938"/>
                </a:cubicBezTo>
                <a:cubicBezTo>
                  <a:pt x="4668" y="9949"/>
                  <a:pt x="4699" y="9959"/>
                  <a:pt x="4731" y="9970"/>
                </a:cubicBezTo>
              </a:path>
              <a:path w="8923" h="1938">
                <a:moveTo>
                  <a:pt x="5112" y="9080"/>
                </a:moveTo>
                <a:cubicBezTo>
                  <a:pt x="5147" y="9029"/>
                  <a:pt x="5161" y="8973"/>
                  <a:pt x="5207" y="8922"/>
                </a:cubicBezTo>
                <a:cubicBezTo>
                  <a:pt x="5268" y="8855"/>
                  <a:pt x="5308" y="8800"/>
                  <a:pt x="5398" y="8795"/>
                </a:cubicBezTo>
                <a:cubicBezTo>
                  <a:pt x="5447" y="8792"/>
                  <a:pt x="5491" y="8783"/>
                  <a:pt x="5524" y="8826"/>
                </a:cubicBezTo>
                <a:cubicBezTo>
                  <a:pt x="5570" y="8886"/>
                  <a:pt x="5574" y="9011"/>
                  <a:pt x="5556" y="9080"/>
                </a:cubicBezTo>
                <a:cubicBezTo>
                  <a:pt x="5531" y="9175"/>
                  <a:pt x="5454" y="9236"/>
                  <a:pt x="5398" y="9303"/>
                </a:cubicBezTo>
                <a:cubicBezTo>
                  <a:pt x="5350" y="9360"/>
                  <a:pt x="5303" y="9358"/>
                  <a:pt x="5239" y="9366"/>
                </a:cubicBezTo>
                <a:cubicBezTo>
                  <a:pt x="5147" y="9378"/>
                  <a:pt x="5332" y="9366"/>
                  <a:pt x="5334" y="9366"/>
                </a:cubicBezTo>
                <a:cubicBezTo>
                  <a:pt x="5418" y="9366"/>
                  <a:pt x="5469" y="9391"/>
                  <a:pt x="5524" y="9462"/>
                </a:cubicBezTo>
                <a:cubicBezTo>
                  <a:pt x="5597" y="9558"/>
                  <a:pt x="5649" y="9722"/>
                  <a:pt x="5620" y="9842"/>
                </a:cubicBezTo>
                <a:cubicBezTo>
                  <a:pt x="5597" y="9938"/>
                  <a:pt x="5557" y="10019"/>
                  <a:pt x="5493" y="10096"/>
                </a:cubicBezTo>
                <a:cubicBezTo>
                  <a:pt x="5415" y="10189"/>
                  <a:pt x="5312" y="10205"/>
                  <a:pt x="5207" y="10255"/>
                </a:cubicBezTo>
                <a:cubicBezTo>
                  <a:pt x="5128" y="10292"/>
                  <a:pt x="5055" y="10310"/>
                  <a:pt x="4985" y="10255"/>
                </a:cubicBezTo>
                <a:cubicBezTo>
                  <a:pt x="4914" y="10199"/>
                  <a:pt x="4985" y="10128"/>
                  <a:pt x="5016" y="10065"/>
                </a:cubicBezTo>
              </a:path>
              <a:path w="8923" h="1938">
                <a:moveTo>
                  <a:pt x="6540" y="8636"/>
                </a:moveTo>
                <a:cubicBezTo>
                  <a:pt x="6493" y="8683"/>
                  <a:pt x="6458" y="8701"/>
                  <a:pt x="6414" y="8763"/>
                </a:cubicBezTo>
                <a:cubicBezTo>
                  <a:pt x="6290" y="8939"/>
                  <a:pt x="6154" y="9092"/>
                  <a:pt x="6032" y="9271"/>
                </a:cubicBezTo>
                <a:cubicBezTo>
                  <a:pt x="5920" y="9436"/>
                  <a:pt x="5839" y="9675"/>
                  <a:pt x="5810" y="9874"/>
                </a:cubicBezTo>
                <a:cubicBezTo>
                  <a:pt x="5791" y="10007"/>
                  <a:pt x="5851" y="10111"/>
                  <a:pt x="5906" y="10192"/>
                </a:cubicBezTo>
                <a:cubicBezTo>
                  <a:pt x="5960" y="10271"/>
                  <a:pt x="6020" y="10317"/>
                  <a:pt x="6128" y="10287"/>
                </a:cubicBezTo>
                <a:cubicBezTo>
                  <a:pt x="6149" y="10276"/>
                  <a:pt x="6170" y="10266"/>
                  <a:pt x="6191" y="10255"/>
                </a:cubicBezTo>
              </a:path>
              <a:path w="8923" h="1938">
                <a:moveTo>
                  <a:pt x="6350" y="9557"/>
                </a:moveTo>
                <a:cubicBezTo>
                  <a:pt x="6420" y="9598"/>
                  <a:pt x="6486" y="9588"/>
                  <a:pt x="6572" y="9588"/>
                </a:cubicBezTo>
                <a:cubicBezTo>
                  <a:pt x="6667" y="9588"/>
                  <a:pt x="6763" y="9588"/>
                  <a:pt x="6858" y="9588"/>
                </a:cubicBezTo>
              </a:path>
              <a:path w="8923" h="1938">
                <a:moveTo>
                  <a:pt x="7176" y="9208"/>
                </a:moveTo>
                <a:cubicBezTo>
                  <a:pt x="7125" y="9296"/>
                  <a:pt x="7082" y="9363"/>
                  <a:pt x="7048" y="9462"/>
                </a:cubicBezTo>
                <a:cubicBezTo>
                  <a:pt x="6994" y="9619"/>
                  <a:pt x="6928" y="9773"/>
                  <a:pt x="6922" y="9938"/>
                </a:cubicBezTo>
                <a:cubicBezTo>
                  <a:pt x="6918" y="10035"/>
                  <a:pt x="6904" y="10179"/>
                  <a:pt x="6985" y="10255"/>
                </a:cubicBezTo>
                <a:cubicBezTo>
                  <a:pt x="7061" y="10326"/>
                  <a:pt x="7196" y="10264"/>
                  <a:pt x="7271" y="10224"/>
                </a:cubicBezTo>
                <a:cubicBezTo>
                  <a:pt x="7400" y="10154"/>
                  <a:pt x="7467" y="10030"/>
                  <a:pt x="7525" y="9906"/>
                </a:cubicBezTo>
                <a:cubicBezTo>
                  <a:pt x="7565" y="9821"/>
                  <a:pt x="7542" y="9850"/>
                  <a:pt x="7525" y="9779"/>
                </a:cubicBezTo>
                <a:cubicBezTo>
                  <a:pt x="7425" y="9779"/>
                  <a:pt x="7324" y="9779"/>
                  <a:pt x="7239" y="9842"/>
                </a:cubicBezTo>
                <a:cubicBezTo>
                  <a:pt x="7147" y="9911"/>
                  <a:pt x="7118" y="10020"/>
                  <a:pt x="7112" y="10128"/>
                </a:cubicBezTo>
                <a:cubicBezTo>
                  <a:pt x="7108" y="10202"/>
                  <a:pt x="7110" y="10230"/>
                  <a:pt x="7144" y="10287"/>
                </a:cubicBezTo>
                <a:cubicBezTo>
                  <a:pt x="7268" y="10287"/>
                  <a:pt x="7259" y="10268"/>
                  <a:pt x="7334" y="10160"/>
                </a:cubicBezTo>
              </a:path>
              <a:path w="8923" h="1938">
                <a:moveTo>
                  <a:pt x="7684" y="8731"/>
                </a:moveTo>
                <a:cubicBezTo>
                  <a:pt x="7717" y="8798"/>
                  <a:pt x="7776" y="8880"/>
                  <a:pt x="7810" y="8954"/>
                </a:cubicBezTo>
                <a:cubicBezTo>
                  <a:pt x="7888" y="9122"/>
                  <a:pt x="7927" y="9282"/>
                  <a:pt x="7969" y="9462"/>
                </a:cubicBezTo>
                <a:cubicBezTo>
                  <a:pt x="8012" y="9649"/>
                  <a:pt x="8010" y="9815"/>
                  <a:pt x="7969" y="10001"/>
                </a:cubicBezTo>
                <a:cubicBezTo>
                  <a:pt x="7937" y="10145"/>
                  <a:pt x="7901" y="10296"/>
                  <a:pt x="7810" y="10414"/>
                </a:cubicBezTo>
                <a:cubicBezTo>
                  <a:pt x="7777" y="10456"/>
                  <a:pt x="7658" y="10567"/>
                  <a:pt x="7620" y="10573"/>
                </a:cubicBezTo>
                <a:cubicBezTo>
                  <a:pt x="7543" y="10585"/>
                  <a:pt x="7610" y="10528"/>
                  <a:pt x="7620" y="10509"/>
                </a:cubicBezTo>
              </a:path>
              <a:path w="8923" h="1938">
                <a:moveTo>
                  <a:pt x="8318" y="9620"/>
                </a:moveTo>
                <a:cubicBezTo>
                  <a:pt x="8409" y="9581"/>
                  <a:pt x="8470" y="9588"/>
                  <a:pt x="8572" y="9588"/>
                </a:cubicBezTo>
                <a:cubicBezTo>
                  <a:pt x="8657" y="9588"/>
                  <a:pt x="8758" y="9617"/>
                  <a:pt x="8826" y="9652"/>
                </a:cubicBezTo>
              </a:path>
              <a:path w="8923" h="1938">
                <a:moveTo>
                  <a:pt x="8350" y="10033"/>
                </a:moveTo>
                <a:cubicBezTo>
                  <a:pt x="8413" y="10058"/>
                  <a:pt x="8512" y="10033"/>
                  <a:pt x="8604" y="10033"/>
                </a:cubicBezTo>
                <a:cubicBezTo>
                  <a:pt x="8678" y="10033"/>
                  <a:pt x="8752" y="10033"/>
                  <a:pt x="8826" y="10033"/>
                </a:cubicBezTo>
              </a:path>
              <a:path w="8923" h="1938">
                <a:moveTo>
                  <a:pt x="9080" y="9462"/>
                </a:moveTo>
                <a:cubicBezTo>
                  <a:pt x="9080" y="9338"/>
                  <a:pt x="9084" y="9308"/>
                  <a:pt x="9144" y="9208"/>
                </a:cubicBezTo>
                <a:cubicBezTo>
                  <a:pt x="9211" y="9097"/>
                  <a:pt x="9180" y="9094"/>
                  <a:pt x="9303" y="9080"/>
                </a:cubicBezTo>
                <a:cubicBezTo>
                  <a:pt x="9399" y="9069"/>
                  <a:pt x="9440" y="9109"/>
                  <a:pt x="9462" y="9208"/>
                </a:cubicBezTo>
                <a:cubicBezTo>
                  <a:pt x="9495" y="9357"/>
                  <a:pt x="9413" y="9433"/>
                  <a:pt x="9366" y="9557"/>
                </a:cubicBezTo>
                <a:cubicBezTo>
                  <a:pt x="9308" y="9710"/>
                  <a:pt x="9262" y="9860"/>
                  <a:pt x="9176" y="10001"/>
                </a:cubicBezTo>
                <a:cubicBezTo>
                  <a:pt x="9117" y="10098"/>
                  <a:pt x="9049" y="10194"/>
                  <a:pt x="8985" y="10287"/>
                </a:cubicBezTo>
                <a:cubicBezTo>
                  <a:pt x="8954" y="10319"/>
                  <a:pt x="8944" y="10330"/>
                  <a:pt x="8922" y="10350"/>
                </a:cubicBezTo>
                <a:cubicBezTo>
                  <a:pt x="8989" y="10334"/>
                  <a:pt x="9032" y="10319"/>
                  <a:pt x="9112" y="10319"/>
                </a:cubicBezTo>
                <a:cubicBezTo>
                  <a:pt x="9221" y="10319"/>
                  <a:pt x="9271" y="10334"/>
                  <a:pt x="9366" y="10382"/>
                </a:cubicBezTo>
                <a:cubicBezTo>
                  <a:pt x="9409" y="10404"/>
                  <a:pt x="9505" y="10499"/>
                  <a:pt x="9557" y="10478"/>
                </a:cubicBezTo>
                <a:cubicBezTo>
                  <a:pt x="9588" y="10446"/>
                  <a:pt x="9599" y="10435"/>
                  <a:pt x="9620" y="10414"/>
                </a:cubicBezTo>
              </a:path>
              <a:path w="8923" h="1938">
                <a:moveTo>
                  <a:pt x="9842" y="9462"/>
                </a:moveTo>
                <a:cubicBezTo>
                  <a:pt x="9852" y="9386"/>
                  <a:pt x="9831" y="9351"/>
                  <a:pt x="9906" y="9303"/>
                </a:cubicBezTo>
                <a:cubicBezTo>
                  <a:pt x="9969" y="9263"/>
                  <a:pt x="10017" y="9223"/>
                  <a:pt x="10096" y="9239"/>
                </a:cubicBezTo>
                <a:cubicBezTo>
                  <a:pt x="10150" y="9250"/>
                  <a:pt x="10261" y="9311"/>
                  <a:pt x="10287" y="9366"/>
                </a:cubicBezTo>
                <a:cubicBezTo>
                  <a:pt x="10349" y="9497"/>
                  <a:pt x="10297" y="9588"/>
                  <a:pt x="10255" y="9716"/>
                </a:cubicBezTo>
                <a:cubicBezTo>
                  <a:pt x="10205" y="9869"/>
                  <a:pt x="10124" y="9972"/>
                  <a:pt x="10033" y="10096"/>
                </a:cubicBezTo>
                <a:cubicBezTo>
                  <a:pt x="9960" y="10195"/>
                  <a:pt x="9894" y="10292"/>
                  <a:pt x="9811" y="10382"/>
                </a:cubicBezTo>
                <a:cubicBezTo>
                  <a:pt x="9793" y="10402"/>
                  <a:pt x="9685" y="10475"/>
                  <a:pt x="9684" y="10478"/>
                </a:cubicBezTo>
                <a:cubicBezTo>
                  <a:pt x="9695" y="10478"/>
                  <a:pt x="9705" y="10478"/>
                  <a:pt x="9716" y="10478"/>
                </a:cubicBezTo>
                <a:cubicBezTo>
                  <a:pt x="9742" y="10441"/>
                  <a:pt x="9754" y="10397"/>
                  <a:pt x="9811" y="10382"/>
                </a:cubicBezTo>
                <a:cubicBezTo>
                  <a:pt x="9878" y="10364"/>
                  <a:pt x="9945" y="10418"/>
                  <a:pt x="10001" y="10446"/>
                </a:cubicBezTo>
                <a:cubicBezTo>
                  <a:pt x="10079" y="10485"/>
                  <a:pt x="10202" y="10558"/>
                  <a:pt x="10287" y="10573"/>
                </a:cubicBezTo>
                <a:cubicBezTo>
                  <a:pt x="10401" y="10593"/>
                  <a:pt x="10476" y="10558"/>
                  <a:pt x="10573" y="10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Ink 15"/>
          <p:cNvSpPr/>
          <p:nvPr/>
        </p:nvSpPr>
        <p:spPr>
          <a:xfrm>
            <a:off x="879480" y="3851280"/>
            <a:ext cx="2355840" cy="527040"/>
          </a:xfrm>
          <a:custGeom>
            <a:avLst/>
            <a:gdLst/>
            <a:ahLst/>
            <a:rect l="l" t="t" r="r" b="b"/>
            <a:pathLst>
              <a:path w="6541" h="1461">
                <a:moveTo>
                  <a:pt x="2762" y="10954"/>
                </a:moveTo>
                <a:cubicBezTo>
                  <a:pt x="2717" y="11013"/>
                  <a:pt x="2723" y="11044"/>
                  <a:pt x="2699" y="11112"/>
                </a:cubicBezTo>
                <a:cubicBezTo>
                  <a:pt x="2660" y="11221"/>
                  <a:pt x="2617" y="11312"/>
                  <a:pt x="2604" y="11430"/>
                </a:cubicBezTo>
                <a:cubicBezTo>
                  <a:pt x="2591" y="11545"/>
                  <a:pt x="2566" y="11665"/>
                  <a:pt x="2540" y="11779"/>
                </a:cubicBezTo>
                <a:cubicBezTo>
                  <a:pt x="2523" y="11855"/>
                  <a:pt x="2488" y="11943"/>
                  <a:pt x="2445" y="12002"/>
                </a:cubicBezTo>
              </a:path>
              <a:path w="6541" h="1461">
                <a:moveTo>
                  <a:pt x="3048" y="11112"/>
                </a:moveTo>
                <a:cubicBezTo>
                  <a:pt x="3029" y="11206"/>
                  <a:pt x="2984" y="11304"/>
                  <a:pt x="2953" y="11398"/>
                </a:cubicBezTo>
                <a:cubicBezTo>
                  <a:pt x="2911" y="11525"/>
                  <a:pt x="2835" y="11674"/>
                  <a:pt x="2858" y="11811"/>
                </a:cubicBezTo>
                <a:cubicBezTo>
                  <a:pt x="2868" y="11872"/>
                  <a:pt x="2925" y="12038"/>
                  <a:pt x="3016" y="12033"/>
                </a:cubicBezTo>
                <a:cubicBezTo>
                  <a:pt x="3119" y="12027"/>
                  <a:pt x="3253" y="11920"/>
                  <a:pt x="3302" y="11843"/>
                </a:cubicBezTo>
                <a:cubicBezTo>
                  <a:pt x="3386" y="11712"/>
                  <a:pt x="3424" y="11553"/>
                  <a:pt x="3397" y="11398"/>
                </a:cubicBezTo>
                <a:cubicBezTo>
                  <a:pt x="3375" y="11270"/>
                  <a:pt x="3294" y="11199"/>
                  <a:pt x="3207" y="11112"/>
                </a:cubicBezTo>
                <a:cubicBezTo>
                  <a:pt x="3160" y="11065"/>
                  <a:pt x="3098" y="11060"/>
                  <a:pt x="3080" y="11112"/>
                </a:cubicBezTo>
              </a:path>
              <a:path w="6541" h="1461">
                <a:moveTo>
                  <a:pt x="3588" y="11208"/>
                </a:moveTo>
                <a:cubicBezTo>
                  <a:pt x="3640" y="11225"/>
                  <a:pt x="3627" y="11276"/>
                  <a:pt x="3651" y="11335"/>
                </a:cubicBezTo>
                <a:cubicBezTo>
                  <a:pt x="3689" y="11430"/>
                  <a:pt x="3762" y="11516"/>
                  <a:pt x="3778" y="11620"/>
                </a:cubicBezTo>
                <a:cubicBezTo>
                  <a:pt x="3797" y="11744"/>
                  <a:pt x="3848" y="11823"/>
                  <a:pt x="3905" y="11938"/>
                </a:cubicBezTo>
                <a:cubicBezTo>
                  <a:pt x="3931" y="11990"/>
                  <a:pt x="3929" y="12012"/>
                  <a:pt x="3969" y="12002"/>
                </a:cubicBezTo>
              </a:path>
              <a:path w="6541" h="1461">
                <a:moveTo>
                  <a:pt x="4032" y="11271"/>
                </a:moveTo>
                <a:cubicBezTo>
                  <a:pt x="4016" y="11396"/>
                  <a:pt x="3947" y="11452"/>
                  <a:pt x="3874" y="11557"/>
                </a:cubicBezTo>
                <a:cubicBezTo>
                  <a:pt x="3779" y="11694"/>
                  <a:pt x="3639" y="11830"/>
                  <a:pt x="3556" y="11970"/>
                </a:cubicBezTo>
                <a:cubicBezTo>
                  <a:pt x="3525" y="12061"/>
                  <a:pt x="3517" y="12091"/>
                  <a:pt x="3461" y="12128"/>
                </a:cubicBezTo>
              </a:path>
              <a:path w="6541" h="1461">
                <a:moveTo>
                  <a:pt x="4286" y="11494"/>
                </a:moveTo>
                <a:cubicBezTo>
                  <a:pt x="4303" y="11544"/>
                  <a:pt x="4349" y="11525"/>
                  <a:pt x="4413" y="11525"/>
                </a:cubicBezTo>
                <a:cubicBezTo>
                  <a:pt x="4538" y="11525"/>
                  <a:pt x="4645" y="11532"/>
                  <a:pt x="4762" y="11557"/>
                </a:cubicBezTo>
                <a:cubicBezTo>
                  <a:pt x="4830" y="11572"/>
                  <a:pt x="4846" y="11574"/>
                  <a:pt x="4890" y="11589"/>
                </a:cubicBezTo>
              </a:path>
              <a:path w="6541" h="1461">
                <a:moveTo>
                  <a:pt x="5524" y="10700"/>
                </a:moveTo>
                <a:cubicBezTo>
                  <a:pt x="5508" y="10784"/>
                  <a:pt x="5487" y="10869"/>
                  <a:pt x="5461" y="10954"/>
                </a:cubicBezTo>
                <a:cubicBezTo>
                  <a:pt x="5416" y="11099"/>
                  <a:pt x="5405" y="11248"/>
                  <a:pt x="5366" y="11398"/>
                </a:cubicBezTo>
                <a:cubicBezTo>
                  <a:pt x="5315" y="11596"/>
                  <a:pt x="5289" y="11809"/>
                  <a:pt x="5239" y="12002"/>
                </a:cubicBezTo>
                <a:cubicBezTo>
                  <a:pt x="5224" y="12061"/>
                  <a:pt x="5204" y="12112"/>
                  <a:pt x="5175" y="12160"/>
                </a:cubicBezTo>
              </a:path>
              <a:path w="6541" h="1461">
                <a:moveTo>
                  <a:pt x="6191" y="11208"/>
                </a:moveTo>
                <a:cubicBezTo>
                  <a:pt x="6236" y="11133"/>
                  <a:pt x="6231" y="11092"/>
                  <a:pt x="6191" y="11017"/>
                </a:cubicBezTo>
                <a:cubicBezTo>
                  <a:pt x="6147" y="10935"/>
                  <a:pt x="6091" y="10895"/>
                  <a:pt x="6001" y="10890"/>
                </a:cubicBezTo>
                <a:cubicBezTo>
                  <a:pt x="5907" y="10884"/>
                  <a:pt x="5849" y="10889"/>
                  <a:pt x="5778" y="10954"/>
                </a:cubicBezTo>
                <a:cubicBezTo>
                  <a:pt x="5725" y="11003"/>
                  <a:pt x="5747" y="11109"/>
                  <a:pt x="5747" y="11176"/>
                </a:cubicBezTo>
                <a:cubicBezTo>
                  <a:pt x="5747" y="11298"/>
                  <a:pt x="5824" y="11378"/>
                  <a:pt x="5842" y="11494"/>
                </a:cubicBezTo>
                <a:cubicBezTo>
                  <a:pt x="5860" y="11613"/>
                  <a:pt x="5918" y="11728"/>
                  <a:pt x="5937" y="11843"/>
                </a:cubicBezTo>
                <a:cubicBezTo>
                  <a:pt x="5948" y="11912"/>
                  <a:pt x="5942" y="12038"/>
                  <a:pt x="5906" y="12097"/>
                </a:cubicBezTo>
                <a:cubicBezTo>
                  <a:pt x="5895" y="12107"/>
                  <a:pt x="5885" y="12118"/>
                  <a:pt x="5874" y="12128"/>
                </a:cubicBezTo>
                <a:cubicBezTo>
                  <a:pt x="5855" y="12122"/>
                  <a:pt x="5789" y="12070"/>
                  <a:pt x="5778" y="12033"/>
                </a:cubicBezTo>
                <a:cubicBezTo>
                  <a:pt x="5755" y="11954"/>
                  <a:pt x="5725" y="11833"/>
                  <a:pt x="5747" y="11748"/>
                </a:cubicBezTo>
                <a:cubicBezTo>
                  <a:pt x="5779" y="11623"/>
                  <a:pt x="5817" y="11570"/>
                  <a:pt x="5874" y="11462"/>
                </a:cubicBezTo>
                <a:cubicBezTo>
                  <a:pt x="5944" y="11329"/>
                  <a:pt x="6044" y="11237"/>
                  <a:pt x="6128" y="11112"/>
                </a:cubicBezTo>
                <a:cubicBezTo>
                  <a:pt x="6156" y="11057"/>
                  <a:pt x="6161" y="11042"/>
                  <a:pt x="6191" y="11017"/>
                </a:cubicBezTo>
              </a:path>
              <a:path w="6541" h="1461">
                <a:moveTo>
                  <a:pt x="6604" y="11240"/>
                </a:moveTo>
                <a:cubicBezTo>
                  <a:pt x="6622" y="11292"/>
                  <a:pt x="6667" y="11271"/>
                  <a:pt x="6731" y="11271"/>
                </a:cubicBezTo>
                <a:cubicBezTo>
                  <a:pt x="6854" y="11271"/>
                  <a:pt x="6959" y="11297"/>
                  <a:pt x="7080" y="11303"/>
                </a:cubicBezTo>
                <a:cubicBezTo>
                  <a:pt x="7142" y="11306"/>
                  <a:pt x="7181" y="11323"/>
                  <a:pt x="7239" y="11335"/>
                </a:cubicBezTo>
              </a:path>
              <a:path w="6541" h="1461">
                <a:moveTo>
                  <a:pt x="6636" y="11811"/>
                </a:moveTo>
                <a:cubicBezTo>
                  <a:pt x="6636" y="11822"/>
                  <a:pt x="6636" y="11832"/>
                  <a:pt x="6636" y="11843"/>
                </a:cubicBezTo>
                <a:cubicBezTo>
                  <a:pt x="6703" y="11826"/>
                  <a:pt x="6745" y="11811"/>
                  <a:pt x="6826" y="11811"/>
                </a:cubicBezTo>
                <a:cubicBezTo>
                  <a:pt x="6931" y="11811"/>
                  <a:pt x="7003" y="11806"/>
                  <a:pt x="7112" y="11811"/>
                </a:cubicBezTo>
                <a:cubicBezTo>
                  <a:pt x="7199" y="11811"/>
                  <a:pt x="7224" y="11808"/>
                  <a:pt x="7271" y="11843"/>
                </a:cubicBezTo>
              </a:path>
              <a:path w="6541" h="1461">
                <a:moveTo>
                  <a:pt x="7556" y="11240"/>
                </a:moveTo>
                <a:cubicBezTo>
                  <a:pt x="7556" y="11132"/>
                  <a:pt x="7584" y="11106"/>
                  <a:pt x="7620" y="11017"/>
                </a:cubicBezTo>
                <a:cubicBezTo>
                  <a:pt x="7633" y="10984"/>
                  <a:pt x="7669" y="10903"/>
                  <a:pt x="7715" y="10890"/>
                </a:cubicBezTo>
                <a:cubicBezTo>
                  <a:pt x="7803" y="10865"/>
                  <a:pt x="7826" y="10862"/>
                  <a:pt x="7906" y="10922"/>
                </a:cubicBezTo>
                <a:cubicBezTo>
                  <a:pt x="7965" y="10966"/>
                  <a:pt x="7938" y="11077"/>
                  <a:pt x="7938" y="11144"/>
                </a:cubicBezTo>
                <a:cubicBezTo>
                  <a:pt x="7938" y="11251"/>
                  <a:pt x="7903" y="11402"/>
                  <a:pt x="7842" y="11494"/>
                </a:cubicBezTo>
                <a:cubicBezTo>
                  <a:pt x="7778" y="11590"/>
                  <a:pt x="7709" y="11676"/>
                  <a:pt x="7652" y="11779"/>
                </a:cubicBezTo>
                <a:cubicBezTo>
                  <a:pt x="7612" y="11851"/>
                  <a:pt x="7545" y="11898"/>
                  <a:pt x="7493" y="11938"/>
                </a:cubicBezTo>
                <a:cubicBezTo>
                  <a:pt x="7421" y="11994"/>
                  <a:pt x="7509" y="11938"/>
                  <a:pt x="7556" y="11938"/>
                </a:cubicBezTo>
                <a:cubicBezTo>
                  <a:pt x="7659" y="11938"/>
                  <a:pt x="7668" y="11912"/>
                  <a:pt x="7779" y="11938"/>
                </a:cubicBezTo>
                <a:cubicBezTo>
                  <a:pt x="7812" y="11946"/>
                  <a:pt x="7980" y="11973"/>
                  <a:pt x="8001" y="11970"/>
                </a:cubicBezTo>
                <a:cubicBezTo>
                  <a:pt x="8020" y="11967"/>
                  <a:pt x="8079" y="11918"/>
                  <a:pt x="8096" y="11906"/>
                </a:cubicBezTo>
              </a:path>
              <a:path w="6541" h="1461">
                <a:moveTo>
                  <a:pt x="8287" y="11176"/>
                </a:moveTo>
                <a:cubicBezTo>
                  <a:pt x="8351" y="11124"/>
                  <a:pt x="8396" y="11086"/>
                  <a:pt x="8477" y="11081"/>
                </a:cubicBezTo>
                <a:cubicBezTo>
                  <a:pt x="8564" y="11076"/>
                  <a:pt x="8619" y="11094"/>
                  <a:pt x="8700" y="11112"/>
                </a:cubicBezTo>
                <a:cubicBezTo>
                  <a:pt x="8751" y="11124"/>
                  <a:pt x="8791" y="11150"/>
                  <a:pt x="8795" y="11208"/>
                </a:cubicBezTo>
                <a:cubicBezTo>
                  <a:pt x="8803" y="11321"/>
                  <a:pt x="8729" y="11380"/>
                  <a:pt x="8668" y="11462"/>
                </a:cubicBezTo>
                <a:cubicBezTo>
                  <a:pt x="8587" y="11571"/>
                  <a:pt x="8508" y="11680"/>
                  <a:pt x="8414" y="11779"/>
                </a:cubicBezTo>
                <a:cubicBezTo>
                  <a:pt x="8358" y="11838"/>
                  <a:pt x="8285" y="11927"/>
                  <a:pt x="8255" y="12002"/>
                </a:cubicBezTo>
                <a:cubicBezTo>
                  <a:pt x="8244" y="12030"/>
                  <a:pt x="8297" y="12063"/>
                  <a:pt x="8318" y="12065"/>
                </a:cubicBezTo>
                <a:cubicBezTo>
                  <a:pt x="8397" y="12071"/>
                  <a:pt x="8435" y="12084"/>
                  <a:pt x="8509" y="12097"/>
                </a:cubicBezTo>
                <a:cubicBezTo>
                  <a:pt x="8645" y="12121"/>
                  <a:pt x="8861" y="12119"/>
                  <a:pt x="8985" y="120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Ink 16"/>
          <p:cNvSpPr/>
          <p:nvPr/>
        </p:nvSpPr>
        <p:spPr>
          <a:xfrm>
            <a:off x="1542960" y="4378320"/>
            <a:ext cx="571680" cy="411120"/>
          </a:xfrm>
          <a:custGeom>
            <a:avLst/>
            <a:gdLst/>
            <a:ahLst/>
            <a:rect l="l" t="t" r="r" b="b"/>
            <a:pathLst>
              <a:path w="1589" h="1144">
                <a:moveTo>
                  <a:pt x="4540" y="12160"/>
                </a:moveTo>
                <a:cubicBezTo>
                  <a:pt x="4555" y="12206"/>
                  <a:pt x="4590" y="12236"/>
                  <a:pt x="4572" y="12319"/>
                </a:cubicBezTo>
                <a:cubicBezTo>
                  <a:pt x="4541" y="12458"/>
                  <a:pt x="4521" y="12594"/>
                  <a:pt x="4477" y="12732"/>
                </a:cubicBezTo>
                <a:cubicBezTo>
                  <a:pt x="4446" y="12827"/>
                  <a:pt x="4407" y="12933"/>
                  <a:pt x="4382" y="13018"/>
                </a:cubicBezTo>
                <a:cubicBezTo>
                  <a:pt x="4382" y="13028"/>
                  <a:pt x="4382" y="13039"/>
                  <a:pt x="4382" y="13049"/>
                </a:cubicBezTo>
              </a:path>
              <a:path w="1589" h="1144">
                <a:moveTo>
                  <a:pt x="4286" y="12478"/>
                </a:moveTo>
                <a:cubicBezTo>
                  <a:pt x="4371" y="12495"/>
                  <a:pt x="4453" y="12519"/>
                  <a:pt x="4540" y="12541"/>
                </a:cubicBezTo>
                <a:cubicBezTo>
                  <a:pt x="4648" y="12569"/>
                  <a:pt x="4752" y="12601"/>
                  <a:pt x="4858" y="12636"/>
                </a:cubicBezTo>
              </a:path>
              <a:path w="1589" h="1144">
                <a:moveTo>
                  <a:pt x="5175" y="12287"/>
                </a:moveTo>
                <a:cubicBezTo>
                  <a:pt x="5162" y="12394"/>
                  <a:pt x="5124" y="12497"/>
                  <a:pt x="5112" y="12605"/>
                </a:cubicBezTo>
                <a:cubicBezTo>
                  <a:pt x="5094" y="12767"/>
                  <a:pt x="5062" y="12922"/>
                  <a:pt x="5016" y="13081"/>
                </a:cubicBezTo>
                <a:cubicBezTo>
                  <a:pt x="4992" y="13165"/>
                  <a:pt x="4985" y="13216"/>
                  <a:pt x="4985" y="13303"/>
                </a:cubicBezTo>
              </a:path>
              <a:path w="1589" h="1144">
                <a:moveTo>
                  <a:pt x="5683" y="12605"/>
                </a:moveTo>
                <a:cubicBezTo>
                  <a:pt x="5683" y="12506"/>
                  <a:pt x="5718" y="12395"/>
                  <a:pt x="5620" y="12351"/>
                </a:cubicBezTo>
                <a:cubicBezTo>
                  <a:pt x="5556" y="12322"/>
                  <a:pt x="5508" y="12367"/>
                  <a:pt x="5461" y="12382"/>
                </a:cubicBezTo>
                <a:cubicBezTo>
                  <a:pt x="5393" y="12404"/>
                  <a:pt x="5378" y="12499"/>
                  <a:pt x="5398" y="12573"/>
                </a:cubicBezTo>
                <a:cubicBezTo>
                  <a:pt x="5423" y="12665"/>
                  <a:pt x="5459" y="12770"/>
                  <a:pt x="5493" y="12859"/>
                </a:cubicBezTo>
                <a:cubicBezTo>
                  <a:pt x="5525" y="12944"/>
                  <a:pt x="5584" y="13014"/>
                  <a:pt x="5556" y="13113"/>
                </a:cubicBezTo>
                <a:cubicBezTo>
                  <a:pt x="5539" y="13173"/>
                  <a:pt x="5488" y="13233"/>
                  <a:pt x="5429" y="13240"/>
                </a:cubicBezTo>
                <a:cubicBezTo>
                  <a:pt x="5398" y="13243"/>
                  <a:pt x="5365" y="13240"/>
                  <a:pt x="5334" y="13240"/>
                </a:cubicBezTo>
                <a:cubicBezTo>
                  <a:pt x="5334" y="13154"/>
                  <a:pt x="5331" y="13097"/>
                  <a:pt x="5366" y="13018"/>
                </a:cubicBezTo>
                <a:cubicBezTo>
                  <a:pt x="5423" y="12890"/>
                  <a:pt x="5453" y="12850"/>
                  <a:pt x="5556" y="12764"/>
                </a:cubicBezTo>
                <a:cubicBezTo>
                  <a:pt x="5620" y="12711"/>
                  <a:pt x="5721" y="12656"/>
                  <a:pt x="5810" y="12636"/>
                </a:cubicBezTo>
                <a:cubicBezTo>
                  <a:pt x="5831" y="12636"/>
                  <a:pt x="5853" y="12636"/>
                  <a:pt x="5874" y="12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Ink 17"/>
          <p:cNvSpPr/>
          <p:nvPr/>
        </p:nvSpPr>
        <p:spPr>
          <a:xfrm>
            <a:off x="2468520" y="4446720"/>
            <a:ext cx="617760" cy="353880"/>
          </a:xfrm>
          <a:custGeom>
            <a:avLst/>
            <a:gdLst/>
            <a:ahLst/>
            <a:rect l="l" t="t" r="r" b="b"/>
            <a:pathLst>
              <a:path w="1715" h="985">
                <a:moveTo>
                  <a:pt x="7176" y="12351"/>
                </a:moveTo>
                <a:cubicBezTo>
                  <a:pt x="7130" y="12411"/>
                  <a:pt x="7121" y="12527"/>
                  <a:pt x="7112" y="12605"/>
                </a:cubicBezTo>
                <a:cubicBezTo>
                  <a:pt x="7099" y="12721"/>
                  <a:pt x="7085" y="12838"/>
                  <a:pt x="7080" y="12954"/>
                </a:cubicBezTo>
                <a:cubicBezTo>
                  <a:pt x="7080" y="13018"/>
                  <a:pt x="7080" y="13039"/>
                  <a:pt x="7080" y="13081"/>
                </a:cubicBezTo>
              </a:path>
              <a:path w="1715" h="985">
                <a:moveTo>
                  <a:pt x="6922" y="12636"/>
                </a:moveTo>
                <a:cubicBezTo>
                  <a:pt x="6890" y="12636"/>
                  <a:pt x="6879" y="12636"/>
                  <a:pt x="6858" y="12636"/>
                </a:cubicBezTo>
                <a:cubicBezTo>
                  <a:pt x="7049" y="12636"/>
                  <a:pt x="7239" y="12636"/>
                  <a:pt x="7430" y="12636"/>
                </a:cubicBezTo>
              </a:path>
              <a:path w="1715" h="985">
                <a:moveTo>
                  <a:pt x="7810" y="12351"/>
                </a:moveTo>
                <a:cubicBezTo>
                  <a:pt x="7740" y="12374"/>
                  <a:pt x="7766" y="12431"/>
                  <a:pt x="7747" y="12510"/>
                </a:cubicBezTo>
                <a:cubicBezTo>
                  <a:pt x="7717" y="12633"/>
                  <a:pt x="7697" y="12740"/>
                  <a:pt x="7652" y="12859"/>
                </a:cubicBezTo>
                <a:cubicBezTo>
                  <a:pt x="7615" y="12958"/>
                  <a:pt x="7588" y="13040"/>
                  <a:pt x="7588" y="13144"/>
                </a:cubicBezTo>
              </a:path>
              <a:path w="1715" h="985">
                <a:moveTo>
                  <a:pt x="8287" y="12764"/>
                </a:moveTo>
                <a:cubicBezTo>
                  <a:pt x="8331" y="12714"/>
                  <a:pt x="8440" y="12619"/>
                  <a:pt x="8414" y="12541"/>
                </a:cubicBezTo>
                <a:cubicBezTo>
                  <a:pt x="8396" y="12487"/>
                  <a:pt x="8337" y="12444"/>
                  <a:pt x="8287" y="12414"/>
                </a:cubicBezTo>
                <a:cubicBezTo>
                  <a:pt x="8234" y="12382"/>
                  <a:pt x="8167" y="12390"/>
                  <a:pt x="8128" y="12446"/>
                </a:cubicBezTo>
                <a:cubicBezTo>
                  <a:pt x="8068" y="12533"/>
                  <a:pt x="8097" y="12613"/>
                  <a:pt x="8128" y="12700"/>
                </a:cubicBezTo>
                <a:cubicBezTo>
                  <a:pt x="8166" y="12809"/>
                  <a:pt x="8213" y="12911"/>
                  <a:pt x="8255" y="13018"/>
                </a:cubicBezTo>
                <a:cubicBezTo>
                  <a:pt x="8290" y="13108"/>
                  <a:pt x="8287" y="13178"/>
                  <a:pt x="8287" y="13272"/>
                </a:cubicBezTo>
                <a:cubicBezTo>
                  <a:pt x="8287" y="13308"/>
                  <a:pt x="8284" y="13321"/>
                  <a:pt x="8255" y="13335"/>
                </a:cubicBezTo>
                <a:cubicBezTo>
                  <a:pt x="8191" y="13335"/>
                  <a:pt x="8192" y="13328"/>
                  <a:pt x="8160" y="13272"/>
                </a:cubicBezTo>
                <a:cubicBezTo>
                  <a:pt x="8113" y="13190"/>
                  <a:pt x="8128" y="13111"/>
                  <a:pt x="8128" y="13018"/>
                </a:cubicBezTo>
                <a:cubicBezTo>
                  <a:pt x="8128" y="12933"/>
                  <a:pt x="8215" y="12846"/>
                  <a:pt x="8287" y="12795"/>
                </a:cubicBezTo>
                <a:cubicBezTo>
                  <a:pt x="8361" y="12743"/>
                  <a:pt x="8443" y="12765"/>
                  <a:pt x="8509" y="12732"/>
                </a:cubicBezTo>
                <a:cubicBezTo>
                  <a:pt x="8538" y="12703"/>
                  <a:pt x="8544" y="12693"/>
                  <a:pt x="8572" y="12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Ink 18"/>
          <p:cNvSpPr/>
          <p:nvPr/>
        </p:nvSpPr>
        <p:spPr>
          <a:xfrm>
            <a:off x="1428840" y="4937040"/>
            <a:ext cx="1200240" cy="744480"/>
          </a:xfrm>
          <a:custGeom>
            <a:avLst/>
            <a:gdLst/>
            <a:ahLst/>
            <a:rect l="l" t="t" r="r" b="b"/>
            <a:pathLst>
              <a:path w="3334" h="2065">
                <a:moveTo>
                  <a:pt x="4254" y="13716"/>
                </a:moveTo>
                <a:cubicBezTo>
                  <a:pt x="4254" y="13906"/>
                  <a:pt x="4277" y="14106"/>
                  <a:pt x="4223" y="14288"/>
                </a:cubicBezTo>
                <a:cubicBezTo>
                  <a:pt x="4195" y="14382"/>
                  <a:pt x="4155" y="14526"/>
                  <a:pt x="4096" y="14605"/>
                </a:cubicBezTo>
                <a:cubicBezTo>
                  <a:pt x="4043" y="14676"/>
                  <a:pt x="4014" y="14763"/>
                  <a:pt x="3969" y="14732"/>
                </a:cubicBezTo>
              </a:path>
              <a:path w="3334" h="2065">
                <a:moveTo>
                  <a:pt x="4667" y="13811"/>
                </a:moveTo>
                <a:cubicBezTo>
                  <a:pt x="4630" y="13824"/>
                  <a:pt x="4563" y="13952"/>
                  <a:pt x="4540" y="14002"/>
                </a:cubicBezTo>
                <a:cubicBezTo>
                  <a:pt x="4485" y="14121"/>
                  <a:pt x="4401" y="14250"/>
                  <a:pt x="4382" y="14383"/>
                </a:cubicBezTo>
                <a:cubicBezTo>
                  <a:pt x="4373" y="14442"/>
                  <a:pt x="4365" y="14624"/>
                  <a:pt x="4413" y="14668"/>
                </a:cubicBezTo>
                <a:cubicBezTo>
                  <a:pt x="4532" y="14776"/>
                  <a:pt x="4646" y="14635"/>
                  <a:pt x="4731" y="14573"/>
                </a:cubicBezTo>
                <a:cubicBezTo>
                  <a:pt x="4821" y="14507"/>
                  <a:pt x="4958" y="14356"/>
                  <a:pt x="4953" y="14224"/>
                </a:cubicBezTo>
                <a:cubicBezTo>
                  <a:pt x="4948" y="14092"/>
                  <a:pt x="4882" y="14026"/>
                  <a:pt x="4794" y="13938"/>
                </a:cubicBezTo>
                <a:cubicBezTo>
                  <a:pt x="4747" y="13891"/>
                  <a:pt x="4621" y="13779"/>
                  <a:pt x="4636" y="13843"/>
                </a:cubicBezTo>
                <a:cubicBezTo>
                  <a:pt x="4646" y="13854"/>
                  <a:pt x="4657" y="13864"/>
                  <a:pt x="4667" y="13875"/>
                </a:cubicBezTo>
              </a:path>
              <a:path w="3334" h="2065">
                <a:moveTo>
                  <a:pt x="5112" y="13970"/>
                </a:moveTo>
                <a:cubicBezTo>
                  <a:pt x="5112" y="14050"/>
                  <a:pt x="5123" y="14149"/>
                  <a:pt x="5144" y="14224"/>
                </a:cubicBezTo>
                <a:cubicBezTo>
                  <a:pt x="5174" y="14333"/>
                  <a:pt x="5222" y="14458"/>
                  <a:pt x="5239" y="14573"/>
                </a:cubicBezTo>
                <a:cubicBezTo>
                  <a:pt x="5254" y="14673"/>
                  <a:pt x="5283" y="14763"/>
                  <a:pt x="5302" y="14859"/>
                </a:cubicBezTo>
              </a:path>
              <a:path w="3334" h="2065">
                <a:moveTo>
                  <a:pt x="5366" y="14129"/>
                </a:moveTo>
                <a:cubicBezTo>
                  <a:pt x="5295" y="14198"/>
                  <a:pt x="5233" y="14273"/>
                  <a:pt x="5175" y="14351"/>
                </a:cubicBezTo>
                <a:cubicBezTo>
                  <a:pt x="5107" y="14443"/>
                  <a:pt x="5053" y="14549"/>
                  <a:pt x="4985" y="14637"/>
                </a:cubicBezTo>
                <a:cubicBezTo>
                  <a:pt x="4964" y="14658"/>
                  <a:pt x="4942" y="14679"/>
                  <a:pt x="4921" y="14700"/>
                </a:cubicBezTo>
              </a:path>
              <a:path w="3334" h="2065">
                <a:moveTo>
                  <a:pt x="5652" y="14065"/>
                </a:moveTo>
                <a:cubicBezTo>
                  <a:pt x="5768" y="14065"/>
                  <a:pt x="5885" y="14065"/>
                  <a:pt x="6001" y="14065"/>
                </a:cubicBezTo>
              </a:path>
              <a:path w="3334" h="2065">
                <a:moveTo>
                  <a:pt x="5620" y="14414"/>
                </a:moveTo>
                <a:cubicBezTo>
                  <a:pt x="5716" y="14414"/>
                  <a:pt x="5781" y="14405"/>
                  <a:pt x="5874" y="14383"/>
                </a:cubicBezTo>
              </a:path>
              <a:path w="3334" h="2065">
                <a:moveTo>
                  <a:pt x="7144" y="14034"/>
                </a:moveTo>
                <a:cubicBezTo>
                  <a:pt x="7091" y="14051"/>
                  <a:pt x="7065" y="14106"/>
                  <a:pt x="7017" y="14160"/>
                </a:cubicBezTo>
                <a:cubicBezTo>
                  <a:pt x="6931" y="14258"/>
                  <a:pt x="6815" y="14374"/>
                  <a:pt x="6794" y="14510"/>
                </a:cubicBezTo>
                <a:cubicBezTo>
                  <a:pt x="6776" y="14625"/>
                  <a:pt x="6770" y="14767"/>
                  <a:pt x="6858" y="14827"/>
                </a:cubicBezTo>
                <a:cubicBezTo>
                  <a:pt x="6976" y="14907"/>
                  <a:pt x="7013" y="14889"/>
                  <a:pt x="7112" y="14796"/>
                </a:cubicBezTo>
                <a:cubicBezTo>
                  <a:pt x="7210" y="14704"/>
                  <a:pt x="7282" y="14617"/>
                  <a:pt x="7302" y="14478"/>
                </a:cubicBezTo>
                <a:cubicBezTo>
                  <a:pt x="7317" y="14373"/>
                  <a:pt x="7260" y="14256"/>
                  <a:pt x="7176" y="14192"/>
                </a:cubicBezTo>
                <a:cubicBezTo>
                  <a:pt x="7116" y="14146"/>
                  <a:pt x="7055" y="14138"/>
                  <a:pt x="6985" y="14129"/>
                </a:cubicBezTo>
              </a:path>
              <a:path w="3334" h="2065">
                <a:moveTo>
                  <a:pt x="5398" y="14764"/>
                </a:moveTo>
                <a:cubicBezTo>
                  <a:pt x="5426" y="14793"/>
                  <a:pt x="5436" y="14799"/>
                  <a:pt x="5429" y="14827"/>
                </a:cubicBezTo>
                <a:cubicBezTo>
                  <a:pt x="5365" y="14880"/>
                  <a:pt x="5286" y="14923"/>
                  <a:pt x="5207" y="14954"/>
                </a:cubicBezTo>
                <a:cubicBezTo>
                  <a:pt x="5084" y="15003"/>
                  <a:pt x="4952" y="14990"/>
                  <a:pt x="4826" y="15018"/>
                </a:cubicBezTo>
                <a:cubicBezTo>
                  <a:pt x="4700" y="15046"/>
                  <a:pt x="4573" y="15090"/>
                  <a:pt x="4445" y="15113"/>
                </a:cubicBezTo>
                <a:cubicBezTo>
                  <a:pt x="4337" y="15133"/>
                  <a:pt x="4315" y="15193"/>
                  <a:pt x="4223" y="15208"/>
                </a:cubicBezTo>
                <a:cubicBezTo>
                  <a:pt x="4212" y="15208"/>
                  <a:pt x="4202" y="15208"/>
                  <a:pt x="4191" y="15208"/>
                </a:cubicBezTo>
              </a:path>
              <a:path w="3334" h="2065">
                <a:moveTo>
                  <a:pt x="5048" y="14986"/>
                </a:moveTo>
                <a:cubicBezTo>
                  <a:pt x="5037" y="14986"/>
                  <a:pt x="5027" y="14986"/>
                  <a:pt x="5016" y="14986"/>
                </a:cubicBezTo>
                <a:cubicBezTo>
                  <a:pt x="4997" y="15065"/>
                  <a:pt x="4925" y="15087"/>
                  <a:pt x="4890" y="15145"/>
                </a:cubicBezTo>
                <a:cubicBezTo>
                  <a:pt x="4839" y="15230"/>
                  <a:pt x="4831" y="15322"/>
                  <a:pt x="4762" y="15399"/>
                </a:cubicBezTo>
                <a:cubicBezTo>
                  <a:pt x="4727" y="15438"/>
                  <a:pt x="4711" y="15446"/>
                  <a:pt x="4699" y="15494"/>
                </a:cubicBezTo>
              </a:path>
              <a:path w="3334" h="2065">
                <a:moveTo>
                  <a:pt x="5207" y="15081"/>
                </a:moveTo>
                <a:cubicBezTo>
                  <a:pt x="5118" y="15103"/>
                  <a:pt x="5118" y="15156"/>
                  <a:pt x="5080" y="15240"/>
                </a:cubicBezTo>
                <a:cubicBezTo>
                  <a:pt x="5042" y="15324"/>
                  <a:pt x="4969" y="15370"/>
                  <a:pt x="4953" y="15462"/>
                </a:cubicBezTo>
                <a:cubicBezTo>
                  <a:pt x="4953" y="15515"/>
                  <a:pt x="4953" y="15526"/>
                  <a:pt x="4953" y="15558"/>
                </a:cubicBezTo>
                <a:cubicBezTo>
                  <a:pt x="5017" y="15558"/>
                  <a:pt x="5062" y="15570"/>
                  <a:pt x="5112" y="15526"/>
                </a:cubicBezTo>
                <a:cubicBezTo>
                  <a:pt x="5180" y="15466"/>
                  <a:pt x="5243" y="15393"/>
                  <a:pt x="5270" y="15304"/>
                </a:cubicBezTo>
                <a:cubicBezTo>
                  <a:pt x="5297" y="15216"/>
                  <a:pt x="5229" y="15183"/>
                  <a:pt x="5207" y="15145"/>
                </a:cubicBezTo>
                <a:cubicBezTo>
                  <a:pt x="5187" y="15110"/>
                  <a:pt x="5193" y="15090"/>
                  <a:pt x="5175" y="15145"/>
                </a:cubicBezTo>
              </a:path>
              <a:path w="3334" h="2065">
                <a:moveTo>
                  <a:pt x="7271" y="14764"/>
                </a:moveTo>
                <a:cubicBezTo>
                  <a:pt x="7271" y="14840"/>
                  <a:pt x="7254" y="14860"/>
                  <a:pt x="7176" y="14891"/>
                </a:cubicBezTo>
                <a:cubicBezTo>
                  <a:pt x="7044" y="14944"/>
                  <a:pt x="6915" y="15004"/>
                  <a:pt x="6794" y="15081"/>
                </a:cubicBezTo>
                <a:cubicBezTo>
                  <a:pt x="6658" y="15167"/>
                  <a:pt x="6511" y="15236"/>
                  <a:pt x="6382" y="15335"/>
                </a:cubicBezTo>
                <a:cubicBezTo>
                  <a:pt x="6339" y="15378"/>
                  <a:pt x="6318" y="15399"/>
                  <a:pt x="6286" y="15430"/>
                </a:cubicBezTo>
              </a:path>
              <a:path w="3334" h="2065">
                <a:moveTo>
                  <a:pt x="6890" y="15240"/>
                </a:moveTo>
                <a:cubicBezTo>
                  <a:pt x="6879" y="15240"/>
                  <a:pt x="6869" y="15240"/>
                  <a:pt x="6858" y="15240"/>
                </a:cubicBezTo>
                <a:cubicBezTo>
                  <a:pt x="6842" y="15319"/>
                  <a:pt x="6793" y="15357"/>
                  <a:pt x="6763" y="15430"/>
                </a:cubicBezTo>
                <a:cubicBezTo>
                  <a:pt x="6727" y="15519"/>
                  <a:pt x="6696" y="15624"/>
                  <a:pt x="6668" y="15716"/>
                </a:cubicBezTo>
                <a:cubicBezTo>
                  <a:pt x="6668" y="15752"/>
                  <a:pt x="6665" y="15766"/>
                  <a:pt x="6636" y="15780"/>
                </a:cubicBezTo>
              </a:path>
              <a:path w="3334" h="2065">
                <a:moveTo>
                  <a:pt x="7144" y="15240"/>
                </a:moveTo>
                <a:cubicBezTo>
                  <a:pt x="7082" y="15256"/>
                  <a:pt x="7027" y="15311"/>
                  <a:pt x="6985" y="15367"/>
                </a:cubicBezTo>
                <a:cubicBezTo>
                  <a:pt x="6919" y="15455"/>
                  <a:pt x="6864" y="15545"/>
                  <a:pt x="6858" y="15653"/>
                </a:cubicBezTo>
                <a:cubicBezTo>
                  <a:pt x="6852" y="15753"/>
                  <a:pt x="6925" y="15774"/>
                  <a:pt x="7017" y="15748"/>
                </a:cubicBezTo>
                <a:cubicBezTo>
                  <a:pt x="7128" y="15717"/>
                  <a:pt x="7167" y="15636"/>
                  <a:pt x="7239" y="15558"/>
                </a:cubicBezTo>
                <a:cubicBezTo>
                  <a:pt x="7278" y="15516"/>
                  <a:pt x="7256" y="15433"/>
                  <a:pt x="7207" y="15399"/>
                </a:cubicBezTo>
                <a:cubicBezTo>
                  <a:pt x="7148" y="15358"/>
                  <a:pt x="7116" y="15367"/>
                  <a:pt x="7048" y="15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Ink 19"/>
          <p:cNvSpPr/>
          <p:nvPr/>
        </p:nvSpPr>
        <p:spPr>
          <a:xfrm>
            <a:off x="1714680" y="5692680"/>
            <a:ext cx="1006200" cy="822600"/>
          </a:xfrm>
          <a:custGeom>
            <a:avLst/>
            <a:gdLst/>
            <a:ahLst/>
            <a:rect l="l" t="t" r="r" b="b"/>
            <a:pathLst>
              <a:path w="2795" h="2287">
                <a:moveTo>
                  <a:pt x="5652" y="15875"/>
                </a:moveTo>
                <a:cubicBezTo>
                  <a:pt x="5599" y="15910"/>
                  <a:pt x="5620" y="16015"/>
                  <a:pt x="5620" y="16097"/>
                </a:cubicBezTo>
                <a:cubicBezTo>
                  <a:pt x="5620" y="16324"/>
                  <a:pt x="5634" y="16539"/>
                  <a:pt x="5652" y="16764"/>
                </a:cubicBezTo>
                <a:cubicBezTo>
                  <a:pt x="5660" y="16865"/>
                  <a:pt x="5674" y="16925"/>
                  <a:pt x="5715" y="17018"/>
                </a:cubicBezTo>
              </a:path>
              <a:path w="2795" h="2287">
                <a:moveTo>
                  <a:pt x="5937" y="16129"/>
                </a:moveTo>
                <a:cubicBezTo>
                  <a:pt x="5875" y="16207"/>
                  <a:pt x="5819" y="16279"/>
                  <a:pt x="5747" y="16351"/>
                </a:cubicBezTo>
                <a:cubicBezTo>
                  <a:pt x="5634" y="16464"/>
                  <a:pt x="5503" y="16564"/>
                  <a:pt x="5398" y="16669"/>
                </a:cubicBezTo>
                <a:cubicBezTo>
                  <a:pt x="5322" y="16745"/>
                  <a:pt x="5258" y="16818"/>
                  <a:pt x="5175" y="16891"/>
                </a:cubicBezTo>
              </a:path>
              <a:path w="2795" h="2287">
                <a:moveTo>
                  <a:pt x="6064" y="16415"/>
                </a:moveTo>
                <a:cubicBezTo>
                  <a:pt x="6143" y="16434"/>
                  <a:pt x="6193" y="16425"/>
                  <a:pt x="6286" y="16415"/>
                </a:cubicBezTo>
              </a:path>
              <a:path w="2795" h="2287">
                <a:moveTo>
                  <a:pt x="6001" y="16637"/>
                </a:moveTo>
                <a:cubicBezTo>
                  <a:pt x="6086" y="16637"/>
                  <a:pt x="6170" y="16637"/>
                  <a:pt x="6255" y="16637"/>
                </a:cubicBezTo>
              </a:path>
              <a:path w="2795" h="2287">
                <a:moveTo>
                  <a:pt x="5493" y="17621"/>
                </a:moveTo>
                <a:cubicBezTo>
                  <a:pt x="5531" y="17634"/>
                  <a:pt x="5668" y="17662"/>
                  <a:pt x="5747" y="17685"/>
                </a:cubicBezTo>
                <a:cubicBezTo>
                  <a:pt x="5862" y="17719"/>
                  <a:pt x="5978" y="17751"/>
                  <a:pt x="6096" y="17780"/>
                </a:cubicBezTo>
                <a:cubicBezTo>
                  <a:pt x="6210" y="17808"/>
                  <a:pt x="6326" y="17812"/>
                  <a:pt x="6445" y="17812"/>
                </a:cubicBezTo>
                <a:cubicBezTo>
                  <a:pt x="6585" y="17812"/>
                  <a:pt x="6696" y="17805"/>
                  <a:pt x="6826" y="17748"/>
                </a:cubicBezTo>
                <a:cubicBezTo>
                  <a:pt x="6959" y="17690"/>
                  <a:pt x="7124" y="17648"/>
                  <a:pt x="7239" y="17558"/>
                </a:cubicBezTo>
                <a:cubicBezTo>
                  <a:pt x="7352" y="17470"/>
                  <a:pt x="7441" y="17407"/>
                  <a:pt x="7493" y="17272"/>
                </a:cubicBezTo>
                <a:cubicBezTo>
                  <a:pt x="7543" y="17144"/>
                  <a:pt x="7556" y="17061"/>
                  <a:pt x="7556" y="16923"/>
                </a:cubicBezTo>
                <a:cubicBezTo>
                  <a:pt x="7556" y="16747"/>
                  <a:pt x="7493" y="16652"/>
                  <a:pt x="7398" y="16510"/>
                </a:cubicBezTo>
                <a:cubicBezTo>
                  <a:pt x="7309" y="16377"/>
                  <a:pt x="7180" y="16312"/>
                  <a:pt x="7048" y="16224"/>
                </a:cubicBezTo>
                <a:cubicBezTo>
                  <a:pt x="6914" y="16135"/>
                  <a:pt x="6755" y="16026"/>
                  <a:pt x="6604" y="15970"/>
                </a:cubicBezTo>
                <a:cubicBezTo>
                  <a:pt x="6429" y="15904"/>
                  <a:pt x="6277" y="15873"/>
                  <a:pt x="6096" y="15843"/>
                </a:cubicBezTo>
                <a:cubicBezTo>
                  <a:pt x="5896" y="15810"/>
                  <a:pt x="5725" y="15802"/>
                  <a:pt x="5524" y="15843"/>
                </a:cubicBezTo>
                <a:cubicBezTo>
                  <a:pt x="5345" y="15880"/>
                  <a:pt x="5186" y="15979"/>
                  <a:pt x="5048" y="16097"/>
                </a:cubicBezTo>
                <a:cubicBezTo>
                  <a:pt x="4906" y="16218"/>
                  <a:pt x="4843" y="16367"/>
                  <a:pt x="4794" y="16542"/>
                </a:cubicBezTo>
                <a:cubicBezTo>
                  <a:pt x="4738" y="16742"/>
                  <a:pt x="4806" y="16930"/>
                  <a:pt x="4890" y="17113"/>
                </a:cubicBezTo>
                <a:cubicBezTo>
                  <a:pt x="4983" y="17315"/>
                  <a:pt x="5130" y="17454"/>
                  <a:pt x="5270" y="17621"/>
                </a:cubicBezTo>
                <a:cubicBezTo>
                  <a:pt x="5393" y="17768"/>
                  <a:pt x="5526" y="17891"/>
                  <a:pt x="5683" y="18002"/>
                </a:cubicBezTo>
                <a:cubicBezTo>
                  <a:pt x="5804" y="18087"/>
                  <a:pt x="5839" y="18075"/>
                  <a:pt x="5969" y="180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Ink 20"/>
          <p:cNvSpPr/>
          <p:nvPr/>
        </p:nvSpPr>
        <p:spPr>
          <a:xfrm>
            <a:off x="3817800" y="2560680"/>
            <a:ext cx="3943440" cy="68400"/>
          </a:xfrm>
          <a:custGeom>
            <a:avLst/>
            <a:gdLst/>
            <a:ahLst/>
            <a:rect l="l" t="t" r="r" b="b"/>
            <a:pathLst>
              <a:path w="10955" h="191">
                <a:moveTo>
                  <a:pt x="10636" y="7176"/>
                </a:moveTo>
                <a:cubicBezTo>
                  <a:pt x="10682" y="7187"/>
                  <a:pt x="10654" y="7197"/>
                  <a:pt x="10700" y="7207"/>
                </a:cubicBezTo>
                <a:cubicBezTo>
                  <a:pt x="10763" y="7221"/>
                  <a:pt x="10826" y="7228"/>
                  <a:pt x="10890" y="7239"/>
                </a:cubicBezTo>
                <a:cubicBezTo>
                  <a:pt x="10995" y="7256"/>
                  <a:pt x="11104" y="7265"/>
                  <a:pt x="11208" y="7271"/>
                </a:cubicBezTo>
                <a:cubicBezTo>
                  <a:pt x="11368" y="7281"/>
                  <a:pt x="11524" y="7296"/>
                  <a:pt x="11684" y="7302"/>
                </a:cubicBezTo>
                <a:cubicBezTo>
                  <a:pt x="12707" y="7339"/>
                  <a:pt x="13748" y="7318"/>
                  <a:pt x="14764" y="7239"/>
                </a:cubicBezTo>
                <a:cubicBezTo>
                  <a:pt x="15164" y="7208"/>
                  <a:pt x="15570" y="7192"/>
                  <a:pt x="15970" y="7176"/>
                </a:cubicBezTo>
                <a:cubicBezTo>
                  <a:pt x="16953" y="7136"/>
                  <a:pt x="17942" y="7187"/>
                  <a:pt x="18923" y="7144"/>
                </a:cubicBezTo>
                <a:cubicBezTo>
                  <a:pt x="19450" y="7121"/>
                  <a:pt x="19986" y="7130"/>
                  <a:pt x="20510" y="7112"/>
                </a:cubicBezTo>
                <a:cubicBezTo>
                  <a:pt x="20787" y="7102"/>
                  <a:pt x="21071" y="7131"/>
                  <a:pt x="21336" y="7144"/>
                </a:cubicBezTo>
                <a:cubicBezTo>
                  <a:pt x="21398" y="7147"/>
                  <a:pt x="21511" y="7174"/>
                  <a:pt x="21526" y="7176"/>
                </a:cubicBezTo>
                <a:cubicBezTo>
                  <a:pt x="21537" y="7176"/>
                  <a:pt x="21547" y="7176"/>
                  <a:pt x="21558" y="7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to use each metho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it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Ink 4"/>
          <p:cNvSpPr/>
          <p:nvPr/>
        </p:nvSpPr>
        <p:spPr>
          <a:xfrm>
            <a:off x="1292400" y="2171880"/>
            <a:ext cx="1131840" cy="480960"/>
          </a:xfrm>
          <a:custGeom>
            <a:avLst/>
            <a:gdLst/>
            <a:ahLst/>
            <a:rect l="l" t="t" r="r" b="b"/>
            <a:pathLst>
              <a:path w="3144" h="1335">
                <a:moveTo>
                  <a:pt x="3588" y="6160"/>
                </a:moveTo>
                <a:cubicBezTo>
                  <a:pt x="3619" y="6098"/>
                  <a:pt x="3630" y="6079"/>
                  <a:pt x="3620" y="6032"/>
                </a:cubicBezTo>
                <a:cubicBezTo>
                  <a:pt x="3641" y="6089"/>
                  <a:pt x="3672" y="6159"/>
                  <a:pt x="3683" y="6223"/>
                </a:cubicBezTo>
                <a:cubicBezTo>
                  <a:pt x="3703" y="6340"/>
                  <a:pt x="3712" y="6456"/>
                  <a:pt x="3746" y="6572"/>
                </a:cubicBezTo>
                <a:cubicBezTo>
                  <a:pt x="3783" y="6699"/>
                  <a:pt x="3811" y="6827"/>
                  <a:pt x="3842" y="6953"/>
                </a:cubicBezTo>
                <a:cubicBezTo>
                  <a:pt x="3866" y="7051"/>
                  <a:pt x="3882" y="7144"/>
                  <a:pt x="3905" y="7239"/>
                </a:cubicBezTo>
                <a:cubicBezTo>
                  <a:pt x="3905" y="7074"/>
                  <a:pt x="3918" y="6922"/>
                  <a:pt x="3937" y="6763"/>
                </a:cubicBezTo>
                <a:cubicBezTo>
                  <a:pt x="3950" y="6654"/>
                  <a:pt x="3957" y="6548"/>
                  <a:pt x="4000" y="6445"/>
                </a:cubicBezTo>
                <a:cubicBezTo>
                  <a:pt x="4033" y="6366"/>
                  <a:pt x="4036" y="6384"/>
                  <a:pt x="4064" y="6350"/>
                </a:cubicBezTo>
                <a:cubicBezTo>
                  <a:pt x="4095" y="6411"/>
                  <a:pt x="4103" y="6468"/>
                  <a:pt x="4128" y="6540"/>
                </a:cubicBezTo>
                <a:cubicBezTo>
                  <a:pt x="4168" y="6657"/>
                  <a:pt x="4176" y="6773"/>
                  <a:pt x="4223" y="6890"/>
                </a:cubicBezTo>
                <a:cubicBezTo>
                  <a:pt x="4261" y="6983"/>
                  <a:pt x="4292" y="7093"/>
                  <a:pt x="4350" y="7176"/>
                </a:cubicBezTo>
                <a:cubicBezTo>
                  <a:pt x="4404" y="7253"/>
                  <a:pt x="4365" y="7244"/>
                  <a:pt x="4445" y="7271"/>
                </a:cubicBezTo>
                <a:cubicBezTo>
                  <a:pt x="4445" y="6950"/>
                  <a:pt x="4368" y="6524"/>
                  <a:pt x="4477" y="6223"/>
                </a:cubicBezTo>
                <a:cubicBezTo>
                  <a:pt x="4500" y="6160"/>
                  <a:pt x="4509" y="6116"/>
                  <a:pt x="4540" y="6064"/>
                </a:cubicBezTo>
              </a:path>
              <a:path w="3144" h="1335">
                <a:moveTo>
                  <a:pt x="4636" y="6032"/>
                </a:moveTo>
                <a:cubicBezTo>
                  <a:pt x="4656" y="6094"/>
                  <a:pt x="4664" y="6117"/>
                  <a:pt x="4667" y="6191"/>
                </a:cubicBezTo>
                <a:cubicBezTo>
                  <a:pt x="4678" y="6448"/>
                  <a:pt x="4673" y="6700"/>
                  <a:pt x="4699" y="6953"/>
                </a:cubicBezTo>
                <a:cubicBezTo>
                  <a:pt x="4705" y="7017"/>
                  <a:pt x="4699" y="7311"/>
                  <a:pt x="4699" y="7271"/>
                </a:cubicBezTo>
                <a:cubicBezTo>
                  <a:pt x="4699" y="7106"/>
                  <a:pt x="4692" y="6953"/>
                  <a:pt x="4731" y="6794"/>
                </a:cubicBezTo>
                <a:cubicBezTo>
                  <a:pt x="4759" y="6681"/>
                  <a:pt x="4746" y="6574"/>
                  <a:pt x="4858" y="6509"/>
                </a:cubicBezTo>
                <a:cubicBezTo>
                  <a:pt x="4890" y="6509"/>
                  <a:pt x="4900" y="6509"/>
                  <a:pt x="4921" y="6509"/>
                </a:cubicBezTo>
                <a:cubicBezTo>
                  <a:pt x="4971" y="6600"/>
                  <a:pt x="4984" y="6659"/>
                  <a:pt x="5016" y="6763"/>
                </a:cubicBezTo>
                <a:cubicBezTo>
                  <a:pt x="5051" y="6877"/>
                  <a:pt x="5045" y="7001"/>
                  <a:pt x="5080" y="7112"/>
                </a:cubicBezTo>
                <a:cubicBezTo>
                  <a:pt x="5107" y="7198"/>
                  <a:pt x="5119" y="7236"/>
                  <a:pt x="5175" y="7302"/>
                </a:cubicBezTo>
                <a:cubicBezTo>
                  <a:pt x="5186" y="7313"/>
                  <a:pt x="5196" y="7323"/>
                  <a:pt x="5207" y="7334"/>
                </a:cubicBezTo>
                <a:cubicBezTo>
                  <a:pt x="5259" y="7308"/>
                  <a:pt x="5314" y="7281"/>
                  <a:pt x="5366" y="7239"/>
                </a:cubicBezTo>
                <a:cubicBezTo>
                  <a:pt x="5466" y="7159"/>
                  <a:pt x="5543" y="7070"/>
                  <a:pt x="5588" y="6953"/>
                </a:cubicBezTo>
                <a:cubicBezTo>
                  <a:pt x="5638" y="6825"/>
                  <a:pt x="5674" y="6733"/>
                  <a:pt x="5620" y="6604"/>
                </a:cubicBezTo>
                <a:cubicBezTo>
                  <a:pt x="5598" y="6553"/>
                  <a:pt x="5590" y="6569"/>
                  <a:pt x="5556" y="6540"/>
                </a:cubicBezTo>
                <a:cubicBezTo>
                  <a:pt x="5517" y="6619"/>
                  <a:pt x="5497" y="6661"/>
                  <a:pt x="5493" y="6763"/>
                </a:cubicBezTo>
                <a:cubicBezTo>
                  <a:pt x="5488" y="6902"/>
                  <a:pt x="5503" y="7015"/>
                  <a:pt x="5556" y="7144"/>
                </a:cubicBezTo>
                <a:cubicBezTo>
                  <a:pt x="5590" y="7226"/>
                  <a:pt x="5615" y="7313"/>
                  <a:pt x="5715" y="7302"/>
                </a:cubicBezTo>
                <a:cubicBezTo>
                  <a:pt x="5789" y="7294"/>
                  <a:pt x="5845" y="7211"/>
                  <a:pt x="5874" y="7144"/>
                </a:cubicBezTo>
                <a:cubicBezTo>
                  <a:pt x="5933" y="7009"/>
                  <a:pt x="5928" y="6868"/>
                  <a:pt x="5969" y="6731"/>
                </a:cubicBezTo>
                <a:cubicBezTo>
                  <a:pt x="5992" y="6653"/>
                  <a:pt x="6013" y="6606"/>
                  <a:pt x="6032" y="6572"/>
                </a:cubicBezTo>
                <a:cubicBezTo>
                  <a:pt x="6032" y="6696"/>
                  <a:pt x="6049" y="6800"/>
                  <a:pt x="6064" y="6922"/>
                </a:cubicBezTo>
                <a:cubicBezTo>
                  <a:pt x="6074" y="7008"/>
                  <a:pt x="6073" y="7124"/>
                  <a:pt x="6096" y="7207"/>
                </a:cubicBezTo>
                <a:cubicBezTo>
                  <a:pt x="6122" y="7259"/>
                  <a:pt x="6133" y="7267"/>
                  <a:pt x="6128" y="7302"/>
                </a:cubicBezTo>
                <a:cubicBezTo>
                  <a:pt x="6128" y="7117"/>
                  <a:pt x="6097" y="6905"/>
                  <a:pt x="6160" y="6731"/>
                </a:cubicBezTo>
                <a:cubicBezTo>
                  <a:pt x="6199" y="6623"/>
                  <a:pt x="6203" y="6615"/>
                  <a:pt x="6286" y="6540"/>
                </a:cubicBezTo>
                <a:cubicBezTo>
                  <a:pt x="6372" y="6564"/>
                  <a:pt x="6367" y="6573"/>
                  <a:pt x="6414" y="6668"/>
                </a:cubicBezTo>
                <a:cubicBezTo>
                  <a:pt x="6489" y="6819"/>
                  <a:pt x="6508" y="6988"/>
                  <a:pt x="6572" y="7144"/>
                </a:cubicBezTo>
                <a:cubicBezTo>
                  <a:pt x="6604" y="7222"/>
                  <a:pt x="6644" y="7274"/>
                  <a:pt x="6699" y="7334"/>
                </a:cubicBezTo>
                <a:cubicBezTo>
                  <a:pt x="6710" y="7345"/>
                  <a:pt x="6720" y="7355"/>
                  <a:pt x="6731" y="7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Ink 5"/>
          <p:cNvSpPr/>
          <p:nvPr/>
        </p:nvSpPr>
        <p:spPr>
          <a:xfrm>
            <a:off x="2778120" y="2160720"/>
            <a:ext cx="903240" cy="514080"/>
          </a:xfrm>
          <a:custGeom>
            <a:avLst/>
            <a:gdLst/>
            <a:ahLst/>
            <a:rect l="l" t="t" r="r" b="b"/>
            <a:pathLst>
              <a:path w="2510" h="1430">
                <a:moveTo>
                  <a:pt x="7810" y="6001"/>
                </a:moveTo>
                <a:cubicBezTo>
                  <a:pt x="7810" y="6112"/>
                  <a:pt x="7787" y="6212"/>
                  <a:pt x="7779" y="6318"/>
                </a:cubicBezTo>
                <a:cubicBezTo>
                  <a:pt x="7765" y="6499"/>
                  <a:pt x="7765" y="6679"/>
                  <a:pt x="7747" y="6858"/>
                </a:cubicBezTo>
                <a:cubicBezTo>
                  <a:pt x="7741" y="6918"/>
                  <a:pt x="7747" y="7189"/>
                  <a:pt x="7747" y="7144"/>
                </a:cubicBezTo>
                <a:cubicBezTo>
                  <a:pt x="7705" y="6992"/>
                  <a:pt x="7731" y="6918"/>
                  <a:pt x="7747" y="6763"/>
                </a:cubicBezTo>
                <a:cubicBezTo>
                  <a:pt x="7760" y="6631"/>
                  <a:pt x="7782" y="6576"/>
                  <a:pt x="7874" y="6477"/>
                </a:cubicBezTo>
                <a:cubicBezTo>
                  <a:pt x="7916" y="6431"/>
                  <a:pt x="8016" y="6426"/>
                  <a:pt x="8064" y="6477"/>
                </a:cubicBezTo>
                <a:cubicBezTo>
                  <a:pt x="8143" y="6562"/>
                  <a:pt x="8167" y="6694"/>
                  <a:pt x="8192" y="6794"/>
                </a:cubicBezTo>
                <a:cubicBezTo>
                  <a:pt x="8216" y="6887"/>
                  <a:pt x="8244" y="7022"/>
                  <a:pt x="8192" y="7112"/>
                </a:cubicBezTo>
                <a:cubicBezTo>
                  <a:pt x="8155" y="7176"/>
                  <a:pt x="8041" y="7255"/>
                  <a:pt x="7969" y="7271"/>
                </a:cubicBezTo>
                <a:cubicBezTo>
                  <a:pt x="7896" y="7287"/>
                  <a:pt x="7796" y="7327"/>
                  <a:pt x="7747" y="7239"/>
                </a:cubicBezTo>
                <a:cubicBezTo>
                  <a:pt x="7738" y="7222"/>
                  <a:pt x="7747" y="7164"/>
                  <a:pt x="7747" y="7144"/>
                </a:cubicBezTo>
              </a:path>
              <a:path w="2510" h="1430">
                <a:moveTo>
                  <a:pt x="8636" y="6540"/>
                </a:moveTo>
                <a:cubicBezTo>
                  <a:pt x="8557" y="6540"/>
                  <a:pt x="8534" y="6527"/>
                  <a:pt x="8477" y="6604"/>
                </a:cubicBezTo>
                <a:cubicBezTo>
                  <a:pt x="8410" y="6694"/>
                  <a:pt x="8364" y="6846"/>
                  <a:pt x="8350" y="6953"/>
                </a:cubicBezTo>
                <a:cubicBezTo>
                  <a:pt x="8331" y="7090"/>
                  <a:pt x="8386" y="7163"/>
                  <a:pt x="8477" y="7239"/>
                </a:cubicBezTo>
                <a:cubicBezTo>
                  <a:pt x="8538" y="7290"/>
                  <a:pt x="8642" y="7270"/>
                  <a:pt x="8700" y="7207"/>
                </a:cubicBezTo>
                <a:cubicBezTo>
                  <a:pt x="8766" y="7136"/>
                  <a:pt x="8809" y="6982"/>
                  <a:pt x="8795" y="6890"/>
                </a:cubicBezTo>
                <a:cubicBezTo>
                  <a:pt x="8786" y="6829"/>
                  <a:pt x="8729" y="6670"/>
                  <a:pt x="8668" y="6636"/>
                </a:cubicBezTo>
                <a:cubicBezTo>
                  <a:pt x="8622" y="6611"/>
                  <a:pt x="8581" y="6640"/>
                  <a:pt x="8572" y="6668"/>
                </a:cubicBezTo>
              </a:path>
              <a:path w="2510" h="1430">
                <a:moveTo>
                  <a:pt x="9112" y="6128"/>
                </a:moveTo>
                <a:cubicBezTo>
                  <a:pt x="9070" y="6253"/>
                  <a:pt x="9080" y="6374"/>
                  <a:pt x="9080" y="6509"/>
                </a:cubicBezTo>
                <a:cubicBezTo>
                  <a:pt x="9080" y="6683"/>
                  <a:pt x="9130" y="6846"/>
                  <a:pt x="9144" y="7017"/>
                </a:cubicBezTo>
                <a:cubicBezTo>
                  <a:pt x="9146" y="7037"/>
                  <a:pt x="9161" y="7414"/>
                  <a:pt x="9112" y="7398"/>
                </a:cubicBezTo>
                <a:cubicBezTo>
                  <a:pt x="9112" y="7387"/>
                  <a:pt x="9112" y="7377"/>
                  <a:pt x="9112" y="7366"/>
                </a:cubicBezTo>
              </a:path>
              <a:path w="2510" h="1430">
                <a:moveTo>
                  <a:pt x="8826" y="6699"/>
                </a:moveTo>
                <a:cubicBezTo>
                  <a:pt x="8916" y="6733"/>
                  <a:pt x="8983" y="6731"/>
                  <a:pt x="9080" y="6731"/>
                </a:cubicBezTo>
                <a:cubicBezTo>
                  <a:pt x="9201" y="6731"/>
                  <a:pt x="9347" y="6710"/>
                  <a:pt x="9462" y="6668"/>
                </a:cubicBezTo>
                <a:cubicBezTo>
                  <a:pt x="9534" y="6632"/>
                  <a:pt x="9564" y="6618"/>
                  <a:pt x="9620" y="6604"/>
                </a:cubicBezTo>
              </a:path>
              <a:path w="2510" h="1430">
                <a:moveTo>
                  <a:pt x="9684" y="6064"/>
                </a:moveTo>
                <a:cubicBezTo>
                  <a:pt x="9684" y="6433"/>
                  <a:pt x="9709" y="6820"/>
                  <a:pt x="9652" y="7176"/>
                </a:cubicBezTo>
                <a:cubicBezTo>
                  <a:pt x="9652" y="7197"/>
                  <a:pt x="9652" y="7218"/>
                  <a:pt x="9652" y="7239"/>
                </a:cubicBezTo>
                <a:cubicBezTo>
                  <a:pt x="9723" y="7287"/>
                  <a:pt x="9684" y="7152"/>
                  <a:pt x="9684" y="7080"/>
                </a:cubicBezTo>
                <a:cubicBezTo>
                  <a:pt x="9684" y="6959"/>
                  <a:pt x="9704" y="6801"/>
                  <a:pt x="9779" y="6699"/>
                </a:cubicBezTo>
                <a:cubicBezTo>
                  <a:pt x="9811" y="6655"/>
                  <a:pt x="9904" y="6554"/>
                  <a:pt x="9970" y="6572"/>
                </a:cubicBezTo>
                <a:cubicBezTo>
                  <a:pt x="10071" y="6599"/>
                  <a:pt x="10086" y="6703"/>
                  <a:pt x="10096" y="6794"/>
                </a:cubicBezTo>
                <a:cubicBezTo>
                  <a:pt x="10109" y="6908"/>
                  <a:pt x="10107" y="7030"/>
                  <a:pt x="10128" y="7144"/>
                </a:cubicBezTo>
                <a:cubicBezTo>
                  <a:pt x="10142" y="7217"/>
                  <a:pt x="10149" y="7344"/>
                  <a:pt x="10192" y="7398"/>
                </a:cubicBezTo>
                <a:cubicBezTo>
                  <a:pt x="10203" y="7409"/>
                  <a:pt x="10213" y="7419"/>
                  <a:pt x="10224" y="7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Ink 6"/>
          <p:cNvSpPr/>
          <p:nvPr/>
        </p:nvSpPr>
        <p:spPr>
          <a:xfrm>
            <a:off x="4068720" y="2217600"/>
            <a:ext cx="2309760" cy="560520"/>
          </a:xfrm>
          <a:custGeom>
            <a:avLst/>
            <a:gdLst/>
            <a:ahLst/>
            <a:rect l="l" t="t" r="r" b="b"/>
            <a:pathLst>
              <a:path w="6414" h="1556">
                <a:moveTo>
                  <a:pt x="11303" y="6763"/>
                </a:moveTo>
                <a:cubicBezTo>
                  <a:pt x="11363" y="6748"/>
                  <a:pt x="11427" y="6708"/>
                  <a:pt x="11494" y="6699"/>
                </a:cubicBezTo>
                <a:cubicBezTo>
                  <a:pt x="11597" y="6686"/>
                  <a:pt x="11709" y="6673"/>
                  <a:pt x="11811" y="6668"/>
                </a:cubicBezTo>
                <a:cubicBezTo>
                  <a:pt x="11874" y="6665"/>
                  <a:pt x="11939" y="6668"/>
                  <a:pt x="12002" y="6668"/>
                </a:cubicBezTo>
              </a:path>
              <a:path w="6414" h="1556">
                <a:moveTo>
                  <a:pt x="12065" y="6604"/>
                </a:moveTo>
                <a:cubicBezTo>
                  <a:pt x="12065" y="6536"/>
                  <a:pt x="12063" y="6502"/>
                  <a:pt x="12033" y="6445"/>
                </a:cubicBezTo>
                <a:cubicBezTo>
                  <a:pt x="11988" y="6359"/>
                  <a:pt x="11957" y="6282"/>
                  <a:pt x="11874" y="6223"/>
                </a:cubicBezTo>
                <a:cubicBezTo>
                  <a:pt x="11801" y="6171"/>
                  <a:pt x="11694" y="6177"/>
                  <a:pt x="11620" y="6223"/>
                </a:cubicBezTo>
                <a:cubicBezTo>
                  <a:pt x="11522" y="6284"/>
                  <a:pt x="11463" y="6404"/>
                  <a:pt x="11430" y="6509"/>
                </a:cubicBezTo>
                <a:cubicBezTo>
                  <a:pt x="11391" y="6634"/>
                  <a:pt x="11316" y="6820"/>
                  <a:pt x="11335" y="6953"/>
                </a:cubicBezTo>
                <a:cubicBezTo>
                  <a:pt x="11353" y="7075"/>
                  <a:pt x="11354" y="7175"/>
                  <a:pt x="11462" y="7239"/>
                </a:cubicBezTo>
                <a:cubicBezTo>
                  <a:pt x="11585" y="7312"/>
                  <a:pt x="11669" y="7240"/>
                  <a:pt x="11779" y="7176"/>
                </a:cubicBezTo>
              </a:path>
              <a:path w="6414" h="1556">
                <a:moveTo>
                  <a:pt x="12922" y="6509"/>
                </a:moveTo>
                <a:cubicBezTo>
                  <a:pt x="12913" y="6446"/>
                  <a:pt x="12909" y="6381"/>
                  <a:pt x="12890" y="6318"/>
                </a:cubicBezTo>
                <a:cubicBezTo>
                  <a:pt x="12869" y="6245"/>
                  <a:pt x="12810" y="6179"/>
                  <a:pt x="12732" y="6191"/>
                </a:cubicBezTo>
                <a:cubicBezTo>
                  <a:pt x="12630" y="6206"/>
                  <a:pt x="12545" y="6236"/>
                  <a:pt x="12478" y="6318"/>
                </a:cubicBezTo>
                <a:cubicBezTo>
                  <a:pt x="12390" y="6425"/>
                  <a:pt x="12288" y="6561"/>
                  <a:pt x="12256" y="6699"/>
                </a:cubicBezTo>
                <a:cubicBezTo>
                  <a:pt x="12237" y="6782"/>
                  <a:pt x="12210" y="6941"/>
                  <a:pt x="12256" y="7017"/>
                </a:cubicBezTo>
                <a:cubicBezTo>
                  <a:pt x="12319" y="7120"/>
                  <a:pt x="12354" y="7116"/>
                  <a:pt x="12446" y="7080"/>
                </a:cubicBezTo>
                <a:cubicBezTo>
                  <a:pt x="12543" y="7042"/>
                  <a:pt x="12652" y="6914"/>
                  <a:pt x="12700" y="6826"/>
                </a:cubicBezTo>
                <a:cubicBezTo>
                  <a:pt x="12766" y="6705"/>
                  <a:pt x="12787" y="6569"/>
                  <a:pt x="12827" y="6445"/>
                </a:cubicBezTo>
                <a:cubicBezTo>
                  <a:pt x="12853" y="6393"/>
                  <a:pt x="12864" y="6385"/>
                  <a:pt x="12859" y="6350"/>
                </a:cubicBezTo>
                <a:cubicBezTo>
                  <a:pt x="12851" y="6449"/>
                  <a:pt x="12830" y="6537"/>
                  <a:pt x="12827" y="6636"/>
                </a:cubicBezTo>
                <a:cubicBezTo>
                  <a:pt x="12822" y="6789"/>
                  <a:pt x="12777" y="6931"/>
                  <a:pt x="12764" y="7080"/>
                </a:cubicBezTo>
                <a:cubicBezTo>
                  <a:pt x="12751" y="7228"/>
                  <a:pt x="12738" y="7378"/>
                  <a:pt x="12732" y="7525"/>
                </a:cubicBezTo>
                <a:cubicBezTo>
                  <a:pt x="12730" y="7560"/>
                  <a:pt x="12707" y="7733"/>
                  <a:pt x="12764" y="7715"/>
                </a:cubicBezTo>
                <a:cubicBezTo>
                  <a:pt x="12822" y="7697"/>
                  <a:pt x="12830" y="7646"/>
                  <a:pt x="12859" y="7588"/>
                </a:cubicBezTo>
              </a:path>
              <a:path w="6414" h="1556">
                <a:moveTo>
                  <a:pt x="13272" y="6160"/>
                </a:moveTo>
                <a:cubicBezTo>
                  <a:pt x="13272" y="6303"/>
                  <a:pt x="13244" y="6431"/>
                  <a:pt x="13240" y="6572"/>
                </a:cubicBezTo>
                <a:cubicBezTo>
                  <a:pt x="13235" y="6744"/>
                  <a:pt x="13196" y="6911"/>
                  <a:pt x="13240" y="7080"/>
                </a:cubicBezTo>
                <a:cubicBezTo>
                  <a:pt x="13265" y="7177"/>
                  <a:pt x="13305" y="7231"/>
                  <a:pt x="13398" y="7239"/>
                </a:cubicBezTo>
                <a:cubicBezTo>
                  <a:pt x="13472" y="7245"/>
                  <a:pt x="13596" y="7077"/>
                  <a:pt x="13621" y="7017"/>
                </a:cubicBezTo>
                <a:cubicBezTo>
                  <a:pt x="13684" y="6865"/>
                  <a:pt x="13728" y="6703"/>
                  <a:pt x="13748" y="6540"/>
                </a:cubicBezTo>
                <a:cubicBezTo>
                  <a:pt x="13758" y="6458"/>
                  <a:pt x="13755" y="6382"/>
                  <a:pt x="13716" y="6318"/>
                </a:cubicBezTo>
                <a:cubicBezTo>
                  <a:pt x="13716" y="6390"/>
                  <a:pt x="13693" y="6444"/>
                  <a:pt x="13684" y="6509"/>
                </a:cubicBezTo>
                <a:cubicBezTo>
                  <a:pt x="13664" y="6663"/>
                  <a:pt x="13701" y="6805"/>
                  <a:pt x="13716" y="6953"/>
                </a:cubicBezTo>
                <a:cubicBezTo>
                  <a:pt x="13727" y="7064"/>
                  <a:pt x="13724" y="7204"/>
                  <a:pt x="13780" y="7302"/>
                </a:cubicBezTo>
                <a:cubicBezTo>
                  <a:pt x="13807" y="7350"/>
                  <a:pt x="13860" y="7357"/>
                  <a:pt x="13906" y="7366"/>
                </a:cubicBezTo>
              </a:path>
              <a:path w="6414" h="1556">
                <a:moveTo>
                  <a:pt x="14510" y="6763"/>
                </a:moveTo>
                <a:cubicBezTo>
                  <a:pt x="14544" y="6686"/>
                  <a:pt x="14625" y="6564"/>
                  <a:pt x="14605" y="6477"/>
                </a:cubicBezTo>
                <a:cubicBezTo>
                  <a:pt x="14589" y="6407"/>
                  <a:pt x="14510" y="6339"/>
                  <a:pt x="14446" y="6318"/>
                </a:cubicBezTo>
                <a:cubicBezTo>
                  <a:pt x="14362" y="6290"/>
                  <a:pt x="14294" y="6402"/>
                  <a:pt x="14256" y="6445"/>
                </a:cubicBezTo>
                <a:cubicBezTo>
                  <a:pt x="14163" y="6550"/>
                  <a:pt x="14121" y="6716"/>
                  <a:pt x="14129" y="6858"/>
                </a:cubicBezTo>
                <a:cubicBezTo>
                  <a:pt x="14135" y="6963"/>
                  <a:pt x="14152" y="7097"/>
                  <a:pt x="14224" y="7176"/>
                </a:cubicBezTo>
                <a:cubicBezTo>
                  <a:pt x="14235" y="7186"/>
                  <a:pt x="14245" y="7197"/>
                  <a:pt x="14256" y="7207"/>
                </a:cubicBezTo>
                <a:cubicBezTo>
                  <a:pt x="14349" y="7168"/>
                  <a:pt x="14365" y="7173"/>
                  <a:pt x="14414" y="7080"/>
                </a:cubicBezTo>
                <a:cubicBezTo>
                  <a:pt x="14477" y="6961"/>
                  <a:pt x="14530" y="6860"/>
                  <a:pt x="14573" y="6731"/>
                </a:cubicBezTo>
                <a:cubicBezTo>
                  <a:pt x="14581" y="6708"/>
                  <a:pt x="14605" y="6494"/>
                  <a:pt x="14605" y="6572"/>
                </a:cubicBezTo>
                <a:cubicBezTo>
                  <a:pt x="14650" y="6648"/>
                  <a:pt x="14664" y="6731"/>
                  <a:pt x="14668" y="6826"/>
                </a:cubicBezTo>
                <a:cubicBezTo>
                  <a:pt x="14673" y="6951"/>
                  <a:pt x="14667" y="7087"/>
                  <a:pt x="14700" y="7207"/>
                </a:cubicBezTo>
                <a:cubicBezTo>
                  <a:pt x="14708" y="7236"/>
                  <a:pt x="14740" y="7359"/>
                  <a:pt x="14796" y="7334"/>
                </a:cubicBezTo>
                <a:cubicBezTo>
                  <a:pt x="14831" y="7298"/>
                  <a:pt x="14842" y="7281"/>
                  <a:pt x="14827" y="7239"/>
                </a:cubicBezTo>
              </a:path>
              <a:path w="6414" h="1556">
                <a:moveTo>
                  <a:pt x="15081" y="6223"/>
                </a:moveTo>
                <a:cubicBezTo>
                  <a:pt x="15081" y="6357"/>
                  <a:pt x="15063" y="6473"/>
                  <a:pt x="15050" y="6604"/>
                </a:cubicBezTo>
                <a:cubicBezTo>
                  <a:pt x="15034" y="6772"/>
                  <a:pt x="15023" y="6944"/>
                  <a:pt x="15018" y="7112"/>
                </a:cubicBezTo>
                <a:cubicBezTo>
                  <a:pt x="15015" y="7202"/>
                  <a:pt x="15032" y="7267"/>
                  <a:pt x="15081" y="7334"/>
                </a:cubicBezTo>
              </a:path>
              <a:path w="6414" h="1556">
                <a:moveTo>
                  <a:pt x="14859" y="6826"/>
                </a:moveTo>
                <a:cubicBezTo>
                  <a:pt x="14922" y="6788"/>
                  <a:pt x="15033" y="6746"/>
                  <a:pt x="15113" y="6731"/>
                </a:cubicBezTo>
                <a:cubicBezTo>
                  <a:pt x="15218" y="6711"/>
                  <a:pt x="15323" y="6680"/>
                  <a:pt x="15430" y="6668"/>
                </a:cubicBezTo>
              </a:path>
              <a:path w="6414" h="1556">
                <a:moveTo>
                  <a:pt x="15621" y="6318"/>
                </a:moveTo>
                <a:cubicBezTo>
                  <a:pt x="15621" y="6442"/>
                  <a:pt x="15603" y="6549"/>
                  <a:pt x="15589" y="6668"/>
                </a:cubicBezTo>
                <a:cubicBezTo>
                  <a:pt x="15575" y="6792"/>
                  <a:pt x="15564" y="6925"/>
                  <a:pt x="15558" y="7048"/>
                </a:cubicBezTo>
                <a:cubicBezTo>
                  <a:pt x="15554" y="7120"/>
                  <a:pt x="15589" y="7168"/>
                  <a:pt x="15589" y="7239"/>
                </a:cubicBezTo>
              </a:path>
              <a:path w="6414" h="1556">
                <a:moveTo>
                  <a:pt x="16002" y="6414"/>
                </a:moveTo>
                <a:cubicBezTo>
                  <a:pt x="15960" y="6403"/>
                  <a:pt x="15955" y="6403"/>
                  <a:pt x="15907" y="6477"/>
                </a:cubicBezTo>
                <a:cubicBezTo>
                  <a:pt x="15849" y="6566"/>
                  <a:pt x="15805" y="6755"/>
                  <a:pt x="15812" y="6858"/>
                </a:cubicBezTo>
                <a:cubicBezTo>
                  <a:pt x="15818" y="6955"/>
                  <a:pt x="15842" y="7070"/>
                  <a:pt x="15907" y="7144"/>
                </a:cubicBezTo>
                <a:cubicBezTo>
                  <a:pt x="15991" y="7239"/>
                  <a:pt x="16047" y="7137"/>
                  <a:pt x="16097" y="7080"/>
                </a:cubicBezTo>
                <a:cubicBezTo>
                  <a:pt x="16206" y="6957"/>
                  <a:pt x="16192" y="6860"/>
                  <a:pt x="16192" y="6699"/>
                </a:cubicBezTo>
                <a:cubicBezTo>
                  <a:pt x="16192" y="6596"/>
                  <a:pt x="16202" y="6445"/>
                  <a:pt x="16161" y="6350"/>
                </a:cubicBezTo>
                <a:cubicBezTo>
                  <a:pt x="16140" y="6300"/>
                  <a:pt x="16137" y="6311"/>
                  <a:pt x="16129" y="6255"/>
                </a:cubicBezTo>
                <a:cubicBezTo>
                  <a:pt x="16178" y="6295"/>
                  <a:pt x="16255" y="6316"/>
                  <a:pt x="16288" y="6382"/>
                </a:cubicBezTo>
                <a:cubicBezTo>
                  <a:pt x="16352" y="6510"/>
                  <a:pt x="16374" y="6593"/>
                  <a:pt x="16415" y="6731"/>
                </a:cubicBezTo>
                <a:cubicBezTo>
                  <a:pt x="16449" y="6847"/>
                  <a:pt x="16472" y="6960"/>
                  <a:pt x="16478" y="7080"/>
                </a:cubicBezTo>
                <a:cubicBezTo>
                  <a:pt x="16479" y="7098"/>
                  <a:pt x="16478" y="7294"/>
                  <a:pt x="16478" y="7207"/>
                </a:cubicBezTo>
                <a:cubicBezTo>
                  <a:pt x="16478" y="7085"/>
                  <a:pt x="16500" y="6977"/>
                  <a:pt x="16510" y="6858"/>
                </a:cubicBezTo>
                <a:cubicBezTo>
                  <a:pt x="16523" y="6711"/>
                  <a:pt x="16548" y="6585"/>
                  <a:pt x="16605" y="6445"/>
                </a:cubicBezTo>
                <a:cubicBezTo>
                  <a:pt x="16637" y="6367"/>
                  <a:pt x="16711" y="6326"/>
                  <a:pt x="16796" y="6350"/>
                </a:cubicBezTo>
                <a:cubicBezTo>
                  <a:pt x="16878" y="6374"/>
                  <a:pt x="16943" y="6492"/>
                  <a:pt x="16954" y="6572"/>
                </a:cubicBezTo>
                <a:cubicBezTo>
                  <a:pt x="16972" y="6703"/>
                  <a:pt x="16957" y="6857"/>
                  <a:pt x="16986" y="6985"/>
                </a:cubicBezTo>
                <a:cubicBezTo>
                  <a:pt x="17000" y="7045"/>
                  <a:pt x="17042" y="7154"/>
                  <a:pt x="17050" y="7176"/>
                </a:cubicBezTo>
              </a:path>
              <a:path w="6414" h="1556">
                <a:moveTo>
                  <a:pt x="17716" y="6286"/>
                </a:moveTo>
                <a:cubicBezTo>
                  <a:pt x="17688" y="6244"/>
                  <a:pt x="17567" y="6241"/>
                  <a:pt x="17494" y="6255"/>
                </a:cubicBezTo>
                <a:cubicBezTo>
                  <a:pt x="17431" y="6267"/>
                  <a:pt x="17275" y="6319"/>
                  <a:pt x="17240" y="6382"/>
                </a:cubicBezTo>
                <a:cubicBezTo>
                  <a:pt x="17194" y="6465"/>
                  <a:pt x="17291" y="6555"/>
                  <a:pt x="17336" y="6604"/>
                </a:cubicBezTo>
                <a:cubicBezTo>
                  <a:pt x="17406" y="6681"/>
                  <a:pt x="17484" y="6752"/>
                  <a:pt x="17558" y="6826"/>
                </a:cubicBezTo>
                <a:cubicBezTo>
                  <a:pt x="17635" y="6904"/>
                  <a:pt x="17677" y="6972"/>
                  <a:pt x="17685" y="7080"/>
                </a:cubicBezTo>
                <a:cubicBezTo>
                  <a:pt x="17690" y="7140"/>
                  <a:pt x="17639" y="7207"/>
                  <a:pt x="17590" y="7239"/>
                </a:cubicBezTo>
                <a:cubicBezTo>
                  <a:pt x="17524" y="7281"/>
                  <a:pt x="17382" y="7293"/>
                  <a:pt x="17304" y="7271"/>
                </a:cubicBezTo>
                <a:cubicBezTo>
                  <a:pt x="17220" y="7247"/>
                  <a:pt x="17134" y="7174"/>
                  <a:pt x="17145" y="7080"/>
                </a:cubicBezTo>
                <a:cubicBezTo>
                  <a:pt x="17156" y="7059"/>
                  <a:pt x="17166" y="7038"/>
                  <a:pt x="17177" y="70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Ink 7"/>
          <p:cNvSpPr/>
          <p:nvPr/>
        </p:nvSpPr>
        <p:spPr>
          <a:xfrm>
            <a:off x="6800760" y="2365200"/>
            <a:ext cx="320760" cy="173160"/>
          </a:xfrm>
          <a:custGeom>
            <a:avLst/>
            <a:gdLst/>
            <a:ahLst/>
            <a:rect l="l" t="t" r="r" b="b"/>
            <a:pathLst>
              <a:path w="890" h="477">
                <a:moveTo>
                  <a:pt x="18891" y="6572"/>
                </a:moveTo>
                <a:cubicBezTo>
                  <a:pt x="19045" y="6572"/>
                  <a:pt x="19187" y="6584"/>
                  <a:pt x="19336" y="6604"/>
                </a:cubicBezTo>
                <a:cubicBezTo>
                  <a:pt x="19442" y="6619"/>
                  <a:pt x="19521" y="6598"/>
                  <a:pt x="19622" y="6636"/>
                </a:cubicBezTo>
              </a:path>
              <a:path w="890" h="477">
                <a:moveTo>
                  <a:pt x="18955" y="6953"/>
                </a:moveTo>
                <a:cubicBezTo>
                  <a:pt x="18992" y="6982"/>
                  <a:pt x="19065" y="7008"/>
                  <a:pt x="19114" y="7017"/>
                </a:cubicBezTo>
                <a:cubicBezTo>
                  <a:pt x="19313" y="7053"/>
                  <a:pt x="19532" y="6987"/>
                  <a:pt x="19717" y="7048"/>
                </a:cubicBezTo>
                <a:cubicBezTo>
                  <a:pt x="19748" y="7048"/>
                  <a:pt x="19759" y="7048"/>
                  <a:pt x="19780" y="70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Ink 8"/>
          <p:cNvSpPr/>
          <p:nvPr/>
        </p:nvSpPr>
        <p:spPr>
          <a:xfrm>
            <a:off x="7418520" y="2171880"/>
            <a:ext cx="399960" cy="1039680"/>
          </a:xfrm>
          <a:custGeom>
            <a:avLst/>
            <a:gdLst/>
            <a:ahLst/>
            <a:rect l="l" t="t" r="r" b="b"/>
            <a:pathLst>
              <a:path w="1112" h="2891">
                <a:moveTo>
                  <a:pt x="20733" y="6032"/>
                </a:moveTo>
                <a:cubicBezTo>
                  <a:pt x="20710" y="6095"/>
                  <a:pt x="20650" y="6187"/>
                  <a:pt x="20638" y="6255"/>
                </a:cubicBezTo>
                <a:cubicBezTo>
                  <a:pt x="20615" y="6391"/>
                  <a:pt x="20606" y="6529"/>
                  <a:pt x="20606" y="6668"/>
                </a:cubicBezTo>
                <a:cubicBezTo>
                  <a:pt x="20606" y="6801"/>
                  <a:pt x="20652" y="6962"/>
                  <a:pt x="20764" y="7048"/>
                </a:cubicBezTo>
                <a:cubicBezTo>
                  <a:pt x="20851" y="7114"/>
                  <a:pt x="20937" y="7066"/>
                  <a:pt x="21018" y="7017"/>
                </a:cubicBezTo>
                <a:cubicBezTo>
                  <a:pt x="21173" y="6923"/>
                  <a:pt x="21234" y="6789"/>
                  <a:pt x="21304" y="6636"/>
                </a:cubicBezTo>
                <a:cubicBezTo>
                  <a:pt x="21370" y="6493"/>
                  <a:pt x="21424" y="6381"/>
                  <a:pt x="21431" y="6223"/>
                </a:cubicBezTo>
                <a:cubicBezTo>
                  <a:pt x="21434" y="6165"/>
                  <a:pt x="21417" y="6143"/>
                  <a:pt x="21400" y="6096"/>
                </a:cubicBezTo>
                <a:cubicBezTo>
                  <a:pt x="21400" y="6280"/>
                  <a:pt x="21418" y="6456"/>
                  <a:pt x="21431" y="6636"/>
                </a:cubicBezTo>
                <a:cubicBezTo>
                  <a:pt x="21446" y="6848"/>
                  <a:pt x="21482" y="7059"/>
                  <a:pt x="21495" y="7271"/>
                </a:cubicBezTo>
                <a:cubicBezTo>
                  <a:pt x="21510" y="7519"/>
                  <a:pt x="21477" y="7757"/>
                  <a:pt x="21463" y="8001"/>
                </a:cubicBezTo>
                <a:cubicBezTo>
                  <a:pt x="21451" y="8211"/>
                  <a:pt x="21445" y="8435"/>
                  <a:pt x="21368" y="8636"/>
                </a:cubicBezTo>
                <a:cubicBezTo>
                  <a:pt x="21332" y="8729"/>
                  <a:pt x="21261" y="8897"/>
                  <a:pt x="21146" y="8922"/>
                </a:cubicBezTo>
                <a:cubicBezTo>
                  <a:pt x="21062" y="8940"/>
                  <a:pt x="21001" y="8898"/>
                  <a:pt x="20955" y="8826"/>
                </a:cubicBezTo>
                <a:cubicBezTo>
                  <a:pt x="20887" y="8720"/>
                  <a:pt x="20895" y="8502"/>
                  <a:pt x="20892" y="8382"/>
                </a:cubicBezTo>
                <a:cubicBezTo>
                  <a:pt x="20886" y="8178"/>
                  <a:pt x="20948" y="7978"/>
                  <a:pt x="20987" y="7779"/>
                </a:cubicBezTo>
                <a:cubicBezTo>
                  <a:pt x="21033" y="7547"/>
                  <a:pt x="21126" y="7405"/>
                  <a:pt x="21241" y="7207"/>
                </a:cubicBezTo>
                <a:cubicBezTo>
                  <a:pt x="21316" y="7077"/>
                  <a:pt x="21407" y="6924"/>
                  <a:pt x="21526" y="6826"/>
                </a:cubicBezTo>
                <a:cubicBezTo>
                  <a:pt x="21622" y="6763"/>
                  <a:pt x="21654" y="6742"/>
                  <a:pt x="21717" y="66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Ink 9"/>
          <p:cNvSpPr/>
          <p:nvPr/>
        </p:nvSpPr>
        <p:spPr>
          <a:xfrm>
            <a:off x="1292400" y="3863880"/>
            <a:ext cx="993600" cy="433440"/>
          </a:xfrm>
          <a:custGeom>
            <a:avLst/>
            <a:gdLst/>
            <a:ahLst/>
            <a:rect l="l" t="t" r="r" b="b"/>
            <a:pathLst>
              <a:path w="2763" h="1207">
                <a:moveTo>
                  <a:pt x="3588" y="10763"/>
                </a:moveTo>
                <a:cubicBezTo>
                  <a:pt x="3588" y="10831"/>
                  <a:pt x="3614" y="10852"/>
                  <a:pt x="3620" y="10922"/>
                </a:cubicBezTo>
                <a:cubicBezTo>
                  <a:pt x="3627" y="11009"/>
                  <a:pt x="3647" y="11089"/>
                  <a:pt x="3651" y="11176"/>
                </a:cubicBezTo>
                <a:cubicBezTo>
                  <a:pt x="3656" y="11298"/>
                  <a:pt x="3701" y="11410"/>
                  <a:pt x="3715" y="11525"/>
                </a:cubicBezTo>
                <a:cubicBezTo>
                  <a:pt x="3726" y="11613"/>
                  <a:pt x="3741" y="11732"/>
                  <a:pt x="3778" y="11811"/>
                </a:cubicBezTo>
                <a:cubicBezTo>
                  <a:pt x="3798" y="11854"/>
                  <a:pt x="3810" y="11864"/>
                  <a:pt x="3842" y="11874"/>
                </a:cubicBezTo>
                <a:cubicBezTo>
                  <a:pt x="3842" y="11741"/>
                  <a:pt x="3837" y="11622"/>
                  <a:pt x="3874" y="11494"/>
                </a:cubicBezTo>
                <a:cubicBezTo>
                  <a:pt x="3905" y="11388"/>
                  <a:pt x="3903" y="11276"/>
                  <a:pt x="3937" y="11176"/>
                </a:cubicBezTo>
                <a:cubicBezTo>
                  <a:pt x="3955" y="11121"/>
                  <a:pt x="3969" y="11091"/>
                  <a:pt x="4000" y="11049"/>
                </a:cubicBezTo>
                <a:cubicBezTo>
                  <a:pt x="4046" y="11126"/>
                  <a:pt x="4013" y="11183"/>
                  <a:pt x="4032" y="11271"/>
                </a:cubicBezTo>
                <a:cubicBezTo>
                  <a:pt x="4055" y="11376"/>
                  <a:pt x="4079" y="11529"/>
                  <a:pt x="4128" y="11620"/>
                </a:cubicBezTo>
                <a:cubicBezTo>
                  <a:pt x="4171" y="11701"/>
                  <a:pt x="4225" y="11806"/>
                  <a:pt x="4286" y="11874"/>
                </a:cubicBezTo>
                <a:cubicBezTo>
                  <a:pt x="4322" y="11914"/>
                  <a:pt x="4333" y="11906"/>
                  <a:pt x="4382" y="11906"/>
                </a:cubicBezTo>
                <a:cubicBezTo>
                  <a:pt x="4382" y="11793"/>
                  <a:pt x="4363" y="11697"/>
                  <a:pt x="4350" y="11589"/>
                </a:cubicBezTo>
                <a:cubicBezTo>
                  <a:pt x="4322" y="11352"/>
                  <a:pt x="4350" y="11097"/>
                  <a:pt x="4350" y="10858"/>
                </a:cubicBezTo>
              </a:path>
              <a:path w="2763" h="1207">
                <a:moveTo>
                  <a:pt x="4572" y="10732"/>
                </a:moveTo>
                <a:cubicBezTo>
                  <a:pt x="4572" y="10916"/>
                  <a:pt x="4588" y="11091"/>
                  <a:pt x="4604" y="11271"/>
                </a:cubicBezTo>
                <a:cubicBezTo>
                  <a:pt x="4620" y="11454"/>
                  <a:pt x="4612" y="11632"/>
                  <a:pt x="4636" y="11811"/>
                </a:cubicBezTo>
                <a:cubicBezTo>
                  <a:pt x="4643" y="11864"/>
                  <a:pt x="4636" y="11853"/>
                  <a:pt x="4636" y="11906"/>
                </a:cubicBezTo>
                <a:cubicBezTo>
                  <a:pt x="4636" y="11783"/>
                  <a:pt x="4654" y="11675"/>
                  <a:pt x="4667" y="11557"/>
                </a:cubicBezTo>
                <a:cubicBezTo>
                  <a:pt x="4681" y="11430"/>
                  <a:pt x="4687" y="11298"/>
                  <a:pt x="4731" y="11176"/>
                </a:cubicBezTo>
                <a:cubicBezTo>
                  <a:pt x="4760" y="11094"/>
                  <a:pt x="4798" y="11083"/>
                  <a:pt x="4858" y="11049"/>
                </a:cubicBezTo>
                <a:cubicBezTo>
                  <a:pt x="4904" y="11126"/>
                  <a:pt x="4890" y="11207"/>
                  <a:pt x="4890" y="11303"/>
                </a:cubicBezTo>
                <a:cubicBezTo>
                  <a:pt x="4890" y="11449"/>
                  <a:pt x="4865" y="11614"/>
                  <a:pt x="4921" y="11748"/>
                </a:cubicBezTo>
                <a:cubicBezTo>
                  <a:pt x="4949" y="11814"/>
                  <a:pt x="5005" y="11916"/>
                  <a:pt x="5080" y="11906"/>
                </a:cubicBezTo>
                <a:cubicBezTo>
                  <a:pt x="5159" y="11895"/>
                  <a:pt x="5264" y="11816"/>
                  <a:pt x="5302" y="11748"/>
                </a:cubicBezTo>
                <a:cubicBezTo>
                  <a:pt x="5363" y="11640"/>
                  <a:pt x="5393" y="11487"/>
                  <a:pt x="5398" y="11366"/>
                </a:cubicBezTo>
                <a:cubicBezTo>
                  <a:pt x="5401" y="11291"/>
                  <a:pt x="5421" y="11183"/>
                  <a:pt x="5334" y="11144"/>
                </a:cubicBezTo>
                <a:cubicBezTo>
                  <a:pt x="5323" y="11144"/>
                  <a:pt x="5313" y="11144"/>
                  <a:pt x="5302" y="11144"/>
                </a:cubicBezTo>
                <a:cubicBezTo>
                  <a:pt x="5270" y="11187"/>
                  <a:pt x="5216" y="11253"/>
                  <a:pt x="5207" y="11335"/>
                </a:cubicBezTo>
                <a:cubicBezTo>
                  <a:pt x="5191" y="11483"/>
                  <a:pt x="5220" y="11582"/>
                  <a:pt x="5270" y="11716"/>
                </a:cubicBezTo>
                <a:cubicBezTo>
                  <a:pt x="5309" y="11821"/>
                  <a:pt x="5350" y="11868"/>
                  <a:pt x="5461" y="11874"/>
                </a:cubicBezTo>
                <a:cubicBezTo>
                  <a:pt x="5600" y="11882"/>
                  <a:pt x="5611" y="11796"/>
                  <a:pt x="5652" y="11684"/>
                </a:cubicBezTo>
              </a:path>
              <a:path w="2763" h="1207">
                <a:moveTo>
                  <a:pt x="5683" y="11208"/>
                </a:moveTo>
                <a:cubicBezTo>
                  <a:pt x="5683" y="11121"/>
                  <a:pt x="5683" y="11317"/>
                  <a:pt x="5683" y="11335"/>
                </a:cubicBezTo>
                <a:cubicBezTo>
                  <a:pt x="5683" y="11458"/>
                  <a:pt x="5709" y="11564"/>
                  <a:pt x="5715" y="11684"/>
                </a:cubicBezTo>
                <a:cubicBezTo>
                  <a:pt x="5719" y="11770"/>
                  <a:pt x="5691" y="11869"/>
                  <a:pt x="5747" y="11906"/>
                </a:cubicBezTo>
                <a:cubicBezTo>
                  <a:pt x="5747" y="11959"/>
                  <a:pt x="5747" y="11864"/>
                  <a:pt x="5747" y="11811"/>
                </a:cubicBezTo>
                <a:cubicBezTo>
                  <a:pt x="5747" y="11694"/>
                  <a:pt x="5751" y="11574"/>
                  <a:pt x="5778" y="11462"/>
                </a:cubicBezTo>
                <a:cubicBezTo>
                  <a:pt x="5798" y="11379"/>
                  <a:pt x="5839" y="11206"/>
                  <a:pt x="5906" y="11144"/>
                </a:cubicBezTo>
                <a:cubicBezTo>
                  <a:pt x="5948" y="11105"/>
                  <a:pt x="5984" y="11112"/>
                  <a:pt x="6032" y="11112"/>
                </a:cubicBezTo>
                <a:cubicBezTo>
                  <a:pt x="6082" y="11178"/>
                  <a:pt x="6064" y="11248"/>
                  <a:pt x="6064" y="11335"/>
                </a:cubicBezTo>
                <a:cubicBezTo>
                  <a:pt x="6064" y="11473"/>
                  <a:pt x="6052" y="11588"/>
                  <a:pt x="6064" y="11716"/>
                </a:cubicBezTo>
                <a:cubicBezTo>
                  <a:pt x="6076" y="11845"/>
                  <a:pt x="6104" y="11855"/>
                  <a:pt x="6191" y="11906"/>
                </a:cubicBezTo>
                <a:cubicBezTo>
                  <a:pt x="6265" y="11950"/>
                  <a:pt x="6264" y="11938"/>
                  <a:pt x="6350" y="11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Ink 10"/>
          <p:cNvSpPr/>
          <p:nvPr/>
        </p:nvSpPr>
        <p:spPr>
          <a:xfrm>
            <a:off x="2674800" y="3817800"/>
            <a:ext cx="22320" cy="503280"/>
          </a:xfrm>
          <a:custGeom>
            <a:avLst/>
            <a:gdLst/>
            <a:ahLst/>
            <a:rect l="l" t="t" r="r" b="b"/>
            <a:pathLst>
              <a:path w="64" h="1399">
                <a:moveTo>
                  <a:pt x="7493" y="10604"/>
                </a:moveTo>
                <a:cubicBezTo>
                  <a:pt x="7457" y="10700"/>
                  <a:pt x="7441" y="10819"/>
                  <a:pt x="7430" y="10922"/>
                </a:cubicBezTo>
                <a:cubicBezTo>
                  <a:pt x="7392" y="11273"/>
                  <a:pt x="7430" y="11648"/>
                  <a:pt x="7430" y="120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Ink 11"/>
          <p:cNvSpPr/>
          <p:nvPr/>
        </p:nvSpPr>
        <p:spPr>
          <a:xfrm>
            <a:off x="3075120" y="3908520"/>
            <a:ext cx="1771560" cy="617400"/>
          </a:xfrm>
          <a:custGeom>
            <a:avLst/>
            <a:gdLst/>
            <a:ahLst/>
            <a:rect l="l" t="t" r="r" b="b"/>
            <a:pathLst>
              <a:path w="4922" h="1716">
                <a:moveTo>
                  <a:pt x="8541" y="11335"/>
                </a:moveTo>
                <a:cubicBezTo>
                  <a:pt x="8598" y="11320"/>
                  <a:pt x="8647" y="11299"/>
                  <a:pt x="8700" y="11271"/>
                </a:cubicBezTo>
                <a:cubicBezTo>
                  <a:pt x="8782" y="11228"/>
                  <a:pt x="8867" y="11220"/>
                  <a:pt x="8954" y="11176"/>
                </a:cubicBezTo>
                <a:cubicBezTo>
                  <a:pt x="9027" y="11139"/>
                  <a:pt x="9069" y="11136"/>
                  <a:pt x="9112" y="11081"/>
                </a:cubicBezTo>
                <a:cubicBezTo>
                  <a:pt x="9134" y="11053"/>
                  <a:pt x="9168" y="10996"/>
                  <a:pt x="9144" y="10954"/>
                </a:cubicBezTo>
                <a:cubicBezTo>
                  <a:pt x="9132" y="10932"/>
                  <a:pt x="9038" y="10855"/>
                  <a:pt x="9017" y="10858"/>
                </a:cubicBezTo>
                <a:cubicBezTo>
                  <a:pt x="8912" y="10873"/>
                  <a:pt x="8830" y="10931"/>
                  <a:pt x="8763" y="11017"/>
                </a:cubicBezTo>
                <a:cubicBezTo>
                  <a:pt x="8659" y="11150"/>
                  <a:pt x="8641" y="11299"/>
                  <a:pt x="8636" y="11462"/>
                </a:cubicBezTo>
                <a:cubicBezTo>
                  <a:pt x="8631" y="11620"/>
                  <a:pt x="8624" y="11724"/>
                  <a:pt x="8731" y="11843"/>
                </a:cubicBezTo>
                <a:cubicBezTo>
                  <a:pt x="8834" y="11957"/>
                  <a:pt x="8916" y="11943"/>
                  <a:pt x="9049" y="11906"/>
                </a:cubicBezTo>
              </a:path>
              <a:path w="4922" h="1716">
                <a:moveTo>
                  <a:pt x="9652" y="11430"/>
                </a:moveTo>
                <a:cubicBezTo>
                  <a:pt x="9665" y="11330"/>
                  <a:pt x="9678" y="11295"/>
                  <a:pt x="9652" y="11208"/>
                </a:cubicBezTo>
                <a:cubicBezTo>
                  <a:pt x="9634" y="11148"/>
                  <a:pt x="9599" y="11119"/>
                  <a:pt x="9525" y="11144"/>
                </a:cubicBezTo>
                <a:cubicBezTo>
                  <a:pt x="9429" y="11176"/>
                  <a:pt x="9317" y="11314"/>
                  <a:pt x="9271" y="11398"/>
                </a:cubicBezTo>
                <a:cubicBezTo>
                  <a:pt x="9225" y="11482"/>
                  <a:pt x="9217" y="11603"/>
                  <a:pt x="9271" y="11684"/>
                </a:cubicBezTo>
                <a:cubicBezTo>
                  <a:pt x="9336" y="11782"/>
                  <a:pt x="9386" y="11724"/>
                  <a:pt x="9462" y="11684"/>
                </a:cubicBezTo>
                <a:cubicBezTo>
                  <a:pt x="9586" y="11618"/>
                  <a:pt x="9599" y="11552"/>
                  <a:pt x="9652" y="11430"/>
                </a:cubicBezTo>
                <a:cubicBezTo>
                  <a:pt x="9657" y="11418"/>
                  <a:pt x="9710" y="11252"/>
                  <a:pt x="9684" y="11303"/>
                </a:cubicBezTo>
                <a:cubicBezTo>
                  <a:pt x="9668" y="11335"/>
                  <a:pt x="9655" y="11524"/>
                  <a:pt x="9652" y="11557"/>
                </a:cubicBezTo>
                <a:cubicBezTo>
                  <a:pt x="9636" y="11726"/>
                  <a:pt x="9636" y="11898"/>
                  <a:pt x="9620" y="12065"/>
                </a:cubicBezTo>
                <a:cubicBezTo>
                  <a:pt x="9607" y="12202"/>
                  <a:pt x="9623" y="12346"/>
                  <a:pt x="9588" y="12478"/>
                </a:cubicBezTo>
                <a:cubicBezTo>
                  <a:pt x="9561" y="12534"/>
                  <a:pt x="9556" y="12549"/>
                  <a:pt x="9525" y="12573"/>
                </a:cubicBezTo>
                <a:cubicBezTo>
                  <a:pt x="9475" y="12507"/>
                  <a:pt x="9493" y="12438"/>
                  <a:pt x="9493" y="12351"/>
                </a:cubicBezTo>
              </a:path>
              <a:path w="4922" h="1716">
                <a:moveTo>
                  <a:pt x="9938" y="11017"/>
                </a:moveTo>
                <a:cubicBezTo>
                  <a:pt x="9956" y="11108"/>
                  <a:pt x="9970" y="11171"/>
                  <a:pt x="9970" y="11271"/>
                </a:cubicBezTo>
                <a:cubicBezTo>
                  <a:pt x="9970" y="11426"/>
                  <a:pt x="9941" y="11606"/>
                  <a:pt x="10001" y="11748"/>
                </a:cubicBezTo>
                <a:cubicBezTo>
                  <a:pt x="10026" y="11808"/>
                  <a:pt x="10114" y="11903"/>
                  <a:pt x="10192" y="11843"/>
                </a:cubicBezTo>
                <a:cubicBezTo>
                  <a:pt x="10276" y="11778"/>
                  <a:pt x="10346" y="11623"/>
                  <a:pt x="10382" y="11525"/>
                </a:cubicBezTo>
                <a:cubicBezTo>
                  <a:pt x="10428" y="11402"/>
                  <a:pt x="10446" y="11306"/>
                  <a:pt x="10446" y="11176"/>
                </a:cubicBezTo>
                <a:cubicBezTo>
                  <a:pt x="10446" y="11165"/>
                  <a:pt x="10446" y="11155"/>
                  <a:pt x="10446" y="11144"/>
                </a:cubicBezTo>
                <a:cubicBezTo>
                  <a:pt x="10381" y="11166"/>
                  <a:pt x="10386" y="11259"/>
                  <a:pt x="10382" y="11335"/>
                </a:cubicBezTo>
                <a:cubicBezTo>
                  <a:pt x="10376" y="11464"/>
                  <a:pt x="10371" y="11593"/>
                  <a:pt x="10414" y="11716"/>
                </a:cubicBezTo>
                <a:cubicBezTo>
                  <a:pt x="10430" y="11763"/>
                  <a:pt x="10483" y="11889"/>
                  <a:pt x="10541" y="11906"/>
                </a:cubicBezTo>
                <a:cubicBezTo>
                  <a:pt x="10598" y="11906"/>
                  <a:pt x="10615" y="11910"/>
                  <a:pt x="10636" y="11874"/>
                </a:cubicBezTo>
              </a:path>
              <a:path w="4922" h="1716">
                <a:moveTo>
                  <a:pt x="11081" y="11303"/>
                </a:moveTo>
                <a:cubicBezTo>
                  <a:pt x="11081" y="11246"/>
                  <a:pt x="11105" y="11147"/>
                  <a:pt x="11049" y="11112"/>
                </a:cubicBezTo>
                <a:cubicBezTo>
                  <a:pt x="11038" y="11112"/>
                  <a:pt x="11028" y="11112"/>
                  <a:pt x="11017" y="11112"/>
                </a:cubicBezTo>
                <a:cubicBezTo>
                  <a:pt x="10906" y="11176"/>
                  <a:pt x="10899" y="11207"/>
                  <a:pt x="10827" y="11303"/>
                </a:cubicBezTo>
                <a:cubicBezTo>
                  <a:pt x="10733" y="11427"/>
                  <a:pt x="10732" y="11495"/>
                  <a:pt x="10732" y="11652"/>
                </a:cubicBezTo>
                <a:cubicBezTo>
                  <a:pt x="10732" y="11719"/>
                  <a:pt x="10745" y="11841"/>
                  <a:pt x="10858" y="11811"/>
                </a:cubicBezTo>
                <a:cubicBezTo>
                  <a:pt x="10937" y="11790"/>
                  <a:pt x="11072" y="11659"/>
                  <a:pt x="11112" y="11589"/>
                </a:cubicBezTo>
                <a:cubicBezTo>
                  <a:pt x="11153" y="11516"/>
                  <a:pt x="11176" y="11418"/>
                  <a:pt x="11176" y="11335"/>
                </a:cubicBezTo>
                <a:cubicBezTo>
                  <a:pt x="11176" y="11324"/>
                  <a:pt x="11176" y="11314"/>
                  <a:pt x="11176" y="11303"/>
                </a:cubicBezTo>
                <a:cubicBezTo>
                  <a:pt x="11131" y="11363"/>
                  <a:pt x="11144" y="11415"/>
                  <a:pt x="11144" y="11494"/>
                </a:cubicBezTo>
                <a:cubicBezTo>
                  <a:pt x="11144" y="11621"/>
                  <a:pt x="11158" y="11722"/>
                  <a:pt x="11176" y="11843"/>
                </a:cubicBezTo>
                <a:cubicBezTo>
                  <a:pt x="11191" y="11944"/>
                  <a:pt x="11212" y="11961"/>
                  <a:pt x="11303" y="11906"/>
                </a:cubicBezTo>
              </a:path>
              <a:path w="4922" h="1716">
                <a:moveTo>
                  <a:pt x="11652" y="10890"/>
                </a:moveTo>
                <a:cubicBezTo>
                  <a:pt x="11623" y="10861"/>
                  <a:pt x="11608" y="10850"/>
                  <a:pt x="11652" y="10858"/>
                </a:cubicBezTo>
                <a:cubicBezTo>
                  <a:pt x="11667" y="10964"/>
                  <a:pt x="11702" y="11053"/>
                  <a:pt x="11684" y="11176"/>
                </a:cubicBezTo>
                <a:cubicBezTo>
                  <a:pt x="11659" y="11349"/>
                  <a:pt x="11652" y="11507"/>
                  <a:pt x="11652" y="11684"/>
                </a:cubicBezTo>
                <a:cubicBezTo>
                  <a:pt x="11652" y="11766"/>
                  <a:pt x="11631" y="11871"/>
                  <a:pt x="11684" y="11906"/>
                </a:cubicBezTo>
              </a:path>
              <a:path w="4922" h="1716">
                <a:moveTo>
                  <a:pt x="11398" y="11303"/>
                </a:moveTo>
                <a:cubicBezTo>
                  <a:pt x="11334" y="11303"/>
                  <a:pt x="11461" y="11303"/>
                  <a:pt x="11525" y="11303"/>
                </a:cubicBezTo>
                <a:cubicBezTo>
                  <a:pt x="11655" y="11303"/>
                  <a:pt x="11773" y="11335"/>
                  <a:pt x="11906" y="11335"/>
                </a:cubicBezTo>
              </a:path>
              <a:path w="4922" h="1716">
                <a:moveTo>
                  <a:pt x="12128" y="11049"/>
                </a:moveTo>
                <a:cubicBezTo>
                  <a:pt x="12128" y="11144"/>
                  <a:pt x="12147" y="11211"/>
                  <a:pt x="12160" y="11303"/>
                </a:cubicBezTo>
                <a:cubicBezTo>
                  <a:pt x="12176" y="11411"/>
                  <a:pt x="12151" y="11549"/>
                  <a:pt x="12128" y="11652"/>
                </a:cubicBezTo>
                <a:cubicBezTo>
                  <a:pt x="12101" y="11736"/>
                  <a:pt x="12091" y="11755"/>
                  <a:pt x="12097" y="11811"/>
                </a:cubicBezTo>
              </a:path>
              <a:path w="4922" h="1716">
                <a:moveTo>
                  <a:pt x="12605" y="11144"/>
                </a:moveTo>
                <a:cubicBezTo>
                  <a:pt x="12543" y="11103"/>
                  <a:pt x="12565" y="11174"/>
                  <a:pt x="12510" y="11240"/>
                </a:cubicBezTo>
                <a:cubicBezTo>
                  <a:pt x="12431" y="11335"/>
                  <a:pt x="12370" y="11461"/>
                  <a:pt x="12351" y="11589"/>
                </a:cubicBezTo>
                <a:cubicBezTo>
                  <a:pt x="12338" y="11678"/>
                  <a:pt x="12353" y="11733"/>
                  <a:pt x="12382" y="11811"/>
                </a:cubicBezTo>
                <a:cubicBezTo>
                  <a:pt x="12466" y="11811"/>
                  <a:pt x="12508" y="11809"/>
                  <a:pt x="12573" y="11748"/>
                </a:cubicBezTo>
                <a:cubicBezTo>
                  <a:pt x="12670" y="11657"/>
                  <a:pt x="12709" y="11495"/>
                  <a:pt x="12732" y="11366"/>
                </a:cubicBezTo>
                <a:cubicBezTo>
                  <a:pt x="12747" y="11282"/>
                  <a:pt x="12730" y="11186"/>
                  <a:pt x="12700" y="11112"/>
                </a:cubicBezTo>
                <a:cubicBezTo>
                  <a:pt x="12691" y="11089"/>
                  <a:pt x="12668" y="10975"/>
                  <a:pt x="12668" y="11049"/>
                </a:cubicBezTo>
                <a:cubicBezTo>
                  <a:pt x="12754" y="11066"/>
                  <a:pt x="12792" y="11092"/>
                  <a:pt x="12827" y="11176"/>
                </a:cubicBezTo>
                <a:cubicBezTo>
                  <a:pt x="12876" y="11294"/>
                  <a:pt x="12917" y="11397"/>
                  <a:pt x="12922" y="11525"/>
                </a:cubicBezTo>
                <a:cubicBezTo>
                  <a:pt x="12926" y="11636"/>
                  <a:pt x="12890" y="11731"/>
                  <a:pt x="12890" y="11843"/>
                </a:cubicBezTo>
                <a:cubicBezTo>
                  <a:pt x="12890" y="11853"/>
                  <a:pt x="12890" y="11864"/>
                  <a:pt x="12890" y="11874"/>
                </a:cubicBezTo>
                <a:cubicBezTo>
                  <a:pt x="12909" y="11779"/>
                  <a:pt x="12929" y="11686"/>
                  <a:pt x="12954" y="11589"/>
                </a:cubicBezTo>
                <a:cubicBezTo>
                  <a:pt x="12986" y="11463"/>
                  <a:pt x="13023" y="11355"/>
                  <a:pt x="13081" y="11240"/>
                </a:cubicBezTo>
                <a:cubicBezTo>
                  <a:pt x="13120" y="11163"/>
                  <a:pt x="13126" y="11144"/>
                  <a:pt x="13208" y="11144"/>
                </a:cubicBezTo>
                <a:cubicBezTo>
                  <a:pt x="13294" y="11230"/>
                  <a:pt x="13278" y="11286"/>
                  <a:pt x="13303" y="11398"/>
                </a:cubicBezTo>
                <a:cubicBezTo>
                  <a:pt x="13334" y="11537"/>
                  <a:pt x="13310" y="11673"/>
                  <a:pt x="13335" y="11811"/>
                </a:cubicBezTo>
                <a:cubicBezTo>
                  <a:pt x="13352" y="11904"/>
                  <a:pt x="13370" y="11970"/>
                  <a:pt x="13462" y="11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Ink 12"/>
          <p:cNvSpPr/>
          <p:nvPr/>
        </p:nvSpPr>
        <p:spPr>
          <a:xfrm>
            <a:off x="5108400" y="3954600"/>
            <a:ext cx="24120" cy="285480"/>
          </a:xfrm>
          <a:custGeom>
            <a:avLst/>
            <a:gdLst/>
            <a:ahLst/>
            <a:rect l="l" t="t" r="r" b="b"/>
            <a:pathLst>
              <a:path w="65" h="794">
                <a:moveTo>
                  <a:pt x="14192" y="10986"/>
                </a:moveTo>
                <a:cubicBezTo>
                  <a:pt x="14192" y="11132"/>
                  <a:pt x="14209" y="11256"/>
                  <a:pt x="14224" y="11398"/>
                </a:cubicBezTo>
                <a:cubicBezTo>
                  <a:pt x="14237" y="11527"/>
                  <a:pt x="14242" y="11652"/>
                  <a:pt x="14256" y="11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Ink 13"/>
          <p:cNvSpPr/>
          <p:nvPr/>
        </p:nvSpPr>
        <p:spPr>
          <a:xfrm>
            <a:off x="5268960" y="3954600"/>
            <a:ext cx="127080" cy="285480"/>
          </a:xfrm>
          <a:custGeom>
            <a:avLst/>
            <a:gdLst/>
            <a:ahLst/>
            <a:rect l="l" t="t" r="r" b="b"/>
            <a:pathLst>
              <a:path w="350" h="794">
                <a:moveTo>
                  <a:pt x="14859" y="11081"/>
                </a:moveTo>
                <a:cubicBezTo>
                  <a:pt x="14845" y="11026"/>
                  <a:pt x="14807" y="10962"/>
                  <a:pt x="14732" y="10986"/>
                </a:cubicBezTo>
                <a:cubicBezTo>
                  <a:pt x="14664" y="11008"/>
                  <a:pt x="14641" y="11040"/>
                  <a:pt x="14637" y="11112"/>
                </a:cubicBezTo>
                <a:cubicBezTo>
                  <a:pt x="14633" y="11184"/>
                  <a:pt x="14635" y="11256"/>
                  <a:pt x="14700" y="11303"/>
                </a:cubicBezTo>
                <a:cubicBezTo>
                  <a:pt x="14793" y="11370"/>
                  <a:pt x="14869" y="11410"/>
                  <a:pt x="14954" y="11494"/>
                </a:cubicBezTo>
                <a:cubicBezTo>
                  <a:pt x="14989" y="11529"/>
                  <a:pt x="15011" y="11634"/>
                  <a:pt x="14986" y="11684"/>
                </a:cubicBezTo>
                <a:cubicBezTo>
                  <a:pt x="14955" y="11745"/>
                  <a:pt x="14853" y="11776"/>
                  <a:pt x="14796" y="11779"/>
                </a:cubicBezTo>
                <a:cubicBezTo>
                  <a:pt x="14761" y="11781"/>
                  <a:pt x="14650" y="11760"/>
                  <a:pt x="14637" y="11716"/>
                </a:cubicBezTo>
                <a:cubicBezTo>
                  <a:pt x="14637" y="11663"/>
                  <a:pt x="14637" y="11652"/>
                  <a:pt x="14637" y="11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Ink 14"/>
          <p:cNvSpPr/>
          <p:nvPr/>
        </p:nvSpPr>
        <p:spPr>
          <a:xfrm>
            <a:off x="5737320" y="3943440"/>
            <a:ext cx="388800" cy="366480"/>
          </a:xfrm>
          <a:custGeom>
            <a:avLst/>
            <a:gdLst/>
            <a:ahLst/>
            <a:rect l="l" t="t" r="r" b="b"/>
            <a:pathLst>
              <a:path w="1081" h="1017">
                <a:moveTo>
                  <a:pt x="15970" y="10954"/>
                </a:moveTo>
                <a:cubicBezTo>
                  <a:pt x="15922" y="10970"/>
                  <a:pt x="15924" y="11049"/>
                  <a:pt x="15938" y="11112"/>
                </a:cubicBezTo>
                <a:cubicBezTo>
                  <a:pt x="15971" y="11263"/>
                  <a:pt x="15970" y="11401"/>
                  <a:pt x="15970" y="11557"/>
                </a:cubicBezTo>
                <a:cubicBezTo>
                  <a:pt x="15970" y="11666"/>
                  <a:pt x="15974" y="11753"/>
                  <a:pt x="16002" y="11843"/>
                </a:cubicBezTo>
                <a:cubicBezTo>
                  <a:pt x="16002" y="11853"/>
                  <a:pt x="16002" y="11864"/>
                  <a:pt x="16002" y="11874"/>
                </a:cubicBezTo>
              </a:path>
              <a:path w="1081" h="1017">
                <a:moveTo>
                  <a:pt x="16288" y="11081"/>
                </a:moveTo>
                <a:cubicBezTo>
                  <a:pt x="16308" y="11160"/>
                  <a:pt x="16320" y="11206"/>
                  <a:pt x="16320" y="11303"/>
                </a:cubicBezTo>
                <a:cubicBezTo>
                  <a:pt x="16320" y="11427"/>
                  <a:pt x="16301" y="11534"/>
                  <a:pt x="16288" y="11652"/>
                </a:cubicBezTo>
                <a:cubicBezTo>
                  <a:pt x="16279" y="11734"/>
                  <a:pt x="16234" y="11839"/>
                  <a:pt x="16288" y="11874"/>
                </a:cubicBezTo>
                <a:cubicBezTo>
                  <a:pt x="16288" y="11781"/>
                  <a:pt x="16298" y="11711"/>
                  <a:pt x="16320" y="11620"/>
                </a:cubicBezTo>
                <a:cubicBezTo>
                  <a:pt x="16355" y="11479"/>
                  <a:pt x="16398" y="11343"/>
                  <a:pt x="16446" y="11208"/>
                </a:cubicBezTo>
                <a:cubicBezTo>
                  <a:pt x="16492" y="11080"/>
                  <a:pt x="16511" y="11071"/>
                  <a:pt x="16605" y="11017"/>
                </a:cubicBezTo>
                <a:cubicBezTo>
                  <a:pt x="16668" y="10981"/>
                  <a:pt x="16720" y="11011"/>
                  <a:pt x="16764" y="11081"/>
                </a:cubicBezTo>
                <a:cubicBezTo>
                  <a:pt x="16838" y="11199"/>
                  <a:pt x="16775" y="11310"/>
                  <a:pt x="16764" y="11430"/>
                </a:cubicBezTo>
                <a:cubicBezTo>
                  <a:pt x="16752" y="11558"/>
                  <a:pt x="16717" y="11760"/>
                  <a:pt x="16764" y="11874"/>
                </a:cubicBezTo>
                <a:cubicBezTo>
                  <a:pt x="16793" y="11945"/>
                  <a:pt x="16842" y="11990"/>
                  <a:pt x="16923" y="11970"/>
                </a:cubicBezTo>
                <a:cubicBezTo>
                  <a:pt x="16955" y="11959"/>
                  <a:pt x="16986" y="11949"/>
                  <a:pt x="17018" y="11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Ink 15"/>
          <p:cNvSpPr/>
          <p:nvPr/>
        </p:nvSpPr>
        <p:spPr>
          <a:xfrm>
            <a:off x="6400800" y="3760920"/>
            <a:ext cx="1749600" cy="560160"/>
          </a:xfrm>
          <a:custGeom>
            <a:avLst/>
            <a:gdLst/>
            <a:ahLst/>
            <a:rect l="l" t="t" r="r" b="b"/>
            <a:pathLst>
              <a:path w="4859" h="1557">
                <a:moveTo>
                  <a:pt x="18161" y="10478"/>
                </a:moveTo>
                <a:cubicBezTo>
                  <a:pt x="18133" y="10456"/>
                  <a:pt x="18077" y="10422"/>
                  <a:pt x="18034" y="10446"/>
                </a:cubicBezTo>
                <a:cubicBezTo>
                  <a:pt x="17955" y="10490"/>
                  <a:pt x="17933" y="10569"/>
                  <a:pt x="17907" y="10636"/>
                </a:cubicBezTo>
                <a:cubicBezTo>
                  <a:pt x="17853" y="10775"/>
                  <a:pt x="17854" y="10774"/>
                  <a:pt x="17875" y="10922"/>
                </a:cubicBezTo>
                <a:cubicBezTo>
                  <a:pt x="17889" y="11024"/>
                  <a:pt x="17935" y="11095"/>
                  <a:pt x="18002" y="11176"/>
                </a:cubicBezTo>
                <a:cubicBezTo>
                  <a:pt x="18088" y="11279"/>
                  <a:pt x="18135" y="11339"/>
                  <a:pt x="18193" y="11462"/>
                </a:cubicBezTo>
                <a:cubicBezTo>
                  <a:pt x="18231" y="11544"/>
                  <a:pt x="18236" y="11645"/>
                  <a:pt x="18161" y="11716"/>
                </a:cubicBezTo>
                <a:cubicBezTo>
                  <a:pt x="18091" y="11782"/>
                  <a:pt x="17995" y="11779"/>
                  <a:pt x="17907" y="11779"/>
                </a:cubicBezTo>
                <a:cubicBezTo>
                  <a:pt x="17843" y="11779"/>
                  <a:pt x="17785" y="11749"/>
                  <a:pt x="17780" y="11684"/>
                </a:cubicBezTo>
                <a:cubicBezTo>
                  <a:pt x="17770" y="11541"/>
                  <a:pt x="17800" y="11485"/>
                  <a:pt x="17875" y="11366"/>
                </a:cubicBezTo>
              </a:path>
              <a:path w="4859" h="1557">
                <a:moveTo>
                  <a:pt x="18637" y="10668"/>
                </a:moveTo>
                <a:cubicBezTo>
                  <a:pt x="18571" y="10691"/>
                  <a:pt x="18620" y="10786"/>
                  <a:pt x="18606" y="10858"/>
                </a:cubicBezTo>
                <a:cubicBezTo>
                  <a:pt x="18575" y="11019"/>
                  <a:pt x="18574" y="11168"/>
                  <a:pt x="18574" y="11335"/>
                </a:cubicBezTo>
                <a:cubicBezTo>
                  <a:pt x="18574" y="11501"/>
                  <a:pt x="18585" y="11651"/>
                  <a:pt x="18606" y="11811"/>
                </a:cubicBezTo>
                <a:cubicBezTo>
                  <a:pt x="18613" y="11862"/>
                  <a:pt x="18606" y="11918"/>
                  <a:pt x="18606" y="11970"/>
                </a:cubicBezTo>
              </a:path>
              <a:path w="4859" h="1557">
                <a:moveTo>
                  <a:pt x="18383" y="11366"/>
                </a:moveTo>
                <a:cubicBezTo>
                  <a:pt x="18396" y="11328"/>
                  <a:pt x="18485" y="11312"/>
                  <a:pt x="18542" y="11303"/>
                </a:cubicBezTo>
                <a:cubicBezTo>
                  <a:pt x="18661" y="11285"/>
                  <a:pt x="18768" y="11271"/>
                  <a:pt x="18891" y="11271"/>
                </a:cubicBezTo>
              </a:path>
              <a:path w="4859" h="1557">
                <a:moveTo>
                  <a:pt x="19240" y="11112"/>
                </a:moveTo>
                <a:cubicBezTo>
                  <a:pt x="19240" y="11076"/>
                  <a:pt x="19237" y="11063"/>
                  <a:pt x="19209" y="11049"/>
                </a:cubicBezTo>
                <a:cubicBezTo>
                  <a:pt x="19178" y="11059"/>
                  <a:pt x="19112" y="11134"/>
                  <a:pt x="19082" y="11176"/>
                </a:cubicBezTo>
                <a:cubicBezTo>
                  <a:pt x="19012" y="11276"/>
                  <a:pt x="18946" y="11440"/>
                  <a:pt x="18923" y="11557"/>
                </a:cubicBezTo>
                <a:cubicBezTo>
                  <a:pt x="18907" y="11636"/>
                  <a:pt x="18911" y="11697"/>
                  <a:pt x="18986" y="11716"/>
                </a:cubicBezTo>
                <a:cubicBezTo>
                  <a:pt x="19050" y="11700"/>
                  <a:pt x="19142" y="11619"/>
                  <a:pt x="19177" y="11557"/>
                </a:cubicBezTo>
                <a:cubicBezTo>
                  <a:pt x="19231" y="11463"/>
                  <a:pt x="19230" y="11330"/>
                  <a:pt x="19272" y="11240"/>
                </a:cubicBezTo>
                <a:cubicBezTo>
                  <a:pt x="19301" y="11211"/>
                  <a:pt x="19312" y="11205"/>
                  <a:pt x="19304" y="11176"/>
                </a:cubicBezTo>
                <a:cubicBezTo>
                  <a:pt x="19304" y="11351"/>
                  <a:pt x="19308" y="11519"/>
                  <a:pt x="19336" y="11684"/>
                </a:cubicBezTo>
                <a:cubicBezTo>
                  <a:pt x="19349" y="11763"/>
                  <a:pt x="19343" y="11754"/>
                  <a:pt x="19399" y="11811"/>
                </a:cubicBezTo>
              </a:path>
              <a:path w="4859" h="1557">
                <a:moveTo>
                  <a:pt x="19590" y="11208"/>
                </a:moveTo>
                <a:cubicBezTo>
                  <a:pt x="19590" y="11285"/>
                  <a:pt x="19603" y="11358"/>
                  <a:pt x="19622" y="11430"/>
                </a:cubicBezTo>
                <a:cubicBezTo>
                  <a:pt x="19649" y="11536"/>
                  <a:pt x="19677" y="11639"/>
                  <a:pt x="19685" y="11748"/>
                </a:cubicBezTo>
                <a:cubicBezTo>
                  <a:pt x="19685" y="11790"/>
                  <a:pt x="19685" y="11811"/>
                  <a:pt x="19685" y="11843"/>
                </a:cubicBezTo>
                <a:cubicBezTo>
                  <a:pt x="19661" y="11723"/>
                  <a:pt x="19670" y="11747"/>
                  <a:pt x="19685" y="11620"/>
                </a:cubicBezTo>
                <a:cubicBezTo>
                  <a:pt x="19704" y="11463"/>
                  <a:pt x="19732" y="11390"/>
                  <a:pt x="19844" y="11271"/>
                </a:cubicBezTo>
                <a:cubicBezTo>
                  <a:pt x="19904" y="11207"/>
                  <a:pt x="19920" y="11176"/>
                  <a:pt x="20002" y="11176"/>
                </a:cubicBezTo>
                <a:cubicBezTo>
                  <a:pt x="20074" y="11176"/>
                  <a:pt x="20113" y="11281"/>
                  <a:pt x="20130" y="11366"/>
                </a:cubicBezTo>
                <a:cubicBezTo>
                  <a:pt x="20152" y="11474"/>
                  <a:pt x="20157" y="11606"/>
                  <a:pt x="20161" y="11716"/>
                </a:cubicBezTo>
                <a:cubicBezTo>
                  <a:pt x="20164" y="11786"/>
                  <a:pt x="20123" y="11958"/>
                  <a:pt x="20193" y="12002"/>
                </a:cubicBezTo>
                <a:cubicBezTo>
                  <a:pt x="20204" y="12002"/>
                  <a:pt x="20214" y="12002"/>
                  <a:pt x="20225" y="12002"/>
                </a:cubicBezTo>
              </a:path>
              <a:path w="4859" h="1557">
                <a:moveTo>
                  <a:pt x="20828" y="11017"/>
                </a:moveTo>
                <a:cubicBezTo>
                  <a:pt x="20865" y="11029"/>
                  <a:pt x="20913" y="11119"/>
                  <a:pt x="20923" y="11176"/>
                </a:cubicBezTo>
                <a:cubicBezTo>
                  <a:pt x="20962" y="11406"/>
                  <a:pt x="20923" y="11672"/>
                  <a:pt x="20923" y="11906"/>
                </a:cubicBezTo>
                <a:cubicBezTo>
                  <a:pt x="20875" y="11824"/>
                  <a:pt x="20882" y="11747"/>
                  <a:pt x="20860" y="11652"/>
                </a:cubicBezTo>
                <a:cubicBezTo>
                  <a:pt x="20842" y="11573"/>
                  <a:pt x="20798" y="11393"/>
                  <a:pt x="20733" y="11335"/>
                </a:cubicBezTo>
                <a:cubicBezTo>
                  <a:pt x="20697" y="11335"/>
                  <a:pt x="20683" y="11332"/>
                  <a:pt x="20669" y="11303"/>
                </a:cubicBezTo>
                <a:cubicBezTo>
                  <a:pt x="20619" y="11354"/>
                  <a:pt x="20555" y="11420"/>
                  <a:pt x="20542" y="11494"/>
                </a:cubicBezTo>
                <a:cubicBezTo>
                  <a:pt x="20528" y="11575"/>
                  <a:pt x="20513" y="11779"/>
                  <a:pt x="20574" y="11843"/>
                </a:cubicBezTo>
                <a:cubicBezTo>
                  <a:pt x="20620" y="11892"/>
                  <a:pt x="20705" y="11898"/>
                  <a:pt x="20764" y="11906"/>
                </a:cubicBezTo>
              </a:path>
              <a:path w="4859" h="1557">
                <a:moveTo>
                  <a:pt x="21368" y="11494"/>
                </a:moveTo>
                <a:cubicBezTo>
                  <a:pt x="21406" y="11393"/>
                  <a:pt x="21412" y="11378"/>
                  <a:pt x="21336" y="11303"/>
                </a:cubicBezTo>
                <a:cubicBezTo>
                  <a:pt x="21242" y="11303"/>
                  <a:pt x="21230" y="11340"/>
                  <a:pt x="21177" y="11430"/>
                </a:cubicBezTo>
                <a:cubicBezTo>
                  <a:pt x="21104" y="11553"/>
                  <a:pt x="21114" y="11673"/>
                  <a:pt x="21114" y="11811"/>
                </a:cubicBezTo>
                <a:cubicBezTo>
                  <a:pt x="21114" y="11887"/>
                  <a:pt x="21127" y="11887"/>
                  <a:pt x="21177" y="11938"/>
                </a:cubicBezTo>
                <a:cubicBezTo>
                  <a:pt x="21260" y="11926"/>
                  <a:pt x="21313" y="11888"/>
                  <a:pt x="21368" y="11811"/>
                </a:cubicBezTo>
                <a:cubicBezTo>
                  <a:pt x="21431" y="11722"/>
                  <a:pt x="21450" y="11593"/>
                  <a:pt x="21495" y="11494"/>
                </a:cubicBezTo>
                <a:cubicBezTo>
                  <a:pt x="21495" y="11418"/>
                  <a:pt x="21465" y="11621"/>
                  <a:pt x="21463" y="11652"/>
                </a:cubicBezTo>
                <a:cubicBezTo>
                  <a:pt x="21458" y="11747"/>
                  <a:pt x="21478" y="11819"/>
                  <a:pt x="21495" y="11906"/>
                </a:cubicBezTo>
              </a:path>
              <a:path w="4859" h="1557">
                <a:moveTo>
                  <a:pt x="21749" y="11398"/>
                </a:moveTo>
                <a:cubicBezTo>
                  <a:pt x="21714" y="11480"/>
                  <a:pt x="21717" y="11529"/>
                  <a:pt x="21717" y="11620"/>
                </a:cubicBezTo>
                <a:cubicBezTo>
                  <a:pt x="21717" y="11660"/>
                  <a:pt x="21717" y="11906"/>
                  <a:pt x="21717" y="11843"/>
                </a:cubicBezTo>
                <a:cubicBezTo>
                  <a:pt x="21717" y="11735"/>
                  <a:pt x="21734" y="11660"/>
                  <a:pt x="21749" y="11557"/>
                </a:cubicBezTo>
                <a:cubicBezTo>
                  <a:pt x="21761" y="11472"/>
                  <a:pt x="21777" y="11347"/>
                  <a:pt x="21812" y="11271"/>
                </a:cubicBezTo>
                <a:cubicBezTo>
                  <a:pt x="21849" y="11193"/>
                  <a:pt x="21906" y="11161"/>
                  <a:pt x="21971" y="11112"/>
                </a:cubicBezTo>
                <a:cubicBezTo>
                  <a:pt x="21982" y="11102"/>
                  <a:pt x="21992" y="11091"/>
                  <a:pt x="22003" y="11081"/>
                </a:cubicBezTo>
              </a:path>
              <a:path w="4859" h="1557">
                <a:moveTo>
                  <a:pt x="22511" y="10922"/>
                </a:moveTo>
                <a:cubicBezTo>
                  <a:pt x="22530" y="11001"/>
                  <a:pt x="22542" y="11048"/>
                  <a:pt x="22542" y="11144"/>
                </a:cubicBezTo>
                <a:cubicBezTo>
                  <a:pt x="22542" y="11282"/>
                  <a:pt x="22584" y="11468"/>
                  <a:pt x="22574" y="11589"/>
                </a:cubicBezTo>
                <a:cubicBezTo>
                  <a:pt x="22567" y="11675"/>
                  <a:pt x="22542" y="11929"/>
                  <a:pt x="22542" y="11843"/>
                </a:cubicBezTo>
                <a:cubicBezTo>
                  <a:pt x="22542" y="11832"/>
                  <a:pt x="22542" y="11822"/>
                  <a:pt x="22542" y="11811"/>
                </a:cubicBezTo>
                <a:cubicBezTo>
                  <a:pt x="22491" y="11776"/>
                  <a:pt x="22511" y="11670"/>
                  <a:pt x="22511" y="11589"/>
                </a:cubicBezTo>
                <a:cubicBezTo>
                  <a:pt x="22511" y="11491"/>
                  <a:pt x="22520" y="11359"/>
                  <a:pt x="22479" y="11271"/>
                </a:cubicBezTo>
                <a:cubicBezTo>
                  <a:pt x="22468" y="11261"/>
                  <a:pt x="22458" y="11250"/>
                  <a:pt x="22447" y="11240"/>
                </a:cubicBezTo>
                <a:cubicBezTo>
                  <a:pt x="22388" y="11248"/>
                  <a:pt x="22291" y="11270"/>
                  <a:pt x="22257" y="11335"/>
                </a:cubicBezTo>
                <a:cubicBezTo>
                  <a:pt x="22197" y="11450"/>
                  <a:pt x="22215" y="11570"/>
                  <a:pt x="22225" y="11684"/>
                </a:cubicBezTo>
                <a:cubicBezTo>
                  <a:pt x="22234" y="11786"/>
                  <a:pt x="22284" y="11838"/>
                  <a:pt x="22384" y="11843"/>
                </a:cubicBezTo>
                <a:cubicBezTo>
                  <a:pt x="22487" y="11848"/>
                  <a:pt x="22540" y="11838"/>
                  <a:pt x="22638" y="11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Ink 16"/>
          <p:cNvSpPr/>
          <p:nvPr/>
        </p:nvSpPr>
        <p:spPr>
          <a:xfrm>
            <a:off x="8344080" y="3932280"/>
            <a:ext cx="595080" cy="411120"/>
          </a:xfrm>
          <a:custGeom>
            <a:avLst/>
            <a:gdLst/>
            <a:ahLst/>
            <a:rect l="l" t="t" r="r" b="b"/>
            <a:pathLst>
              <a:path w="1651" h="1144">
                <a:moveTo>
                  <a:pt x="23178" y="11017"/>
                </a:moveTo>
                <a:cubicBezTo>
                  <a:pt x="23193" y="11096"/>
                  <a:pt x="23209" y="11155"/>
                  <a:pt x="23209" y="11240"/>
                </a:cubicBezTo>
                <a:cubicBezTo>
                  <a:pt x="23209" y="11383"/>
                  <a:pt x="23183" y="11512"/>
                  <a:pt x="23178" y="11652"/>
                </a:cubicBezTo>
                <a:cubicBezTo>
                  <a:pt x="23177" y="11678"/>
                  <a:pt x="23184" y="11973"/>
                  <a:pt x="23209" y="11938"/>
                </a:cubicBezTo>
                <a:cubicBezTo>
                  <a:pt x="23209" y="11927"/>
                  <a:pt x="23209" y="11917"/>
                  <a:pt x="23209" y="11906"/>
                </a:cubicBezTo>
              </a:path>
              <a:path w="1651" h="1144">
                <a:moveTo>
                  <a:pt x="23241" y="11049"/>
                </a:moveTo>
                <a:cubicBezTo>
                  <a:pt x="23241" y="10984"/>
                  <a:pt x="23257" y="10968"/>
                  <a:pt x="23336" y="10954"/>
                </a:cubicBezTo>
                <a:cubicBezTo>
                  <a:pt x="23435" y="10936"/>
                  <a:pt x="23535" y="10945"/>
                  <a:pt x="23622" y="10954"/>
                </a:cubicBezTo>
                <a:cubicBezTo>
                  <a:pt x="23686" y="10954"/>
                  <a:pt x="23707" y="10954"/>
                  <a:pt x="23749" y="10954"/>
                </a:cubicBezTo>
              </a:path>
              <a:path w="1651" h="1144">
                <a:moveTo>
                  <a:pt x="23273" y="11366"/>
                </a:moveTo>
                <a:cubicBezTo>
                  <a:pt x="23345" y="11366"/>
                  <a:pt x="23429" y="11355"/>
                  <a:pt x="23495" y="11335"/>
                </a:cubicBezTo>
                <a:cubicBezTo>
                  <a:pt x="23556" y="11304"/>
                  <a:pt x="23575" y="11293"/>
                  <a:pt x="23622" y="11303"/>
                </a:cubicBezTo>
              </a:path>
              <a:path w="1651" h="1144">
                <a:moveTo>
                  <a:pt x="23686" y="11303"/>
                </a:moveTo>
                <a:cubicBezTo>
                  <a:pt x="23707" y="11314"/>
                  <a:pt x="23728" y="11324"/>
                  <a:pt x="23749" y="11335"/>
                </a:cubicBezTo>
              </a:path>
              <a:path w="1651" h="1144">
                <a:moveTo>
                  <a:pt x="23876" y="11240"/>
                </a:moveTo>
                <a:cubicBezTo>
                  <a:pt x="23861" y="11299"/>
                  <a:pt x="23806" y="11341"/>
                  <a:pt x="23781" y="11398"/>
                </a:cubicBezTo>
                <a:cubicBezTo>
                  <a:pt x="23730" y="11511"/>
                  <a:pt x="23674" y="11594"/>
                  <a:pt x="23654" y="11716"/>
                </a:cubicBezTo>
                <a:cubicBezTo>
                  <a:pt x="23654" y="11779"/>
                  <a:pt x="23654" y="11801"/>
                  <a:pt x="23654" y="11843"/>
                </a:cubicBezTo>
                <a:cubicBezTo>
                  <a:pt x="23703" y="11843"/>
                  <a:pt x="23749" y="11858"/>
                  <a:pt x="23781" y="11811"/>
                </a:cubicBezTo>
                <a:cubicBezTo>
                  <a:pt x="23830" y="11740"/>
                  <a:pt x="23894" y="11608"/>
                  <a:pt x="23908" y="11525"/>
                </a:cubicBezTo>
                <a:cubicBezTo>
                  <a:pt x="23926" y="11418"/>
                  <a:pt x="23935" y="11360"/>
                  <a:pt x="23908" y="11271"/>
                </a:cubicBezTo>
                <a:cubicBezTo>
                  <a:pt x="23892" y="11220"/>
                  <a:pt x="23893" y="11259"/>
                  <a:pt x="23876" y="11208"/>
                </a:cubicBezTo>
              </a:path>
              <a:path w="1651" h="1144">
                <a:moveTo>
                  <a:pt x="24098" y="11271"/>
                </a:moveTo>
                <a:cubicBezTo>
                  <a:pt x="24098" y="11394"/>
                  <a:pt x="24083" y="11501"/>
                  <a:pt x="24066" y="11620"/>
                </a:cubicBezTo>
                <a:cubicBezTo>
                  <a:pt x="24057" y="11680"/>
                  <a:pt x="24066" y="11750"/>
                  <a:pt x="24066" y="11811"/>
                </a:cubicBezTo>
                <a:cubicBezTo>
                  <a:pt x="24066" y="11896"/>
                  <a:pt x="24066" y="11763"/>
                  <a:pt x="24066" y="11748"/>
                </a:cubicBezTo>
                <a:cubicBezTo>
                  <a:pt x="24066" y="11643"/>
                  <a:pt x="24056" y="11557"/>
                  <a:pt x="24098" y="11462"/>
                </a:cubicBezTo>
                <a:cubicBezTo>
                  <a:pt x="24130" y="11398"/>
                  <a:pt x="24140" y="11377"/>
                  <a:pt x="24162" y="11335"/>
                </a:cubicBezTo>
              </a:path>
              <a:path w="1651" h="1144">
                <a:moveTo>
                  <a:pt x="24098" y="11271"/>
                </a:moveTo>
                <a:lnTo>
                  <a:pt x="24098" y="11271"/>
                </a:lnTo>
              </a:path>
              <a:path w="1651" h="1144">
                <a:moveTo>
                  <a:pt x="24225" y="11271"/>
                </a:moveTo>
                <a:cubicBezTo>
                  <a:pt x="24236" y="11271"/>
                  <a:pt x="24246" y="11271"/>
                  <a:pt x="24257" y="11271"/>
                </a:cubicBezTo>
              </a:path>
              <a:path w="1651" h="1144">
                <a:moveTo>
                  <a:pt x="24384" y="11240"/>
                </a:moveTo>
                <a:cubicBezTo>
                  <a:pt x="24384" y="11321"/>
                  <a:pt x="24356" y="11355"/>
                  <a:pt x="24352" y="11430"/>
                </a:cubicBezTo>
                <a:cubicBezTo>
                  <a:pt x="24346" y="11529"/>
                  <a:pt x="24320" y="11614"/>
                  <a:pt x="24320" y="11716"/>
                </a:cubicBezTo>
                <a:cubicBezTo>
                  <a:pt x="24320" y="11727"/>
                  <a:pt x="24320" y="11737"/>
                  <a:pt x="24320" y="11748"/>
                </a:cubicBezTo>
                <a:cubicBezTo>
                  <a:pt x="24320" y="11845"/>
                  <a:pt x="24320" y="11785"/>
                  <a:pt x="24320" y="11716"/>
                </a:cubicBezTo>
                <a:cubicBezTo>
                  <a:pt x="24320" y="11620"/>
                  <a:pt x="24365" y="11581"/>
                  <a:pt x="24384" y="11494"/>
                </a:cubicBezTo>
                <a:cubicBezTo>
                  <a:pt x="24398" y="11430"/>
                  <a:pt x="24403" y="11352"/>
                  <a:pt x="24479" y="11335"/>
                </a:cubicBezTo>
                <a:cubicBezTo>
                  <a:pt x="24490" y="11335"/>
                  <a:pt x="24500" y="11335"/>
                  <a:pt x="24511" y="11335"/>
                </a:cubicBezTo>
                <a:cubicBezTo>
                  <a:pt x="24558" y="11411"/>
                  <a:pt x="24543" y="11494"/>
                  <a:pt x="24543" y="11589"/>
                </a:cubicBezTo>
                <a:cubicBezTo>
                  <a:pt x="24543" y="11684"/>
                  <a:pt x="24518" y="11753"/>
                  <a:pt x="24511" y="11843"/>
                </a:cubicBezTo>
                <a:cubicBezTo>
                  <a:pt x="24511" y="11853"/>
                  <a:pt x="24511" y="11864"/>
                  <a:pt x="24511" y="11874"/>
                </a:cubicBezTo>
                <a:cubicBezTo>
                  <a:pt x="24532" y="11791"/>
                  <a:pt x="24600" y="11728"/>
                  <a:pt x="24638" y="11652"/>
                </a:cubicBezTo>
                <a:cubicBezTo>
                  <a:pt x="24686" y="11557"/>
                  <a:pt x="24722" y="11505"/>
                  <a:pt x="24797" y="11430"/>
                </a:cubicBezTo>
                <a:cubicBezTo>
                  <a:pt x="24778" y="11525"/>
                  <a:pt x="24738" y="11582"/>
                  <a:pt x="24733" y="11684"/>
                </a:cubicBezTo>
                <a:cubicBezTo>
                  <a:pt x="24729" y="11768"/>
                  <a:pt x="24739" y="11861"/>
                  <a:pt x="24765" y="11938"/>
                </a:cubicBezTo>
                <a:cubicBezTo>
                  <a:pt x="24783" y="11993"/>
                  <a:pt x="24797" y="12023"/>
                  <a:pt x="24828" y="120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Ink 17"/>
          <p:cNvSpPr/>
          <p:nvPr/>
        </p:nvSpPr>
        <p:spPr>
          <a:xfrm>
            <a:off x="1577880" y="4525920"/>
            <a:ext cx="549360" cy="480960"/>
          </a:xfrm>
          <a:custGeom>
            <a:avLst/>
            <a:gdLst/>
            <a:ahLst/>
            <a:rect l="l" t="t" r="r" b="b"/>
            <a:pathLst>
              <a:path w="1525" h="1334">
                <a:moveTo>
                  <a:pt x="4731" y="12605"/>
                </a:moveTo>
                <a:cubicBezTo>
                  <a:pt x="4756" y="12554"/>
                  <a:pt x="4787" y="12650"/>
                  <a:pt x="4794" y="12700"/>
                </a:cubicBezTo>
                <a:cubicBezTo>
                  <a:pt x="4810" y="12814"/>
                  <a:pt x="4779" y="12998"/>
                  <a:pt x="4762" y="13113"/>
                </a:cubicBezTo>
                <a:cubicBezTo>
                  <a:pt x="4734" y="13301"/>
                  <a:pt x="4735" y="13499"/>
                  <a:pt x="4699" y="13684"/>
                </a:cubicBezTo>
                <a:cubicBezTo>
                  <a:pt x="4684" y="13762"/>
                  <a:pt x="4663" y="13833"/>
                  <a:pt x="4636" y="13906"/>
                </a:cubicBezTo>
              </a:path>
              <a:path w="1525" h="1334">
                <a:moveTo>
                  <a:pt x="4382" y="13018"/>
                </a:moveTo>
                <a:cubicBezTo>
                  <a:pt x="4396" y="13073"/>
                  <a:pt x="4442" y="13132"/>
                  <a:pt x="4508" y="13144"/>
                </a:cubicBezTo>
                <a:cubicBezTo>
                  <a:pt x="4615" y="13163"/>
                  <a:pt x="4791" y="13160"/>
                  <a:pt x="4890" y="13113"/>
                </a:cubicBezTo>
                <a:cubicBezTo>
                  <a:pt x="4922" y="13092"/>
                  <a:pt x="4953" y="13070"/>
                  <a:pt x="4985" y="13049"/>
                </a:cubicBezTo>
              </a:path>
              <a:path w="1525" h="1334">
                <a:moveTo>
                  <a:pt x="5144" y="12605"/>
                </a:moveTo>
                <a:cubicBezTo>
                  <a:pt x="5073" y="12628"/>
                  <a:pt x="5099" y="12684"/>
                  <a:pt x="5080" y="12764"/>
                </a:cubicBezTo>
                <a:cubicBezTo>
                  <a:pt x="5043" y="12915"/>
                  <a:pt x="5069" y="13055"/>
                  <a:pt x="5048" y="13208"/>
                </a:cubicBezTo>
                <a:cubicBezTo>
                  <a:pt x="5024" y="13378"/>
                  <a:pt x="4994" y="13545"/>
                  <a:pt x="4985" y="13716"/>
                </a:cubicBezTo>
                <a:cubicBezTo>
                  <a:pt x="4985" y="13727"/>
                  <a:pt x="4985" y="13737"/>
                  <a:pt x="4985" y="13748"/>
                </a:cubicBezTo>
                <a:cubicBezTo>
                  <a:pt x="4907" y="13787"/>
                  <a:pt x="5009" y="13658"/>
                  <a:pt x="5016" y="13589"/>
                </a:cubicBezTo>
                <a:cubicBezTo>
                  <a:pt x="5034" y="13415"/>
                  <a:pt x="5085" y="13319"/>
                  <a:pt x="5175" y="13176"/>
                </a:cubicBezTo>
                <a:cubicBezTo>
                  <a:pt x="5209" y="13123"/>
                  <a:pt x="5227" y="13093"/>
                  <a:pt x="5270" y="13049"/>
                </a:cubicBezTo>
                <a:cubicBezTo>
                  <a:pt x="5324" y="13117"/>
                  <a:pt x="5354" y="13181"/>
                  <a:pt x="5334" y="13272"/>
                </a:cubicBezTo>
                <a:cubicBezTo>
                  <a:pt x="5301" y="13422"/>
                  <a:pt x="5302" y="13561"/>
                  <a:pt x="5302" y="13716"/>
                </a:cubicBezTo>
                <a:cubicBezTo>
                  <a:pt x="5302" y="13774"/>
                  <a:pt x="5274" y="13867"/>
                  <a:pt x="5334" y="13875"/>
                </a:cubicBezTo>
                <a:cubicBezTo>
                  <a:pt x="5389" y="13875"/>
                  <a:pt x="5407" y="13853"/>
                  <a:pt x="5398" y="13780"/>
                </a:cubicBezTo>
              </a:path>
              <a:path w="1525" h="1334">
                <a:moveTo>
                  <a:pt x="5524" y="13335"/>
                </a:moveTo>
                <a:cubicBezTo>
                  <a:pt x="5555" y="13374"/>
                  <a:pt x="5599" y="13479"/>
                  <a:pt x="5652" y="13494"/>
                </a:cubicBezTo>
                <a:cubicBezTo>
                  <a:pt x="5722" y="13514"/>
                  <a:pt x="5809" y="13533"/>
                  <a:pt x="5874" y="13494"/>
                </a:cubicBezTo>
                <a:cubicBezTo>
                  <a:pt x="5939" y="13455"/>
                  <a:pt x="5906" y="13336"/>
                  <a:pt x="5906" y="13272"/>
                </a:cubicBezTo>
                <a:cubicBezTo>
                  <a:pt x="5906" y="13212"/>
                  <a:pt x="5873" y="13140"/>
                  <a:pt x="5810" y="13113"/>
                </a:cubicBezTo>
                <a:cubicBezTo>
                  <a:pt x="5725" y="13076"/>
                  <a:pt x="5685" y="13200"/>
                  <a:pt x="5652" y="13240"/>
                </a:cubicBezTo>
                <a:cubicBezTo>
                  <a:pt x="5578" y="13330"/>
                  <a:pt x="5515" y="13498"/>
                  <a:pt x="5524" y="13621"/>
                </a:cubicBezTo>
                <a:cubicBezTo>
                  <a:pt x="5530" y="13707"/>
                  <a:pt x="5604" y="13878"/>
                  <a:pt x="5683" y="13906"/>
                </a:cubicBezTo>
                <a:cubicBezTo>
                  <a:pt x="5759" y="13906"/>
                  <a:pt x="5792" y="13902"/>
                  <a:pt x="5842" y="13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Ink 18"/>
          <p:cNvSpPr/>
          <p:nvPr/>
        </p:nvSpPr>
        <p:spPr>
          <a:xfrm>
            <a:off x="2320920" y="4537080"/>
            <a:ext cx="879480" cy="458640"/>
          </a:xfrm>
          <a:custGeom>
            <a:avLst/>
            <a:gdLst/>
            <a:ahLst/>
            <a:rect l="l" t="t" r="r" b="b"/>
            <a:pathLst>
              <a:path w="2446" h="1271">
                <a:moveTo>
                  <a:pt x="6826" y="13144"/>
                </a:moveTo>
                <a:cubicBezTo>
                  <a:pt x="6826" y="13113"/>
                  <a:pt x="6826" y="13102"/>
                  <a:pt x="6826" y="13081"/>
                </a:cubicBezTo>
                <a:cubicBezTo>
                  <a:pt x="6747" y="13081"/>
                  <a:pt x="6677" y="13136"/>
                  <a:pt x="6636" y="13208"/>
                </a:cubicBezTo>
                <a:cubicBezTo>
                  <a:pt x="6562" y="13339"/>
                  <a:pt x="6519" y="13489"/>
                  <a:pt x="6477" y="13621"/>
                </a:cubicBezTo>
                <a:cubicBezTo>
                  <a:pt x="6456" y="13686"/>
                  <a:pt x="6445" y="13798"/>
                  <a:pt x="6540" y="13811"/>
                </a:cubicBezTo>
                <a:cubicBezTo>
                  <a:pt x="6646" y="13826"/>
                  <a:pt x="6737" y="13731"/>
                  <a:pt x="6794" y="13652"/>
                </a:cubicBezTo>
                <a:cubicBezTo>
                  <a:pt x="6851" y="13572"/>
                  <a:pt x="6845" y="13395"/>
                  <a:pt x="6826" y="13303"/>
                </a:cubicBezTo>
                <a:cubicBezTo>
                  <a:pt x="6815" y="13247"/>
                  <a:pt x="6754" y="13112"/>
                  <a:pt x="6699" y="13081"/>
                </a:cubicBezTo>
                <a:cubicBezTo>
                  <a:pt x="6668" y="13081"/>
                  <a:pt x="6657" y="13081"/>
                  <a:pt x="6668" y="13049"/>
                </a:cubicBezTo>
              </a:path>
              <a:path w="2446" h="1271">
                <a:moveTo>
                  <a:pt x="7144" y="12732"/>
                </a:moveTo>
                <a:cubicBezTo>
                  <a:pt x="7144" y="12643"/>
                  <a:pt x="7176" y="12853"/>
                  <a:pt x="7176" y="12859"/>
                </a:cubicBezTo>
                <a:cubicBezTo>
                  <a:pt x="7183" y="12993"/>
                  <a:pt x="7144" y="13133"/>
                  <a:pt x="7144" y="13272"/>
                </a:cubicBezTo>
                <a:cubicBezTo>
                  <a:pt x="7144" y="13447"/>
                  <a:pt x="7120" y="13608"/>
                  <a:pt x="7112" y="13780"/>
                </a:cubicBezTo>
                <a:cubicBezTo>
                  <a:pt x="7112" y="13833"/>
                  <a:pt x="7112" y="13843"/>
                  <a:pt x="7112" y="13875"/>
                </a:cubicBezTo>
              </a:path>
              <a:path w="2446" h="1271">
                <a:moveTo>
                  <a:pt x="6922" y="13208"/>
                </a:moveTo>
                <a:cubicBezTo>
                  <a:pt x="7025" y="13260"/>
                  <a:pt x="7124" y="13243"/>
                  <a:pt x="7239" y="13208"/>
                </a:cubicBezTo>
                <a:cubicBezTo>
                  <a:pt x="7325" y="13179"/>
                  <a:pt x="7348" y="13173"/>
                  <a:pt x="7398" y="13144"/>
                </a:cubicBezTo>
              </a:path>
              <a:path w="2446" h="1271">
                <a:moveTo>
                  <a:pt x="7525" y="12636"/>
                </a:moveTo>
                <a:cubicBezTo>
                  <a:pt x="7525" y="12699"/>
                  <a:pt x="7539" y="12702"/>
                  <a:pt x="7525" y="12764"/>
                </a:cubicBezTo>
                <a:cubicBezTo>
                  <a:pt x="7494" y="12904"/>
                  <a:pt x="7514" y="13036"/>
                  <a:pt x="7493" y="13176"/>
                </a:cubicBezTo>
                <a:cubicBezTo>
                  <a:pt x="7470" y="13328"/>
                  <a:pt x="7461" y="13466"/>
                  <a:pt x="7461" y="13621"/>
                </a:cubicBezTo>
                <a:cubicBezTo>
                  <a:pt x="7461" y="13729"/>
                  <a:pt x="7445" y="13642"/>
                  <a:pt x="7461" y="13589"/>
                </a:cubicBezTo>
                <a:cubicBezTo>
                  <a:pt x="7497" y="13468"/>
                  <a:pt x="7497" y="13327"/>
                  <a:pt x="7556" y="13208"/>
                </a:cubicBezTo>
                <a:cubicBezTo>
                  <a:pt x="7604" y="13111"/>
                  <a:pt x="7643" y="13038"/>
                  <a:pt x="7747" y="13018"/>
                </a:cubicBezTo>
                <a:cubicBezTo>
                  <a:pt x="7833" y="13039"/>
                  <a:pt x="7810" y="13094"/>
                  <a:pt x="7810" y="13176"/>
                </a:cubicBezTo>
                <a:cubicBezTo>
                  <a:pt x="7810" y="13319"/>
                  <a:pt x="7791" y="13415"/>
                  <a:pt x="7810" y="13557"/>
                </a:cubicBezTo>
                <a:cubicBezTo>
                  <a:pt x="7820" y="13634"/>
                  <a:pt x="7847" y="13749"/>
                  <a:pt x="7938" y="13780"/>
                </a:cubicBezTo>
                <a:cubicBezTo>
                  <a:pt x="8014" y="13806"/>
                  <a:pt x="8101" y="13711"/>
                  <a:pt x="8128" y="13652"/>
                </a:cubicBezTo>
                <a:cubicBezTo>
                  <a:pt x="8189" y="13519"/>
                  <a:pt x="8231" y="13350"/>
                  <a:pt x="8255" y="13208"/>
                </a:cubicBezTo>
                <a:cubicBezTo>
                  <a:pt x="8267" y="13138"/>
                  <a:pt x="8229" y="13068"/>
                  <a:pt x="8192" y="13018"/>
                </a:cubicBezTo>
                <a:cubicBezTo>
                  <a:pt x="8102" y="13018"/>
                  <a:pt x="8133" y="13062"/>
                  <a:pt x="8096" y="13144"/>
                </a:cubicBezTo>
                <a:cubicBezTo>
                  <a:pt x="8042" y="13264"/>
                  <a:pt x="8033" y="13401"/>
                  <a:pt x="8064" y="13526"/>
                </a:cubicBezTo>
                <a:cubicBezTo>
                  <a:pt x="8088" y="13622"/>
                  <a:pt x="8128" y="13740"/>
                  <a:pt x="8223" y="13780"/>
                </a:cubicBezTo>
                <a:cubicBezTo>
                  <a:pt x="8314" y="13818"/>
                  <a:pt x="8346" y="13747"/>
                  <a:pt x="8382" y="13684"/>
                </a:cubicBezTo>
              </a:path>
              <a:path w="2446" h="1271">
                <a:moveTo>
                  <a:pt x="8541" y="13208"/>
                </a:moveTo>
                <a:cubicBezTo>
                  <a:pt x="8541" y="13277"/>
                  <a:pt x="8569" y="13297"/>
                  <a:pt x="8572" y="13367"/>
                </a:cubicBezTo>
                <a:cubicBezTo>
                  <a:pt x="8579" y="13536"/>
                  <a:pt x="8572" y="13706"/>
                  <a:pt x="8572" y="13875"/>
                </a:cubicBezTo>
                <a:cubicBezTo>
                  <a:pt x="8618" y="13798"/>
                  <a:pt x="8604" y="13717"/>
                  <a:pt x="8604" y="13621"/>
                </a:cubicBezTo>
                <a:cubicBezTo>
                  <a:pt x="8604" y="13491"/>
                  <a:pt x="8636" y="13373"/>
                  <a:pt x="8636" y="13240"/>
                </a:cubicBezTo>
                <a:cubicBezTo>
                  <a:pt x="8636" y="13183"/>
                  <a:pt x="8649" y="13119"/>
                  <a:pt x="8700" y="13113"/>
                </a:cubicBezTo>
                <a:cubicBezTo>
                  <a:pt x="8757" y="13106"/>
                  <a:pt x="8809" y="13112"/>
                  <a:pt x="8858" y="13144"/>
                </a:cubicBezTo>
                <a:cubicBezTo>
                  <a:pt x="8869" y="13155"/>
                  <a:pt x="8879" y="13165"/>
                  <a:pt x="8890" y="13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Ink 19"/>
          <p:cNvSpPr/>
          <p:nvPr/>
        </p:nvSpPr>
        <p:spPr>
          <a:xfrm>
            <a:off x="3508200" y="4708440"/>
            <a:ext cx="447840" cy="573120"/>
          </a:xfrm>
          <a:custGeom>
            <a:avLst/>
            <a:gdLst/>
            <a:ahLst/>
            <a:rect l="l" t="t" r="r" b="b"/>
            <a:pathLst>
              <a:path w="1240" h="1588">
                <a:moveTo>
                  <a:pt x="9747" y="13208"/>
                </a:moveTo>
                <a:cubicBezTo>
                  <a:pt x="9841" y="13189"/>
                  <a:pt x="9873" y="13203"/>
                  <a:pt x="9970" y="13208"/>
                </a:cubicBezTo>
                <a:cubicBezTo>
                  <a:pt x="10045" y="13212"/>
                  <a:pt x="10080" y="13240"/>
                  <a:pt x="10160" y="13240"/>
                </a:cubicBezTo>
              </a:path>
              <a:path w="1240" h="1588">
                <a:moveTo>
                  <a:pt x="9747" y="13621"/>
                </a:moveTo>
                <a:cubicBezTo>
                  <a:pt x="9891" y="13621"/>
                  <a:pt x="10033" y="13618"/>
                  <a:pt x="10160" y="13652"/>
                </a:cubicBezTo>
                <a:cubicBezTo>
                  <a:pt x="10192" y="13652"/>
                  <a:pt x="10203" y="13652"/>
                  <a:pt x="10224" y="13652"/>
                </a:cubicBezTo>
              </a:path>
              <a:path w="1240" h="1588">
                <a:moveTo>
                  <a:pt x="10509" y="13081"/>
                </a:moveTo>
                <a:cubicBezTo>
                  <a:pt x="10485" y="13146"/>
                  <a:pt x="10457" y="13226"/>
                  <a:pt x="10446" y="13303"/>
                </a:cubicBezTo>
                <a:cubicBezTo>
                  <a:pt x="10431" y="13404"/>
                  <a:pt x="10491" y="13563"/>
                  <a:pt x="10541" y="13652"/>
                </a:cubicBezTo>
                <a:cubicBezTo>
                  <a:pt x="10591" y="13740"/>
                  <a:pt x="10646" y="13740"/>
                  <a:pt x="10732" y="13748"/>
                </a:cubicBezTo>
                <a:cubicBezTo>
                  <a:pt x="10817" y="13756"/>
                  <a:pt x="10888" y="13634"/>
                  <a:pt x="10922" y="13557"/>
                </a:cubicBezTo>
                <a:cubicBezTo>
                  <a:pt x="10967" y="13453"/>
                  <a:pt x="10981" y="13350"/>
                  <a:pt x="10986" y="13240"/>
                </a:cubicBezTo>
                <a:cubicBezTo>
                  <a:pt x="10986" y="13208"/>
                  <a:pt x="10986" y="13197"/>
                  <a:pt x="10986" y="13176"/>
                </a:cubicBezTo>
                <a:cubicBezTo>
                  <a:pt x="10959" y="13229"/>
                  <a:pt x="10929" y="13303"/>
                  <a:pt x="10922" y="13367"/>
                </a:cubicBezTo>
                <a:cubicBezTo>
                  <a:pt x="10888" y="13681"/>
                  <a:pt x="10924" y="14008"/>
                  <a:pt x="10890" y="14319"/>
                </a:cubicBezTo>
                <a:cubicBezTo>
                  <a:pt x="10878" y="14431"/>
                  <a:pt x="10876" y="14519"/>
                  <a:pt x="10795" y="14605"/>
                </a:cubicBezTo>
                <a:cubicBezTo>
                  <a:pt x="10718" y="14687"/>
                  <a:pt x="10681" y="14668"/>
                  <a:pt x="10573" y="14668"/>
                </a:cubicBezTo>
                <a:cubicBezTo>
                  <a:pt x="10485" y="14668"/>
                  <a:pt x="10415" y="14632"/>
                  <a:pt x="10350" y="14573"/>
                </a:cubicBezTo>
                <a:cubicBezTo>
                  <a:pt x="10304" y="14531"/>
                  <a:pt x="10324" y="14502"/>
                  <a:pt x="10319" y="14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Ink 20"/>
          <p:cNvSpPr/>
          <p:nvPr/>
        </p:nvSpPr>
        <p:spPr>
          <a:xfrm>
            <a:off x="4251240" y="4400640"/>
            <a:ext cx="927360" cy="799920"/>
          </a:xfrm>
          <a:custGeom>
            <a:avLst/>
            <a:gdLst/>
            <a:ahLst/>
            <a:rect l="l" t="t" r="r" b="b"/>
            <a:pathLst>
              <a:path w="2573" h="2223">
                <a:moveTo>
                  <a:pt x="12414" y="12319"/>
                </a:moveTo>
                <a:cubicBezTo>
                  <a:pt x="12352" y="12381"/>
                  <a:pt x="12313" y="12443"/>
                  <a:pt x="12256" y="12510"/>
                </a:cubicBezTo>
                <a:cubicBezTo>
                  <a:pt x="12152" y="12632"/>
                  <a:pt x="12084" y="12753"/>
                  <a:pt x="12002" y="12890"/>
                </a:cubicBezTo>
                <a:cubicBezTo>
                  <a:pt x="11913" y="13038"/>
                  <a:pt x="11829" y="13154"/>
                  <a:pt x="11811" y="13335"/>
                </a:cubicBezTo>
                <a:cubicBezTo>
                  <a:pt x="11795" y="13502"/>
                  <a:pt x="11842" y="13703"/>
                  <a:pt x="11938" y="13843"/>
                </a:cubicBezTo>
                <a:cubicBezTo>
                  <a:pt x="12001" y="13935"/>
                  <a:pt x="12081" y="13994"/>
                  <a:pt x="12160" y="14065"/>
                </a:cubicBezTo>
                <a:cubicBezTo>
                  <a:pt x="12196" y="14101"/>
                  <a:pt x="12213" y="14112"/>
                  <a:pt x="12256" y="14097"/>
                </a:cubicBezTo>
              </a:path>
              <a:path w="2573" h="2223">
                <a:moveTo>
                  <a:pt x="12382" y="12986"/>
                </a:moveTo>
                <a:cubicBezTo>
                  <a:pt x="12419" y="12949"/>
                  <a:pt x="12464" y="12906"/>
                  <a:pt x="12510" y="12890"/>
                </a:cubicBezTo>
                <a:cubicBezTo>
                  <a:pt x="12611" y="12856"/>
                  <a:pt x="12781" y="12890"/>
                  <a:pt x="12890" y="12890"/>
                </a:cubicBezTo>
              </a:path>
              <a:path w="2573" h="2223">
                <a:moveTo>
                  <a:pt x="12446" y="13272"/>
                </a:moveTo>
                <a:cubicBezTo>
                  <a:pt x="12506" y="13316"/>
                  <a:pt x="12558" y="13303"/>
                  <a:pt x="12636" y="13303"/>
                </a:cubicBezTo>
                <a:cubicBezTo>
                  <a:pt x="12721" y="13303"/>
                  <a:pt x="12780" y="13287"/>
                  <a:pt x="12859" y="13272"/>
                </a:cubicBezTo>
              </a:path>
              <a:path w="2573" h="2223">
                <a:moveTo>
                  <a:pt x="13303" y="12732"/>
                </a:moveTo>
                <a:cubicBezTo>
                  <a:pt x="13303" y="12820"/>
                  <a:pt x="13306" y="12873"/>
                  <a:pt x="13335" y="12954"/>
                </a:cubicBezTo>
                <a:cubicBezTo>
                  <a:pt x="13382" y="13087"/>
                  <a:pt x="13451" y="13247"/>
                  <a:pt x="13526" y="13367"/>
                </a:cubicBezTo>
                <a:cubicBezTo>
                  <a:pt x="13608" y="13497"/>
                  <a:pt x="13708" y="13611"/>
                  <a:pt x="13780" y="13748"/>
                </a:cubicBezTo>
                <a:cubicBezTo>
                  <a:pt x="13790" y="13769"/>
                  <a:pt x="13801" y="13790"/>
                  <a:pt x="13811" y="13811"/>
                </a:cubicBezTo>
              </a:path>
              <a:path w="2573" h="2223">
                <a:moveTo>
                  <a:pt x="13748" y="12795"/>
                </a:moveTo>
                <a:cubicBezTo>
                  <a:pt x="13728" y="12894"/>
                  <a:pt x="13675" y="12937"/>
                  <a:pt x="13621" y="13018"/>
                </a:cubicBezTo>
                <a:cubicBezTo>
                  <a:pt x="13551" y="13123"/>
                  <a:pt x="13463" y="13231"/>
                  <a:pt x="13398" y="13335"/>
                </a:cubicBezTo>
                <a:cubicBezTo>
                  <a:pt x="13324" y="13454"/>
                  <a:pt x="13252" y="13570"/>
                  <a:pt x="13176" y="13684"/>
                </a:cubicBezTo>
                <a:cubicBezTo>
                  <a:pt x="13141" y="13737"/>
                  <a:pt x="13144" y="13756"/>
                  <a:pt x="13144" y="13811"/>
                </a:cubicBezTo>
              </a:path>
              <a:path w="2573" h="2223">
                <a:moveTo>
                  <a:pt x="14129" y="12224"/>
                </a:moveTo>
                <a:cubicBezTo>
                  <a:pt x="14186" y="12339"/>
                  <a:pt x="14227" y="12446"/>
                  <a:pt x="14256" y="12573"/>
                </a:cubicBezTo>
                <a:cubicBezTo>
                  <a:pt x="14300" y="12768"/>
                  <a:pt x="14365" y="12977"/>
                  <a:pt x="14383" y="13176"/>
                </a:cubicBezTo>
                <a:cubicBezTo>
                  <a:pt x="14402" y="13384"/>
                  <a:pt x="14393" y="13607"/>
                  <a:pt x="14351" y="13811"/>
                </a:cubicBezTo>
                <a:cubicBezTo>
                  <a:pt x="14319" y="13966"/>
                  <a:pt x="14277" y="14099"/>
                  <a:pt x="14192" y="14224"/>
                </a:cubicBezTo>
                <a:cubicBezTo>
                  <a:pt x="14123" y="14326"/>
                  <a:pt x="14093" y="14373"/>
                  <a:pt x="14002" y="14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Ink 21"/>
          <p:cNvSpPr/>
          <p:nvPr/>
        </p:nvSpPr>
        <p:spPr>
          <a:xfrm>
            <a:off x="993600" y="5578560"/>
            <a:ext cx="984600" cy="479520"/>
          </a:xfrm>
          <a:custGeom>
            <a:avLst/>
            <a:gdLst/>
            <a:ahLst/>
            <a:rect l="l" t="t" r="r" b="b"/>
            <a:pathLst>
              <a:path w="2732" h="1335">
                <a:moveTo>
                  <a:pt x="2762" y="15558"/>
                </a:moveTo>
                <a:cubicBezTo>
                  <a:pt x="2770" y="15648"/>
                  <a:pt x="2807" y="15696"/>
                  <a:pt x="2826" y="15780"/>
                </a:cubicBezTo>
                <a:cubicBezTo>
                  <a:pt x="2856" y="15913"/>
                  <a:pt x="2913" y="16052"/>
                  <a:pt x="2953" y="16192"/>
                </a:cubicBezTo>
                <a:cubicBezTo>
                  <a:pt x="2993" y="16330"/>
                  <a:pt x="2984" y="16462"/>
                  <a:pt x="2984" y="16605"/>
                </a:cubicBezTo>
                <a:cubicBezTo>
                  <a:pt x="2984" y="16669"/>
                  <a:pt x="2984" y="16732"/>
                  <a:pt x="2984" y="16796"/>
                </a:cubicBezTo>
                <a:cubicBezTo>
                  <a:pt x="3023" y="16719"/>
                  <a:pt x="3025" y="16630"/>
                  <a:pt x="3048" y="16542"/>
                </a:cubicBezTo>
                <a:cubicBezTo>
                  <a:pt x="3085" y="16403"/>
                  <a:pt x="3128" y="16271"/>
                  <a:pt x="3143" y="16129"/>
                </a:cubicBezTo>
                <a:cubicBezTo>
                  <a:pt x="3157" y="15999"/>
                  <a:pt x="3175" y="15881"/>
                  <a:pt x="3175" y="15748"/>
                </a:cubicBezTo>
                <a:cubicBezTo>
                  <a:pt x="3175" y="15695"/>
                  <a:pt x="3175" y="15685"/>
                  <a:pt x="3175" y="15653"/>
                </a:cubicBezTo>
                <a:cubicBezTo>
                  <a:pt x="3184" y="15727"/>
                  <a:pt x="3190" y="15802"/>
                  <a:pt x="3207" y="15875"/>
                </a:cubicBezTo>
                <a:cubicBezTo>
                  <a:pt x="3241" y="16025"/>
                  <a:pt x="3273" y="16171"/>
                  <a:pt x="3302" y="16320"/>
                </a:cubicBezTo>
                <a:cubicBezTo>
                  <a:pt x="3330" y="16465"/>
                  <a:pt x="3379" y="16663"/>
                  <a:pt x="3429" y="16796"/>
                </a:cubicBezTo>
                <a:cubicBezTo>
                  <a:pt x="3440" y="16807"/>
                  <a:pt x="3450" y="16817"/>
                  <a:pt x="3461" y="16828"/>
                </a:cubicBezTo>
                <a:cubicBezTo>
                  <a:pt x="3486" y="16743"/>
                  <a:pt x="3514" y="16639"/>
                  <a:pt x="3524" y="16542"/>
                </a:cubicBezTo>
                <a:cubicBezTo>
                  <a:pt x="3540" y="16395"/>
                  <a:pt x="3551" y="16244"/>
                  <a:pt x="3556" y="16097"/>
                </a:cubicBezTo>
                <a:cubicBezTo>
                  <a:pt x="3563" y="15901"/>
                  <a:pt x="3519" y="15677"/>
                  <a:pt x="3588" y="15494"/>
                </a:cubicBezTo>
              </a:path>
              <a:path w="2732" h="1335">
                <a:moveTo>
                  <a:pt x="3842" y="15494"/>
                </a:moveTo>
                <a:cubicBezTo>
                  <a:pt x="3842" y="15731"/>
                  <a:pt x="3833" y="15959"/>
                  <a:pt x="3810" y="16192"/>
                </a:cubicBezTo>
                <a:cubicBezTo>
                  <a:pt x="3798" y="16315"/>
                  <a:pt x="3771" y="16426"/>
                  <a:pt x="3746" y="16542"/>
                </a:cubicBezTo>
                <a:cubicBezTo>
                  <a:pt x="3746" y="16574"/>
                  <a:pt x="3746" y="16584"/>
                  <a:pt x="3715" y="16574"/>
                </a:cubicBezTo>
                <a:cubicBezTo>
                  <a:pt x="3734" y="16494"/>
                  <a:pt x="3746" y="16407"/>
                  <a:pt x="3778" y="16320"/>
                </a:cubicBezTo>
                <a:cubicBezTo>
                  <a:pt x="3826" y="16190"/>
                  <a:pt x="3893" y="16071"/>
                  <a:pt x="3937" y="15938"/>
                </a:cubicBezTo>
                <a:cubicBezTo>
                  <a:pt x="3966" y="15852"/>
                  <a:pt x="4009" y="15760"/>
                  <a:pt x="4032" y="15684"/>
                </a:cubicBezTo>
                <a:cubicBezTo>
                  <a:pt x="4032" y="15653"/>
                  <a:pt x="4032" y="15642"/>
                  <a:pt x="4064" y="15653"/>
                </a:cubicBezTo>
                <a:cubicBezTo>
                  <a:pt x="4064" y="15734"/>
                  <a:pt x="4093" y="15791"/>
                  <a:pt x="4096" y="15875"/>
                </a:cubicBezTo>
                <a:cubicBezTo>
                  <a:pt x="4102" y="16019"/>
                  <a:pt x="4113" y="16118"/>
                  <a:pt x="4159" y="16256"/>
                </a:cubicBezTo>
                <a:cubicBezTo>
                  <a:pt x="4191" y="16351"/>
                  <a:pt x="4218" y="16379"/>
                  <a:pt x="4286" y="16446"/>
                </a:cubicBezTo>
                <a:cubicBezTo>
                  <a:pt x="4424" y="16419"/>
                  <a:pt x="4377" y="16359"/>
                  <a:pt x="4445" y="16256"/>
                </a:cubicBezTo>
                <a:cubicBezTo>
                  <a:pt x="4520" y="16142"/>
                  <a:pt x="4556" y="16048"/>
                  <a:pt x="4572" y="15907"/>
                </a:cubicBezTo>
                <a:cubicBezTo>
                  <a:pt x="4580" y="15833"/>
                  <a:pt x="4566" y="15735"/>
                  <a:pt x="4508" y="15716"/>
                </a:cubicBezTo>
                <a:cubicBezTo>
                  <a:pt x="4508" y="15799"/>
                  <a:pt x="4495" y="15891"/>
                  <a:pt x="4477" y="15970"/>
                </a:cubicBezTo>
                <a:cubicBezTo>
                  <a:pt x="4450" y="16085"/>
                  <a:pt x="4417" y="16230"/>
                  <a:pt x="4445" y="16351"/>
                </a:cubicBezTo>
                <a:cubicBezTo>
                  <a:pt x="4476" y="16412"/>
                  <a:pt x="4486" y="16431"/>
                  <a:pt x="4477" y="16478"/>
                </a:cubicBezTo>
                <a:cubicBezTo>
                  <a:pt x="4570" y="16478"/>
                  <a:pt x="4558" y="16427"/>
                  <a:pt x="4604" y="16351"/>
                </a:cubicBezTo>
                <a:cubicBezTo>
                  <a:pt x="4664" y="16260"/>
                  <a:pt x="4684" y="16232"/>
                  <a:pt x="4699" y="16161"/>
                </a:cubicBezTo>
              </a:path>
              <a:path w="2732" h="1335">
                <a:moveTo>
                  <a:pt x="4858" y="15812"/>
                </a:moveTo>
                <a:cubicBezTo>
                  <a:pt x="4858" y="15776"/>
                  <a:pt x="4861" y="15762"/>
                  <a:pt x="4890" y="15748"/>
                </a:cubicBezTo>
                <a:cubicBezTo>
                  <a:pt x="4956" y="15816"/>
                  <a:pt x="4953" y="15842"/>
                  <a:pt x="4953" y="15938"/>
                </a:cubicBezTo>
                <a:cubicBezTo>
                  <a:pt x="4953" y="16062"/>
                  <a:pt x="4904" y="16172"/>
                  <a:pt x="4890" y="16288"/>
                </a:cubicBezTo>
                <a:cubicBezTo>
                  <a:pt x="4880" y="16366"/>
                  <a:pt x="4858" y="16433"/>
                  <a:pt x="4858" y="16510"/>
                </a:cubicBezTo>
                <a:cubicBezTo>
                  <a:pt x="4875" y="16425"/>
                  <a:pt x="4923" y="16341"/>
                  <a:pt x="4953" y="16256"/>
                </a:cubicBezTo>
                <a:cubicBezTo>
                  <a:pt x="5010" y="16093"/>
                  <a:pt x="5056" y="15953"/>
                  <a:pt x="5144" y="15812"/>
                </a:cubicBezTo>
                <a:cubicBezTo>
                  <a:pt x="5191" y="15738"/>
                  <a:pt x="5205" y="15694"/>
                  <a:pt x="5302" y="15684"/>
                </a:cubicBezTo>
                <a:cubicBezTo>
                  <a:pt x="5394" y="15675"/>
                  <a:pt x="5384" y="15787"/>
                  <a:pt x="5398" y="15843"/>
                </a:cubicBezTo>
                <a:cubicBezTo>
                  <a:pt x="5434" y="15982"/>
                  <a:pt x="5461" y="16078"/>
                  <a:pt x="5461" y="16224"/>
                </a:cubicBezTo>
                <a:cubicBezTo>
                  <a:pt x="5461" y="16415"/>
                  <a:pt x="5446" y="16625"/>
                  <a:pt x="5493" y="16796"/>
                </a:cubicBezTo>
                <a:cubicBezTo>
                  <a:pt x="5493" y="16807"/>
                  <a:pt x="5493" y="16817"/>
                  <a:pt x="5493" y="168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Ink 22"/>
          <p:cNvSpPr/>
          <p:nvPr/>
        </p:nvSpPr>
        <p:spPr>
          <a:xfrm>
            <a:off x="2239920" y="5497560"/>
            <a:ext cx="892080" cy="480960"/>
          </a:xfrm>
          <a:custGeom>
            <a:avLst/>
            <a:gdLst/>
            <a:ahLst/>
            <a:rect l="l" t="t" r="r" b="b"/>
            <a:pathLst>
              <a:path w="2478" h="1334">
                <a:moveTo>
                  <a:pt x="6445" y="15272"/>
                </a:moveTo>
                <a:cubicBezTo>
                  <a:pt x="6445" y="15364"/>
                  <a:pt x="6422" y="15437"/>
                  <a:pt x="6414" y="15526"/>
                </a:cubicBezTo>
                <a:cubicBezTo>
                  <a:pt x="6400" y="15679"/>
                  <a:pt x="6368" y="15821"/>
                  <a:pt x="6350" y="15970"/>
                </a:cubicBezTo>
                <a:cubicBezTo>
                  <a:pt x="6333" y="16105"/>
                  <a:pt x="6276" y="16222"/>
                  <a:pt x="6255" y="16351"/>
                </a:cubicBezTo>
                <a:cubicBezTo>
                  <a:pt x="6241" y="16437"/>
                  <a:pt x="6234" y="16463"/>
                  <a:pt x="6223" y="16542"/>
                </a:cubicBezTo>
                <a:cubicBezTo>
                  <a:pt x="6238" y="16466"/>
                  <a:pt x="6250" y="16359"/>
                  <a:pt x="6286" y="16288"/>
                </a:cubicBezTo>
                <a:cubicBezTo>
                  <a:pt x="6348" y="16163"/>
                  <a:pt x="6410" y="16028"/>
                  <a:pt x="6477" y="15907"/>
                </a:cubicBezTo>
                <a:cubicBezTo>
                  <a:pt x="6522" y="15826"/>
                  <a:pt x="6597" y="15703"/>
                  <a:pt x="6668" y="15653"/>
                </a:cubicBezTo>
                <a:cubicBezTo>
                  <a:pt x="6699" y="15653"/>
                  <a:pt x="6710" y="15653"/>
                  <a:pt x="6731" y="15653"/>
                </a:cubicBezTo>
                <a:cubicBezTo>
                  <a:pt x="6788" y="15724"/>
                  <a:pt x="6815" y="15815"/>
                  <a:pt x="6826" y="15907"/>
                </a:cubicBezTo>
                <a:cubicBezTo>
                  <a:pt x="6838" y="16013"/>
                  <a:pt x="6820" y="16157"/>
                  <a:pt x="6794" y="16256"/>
                </a:cubicBezTo>
                <a:cubicBezTo>
                  <a:pt x="6779" y="16310"/>
                  <a:pt x="6726" y="16421"/>
                  <a:pt x="6668" y="16446"/>
                </a:cubicBezTo>
                <a:cubicBezTo>
                  <a:pt x="6610" y="16471"/>
                  <a:pt x="6547" y="16417"/>
                  <a:pt x="6509" y="16383"/>
                </a:cubicBezTo>
                <a:cubicBezTo>
                  <a:pt x="6475" y="16353"/>
                  <a:pt x="6430" y="16266"/>
                  <a:pt x="6414" y="16224"/>
                </a:cubicBezTo>
                <a:cubicBezTo>
                  <a:pt x="6414" y="16192"/>
                  <a:pt x="6414" y="16182"/>
                  <a:pt x="6414" y="16161"/>
                </a:cubicBezTo>
              </a:path>
              <a:path w="2478" h="1334">
                <a:moveTo>
                  <a:pt x="7334" y="15875"/>
                </a:moveTo>
                <a:cubicBezTo>
                  <a:pt x="7311" y="15807"/>
                  <a:pt x="7280" y="15866"/>
                  <a:pt x="7239" y="15907"/>
                </a:cubicBezTo>
                <a:cubicBezTo>
                  <a:pt x="7162" y="15984"/>
                  <a:pt x="7091" y="16057"/>
                  <a:pt x="7048" y="16161"/>
                </a:cubicBezTo>
                <a:cubicBezTo>
                  <a:pt x="7019" y="16232"/>
                  <a:pt x="6982" y="16380"/>
                  <a:pt x="7048" y="16446"/>
                </a:cubicBezTo>
                <a:cubicBezTo>
                  <a:pt x="7130" y="16528"/>
                  <a:pt x="7220" y="16455"/>
                  <a:pt x="7271" y="16383"/>
                </a:cubicBezTo>
                <a:cubicBezTo>
                  <a:pt x="7340" y="16285"/>
                  <a:pt x="7361" y="16148"/>
                  <a:pt x="7366" y="16034"/>
                </a:cubicBezTo>
                <a:cubicBezTo>
                  <a:pt x="7370" y="15955"/>
                  <a:pt x="7382" y="15872"/>
                  <a:pt x="7334" y="15812"/>
                </a:cubicBezTo>
                <a:cubicBezTo>
                  <a:pt x="7305" y="15783"/>
                  <a:pt x="7294" y="15777"/>
                  <a:pt x="7302" y="15748"/>
                </a:cubicBezTo>
              </a:path>
              <a:path w="2478" h="1334">
                <a:moveTo>
                  <a:pt x="7747" y="15462"/>
                </a:moveTo>
                <a:cubicBezTo>
                  <a:pt x="7747" y="15636"/>
                  <a:pt x="7730" y="15802"/>
                  <a:pt x="7715" y="15970"/>
                </a:cubicBezTo>
                <a:cubicBezTo>
                  <a:pt x="7701" y="16126"/>
                  <a:pt x="7642" y="16262"/>
                  <a:pt x="7620" y="16415"/>
                </a:cubicBezTo>
                <a:cubicBezTo>
                  <a:pt x="7610" y="16487"/>
                  <a:pt x="7602" y="16537"/>
                  <a:pt x="7588" y="16605"/>
                </a:cubicBezTo>
              </a:path>
              <a:path w="2478" h="1334">
                <a:moveTo>
                  <a:pt x="7556" y="15970"/>
                </a:moveTo>
                <a:cubicBezTo>
                  <a:pt x="7537" y="15951"/>
                  <a:pt x="7425" y="15824"/>
                  <a:pt x="7461" y="15875"/>
                </a:cubicBezTo>
                <a:cubicBezTo>
                  <a:pt x="7528" y="15971"/>
                  <a:pt x="7625" y="16012"/>
                  <a:pt x="7747" y="16034"/>
                </a:cubicBezTo>
                <a:cubicBezTo>
                  <a:pt x="7823" y="16034"/>
                  <a:pt x="7856" y="16030"/>
                  <a:pt x="7906" y="16002"/>
                </a:cubicBezTo>
              </a:path>
              <a:path w="2478" h="1334">
                <a:moveTo>
                  <a:pt x="8192" y="15367"/>
                </a:moveTo>
                <a:cubicBezTo>
                  <a:pt x="8192" y="15502"/>
                  <a:pt x="8193" y="15618"/>
                  <a:pt x="8160" y="15748"/>
                </a:cubicBezTo>
                <a:cubicBezTo>
                  <a:pt x="8125" y="15885"/>
                  <a:pt x="8058" y="16023"/>
                  <a:pt x="8033" y="16161"/>
                </a:cubicBezTo>
                <a:cubicBezTo>
                  <a:pt x="8023" y="16217"/>
                  <a:pt x="8012" y="16265"/>
                  <a:pt x="8001" y="16320"/>
                </a:cubicBezTo>
                <a:cubicBezTo>
                  <a:pt x="8043" y="16264"/>
                  <a:pt x="8080" y="16223"/>
                  <a:pt x="8128" y="16161"/>
                </a:cubicBezTo>
                <a:cubicBezTo>
                  <a:pt x="8218" y="16046"/>
                  <a:pt x="8307" y="15973"/>
                  <a:pt x="8414" y="15875"/>
                </a:cubicBezTo>
                <a:cubicBezTo>
                  <a:pt x="8456" y="15836"/>
                  <a:pt x="8487" y="15823"/>
                  <a:pt x="8541" y="15812"/>
                </a:cubicBezTo>
                <a:cubicBezTo>
                  <a:pt x="8541" y="15908"/>
                  <a:pt x="8497" y="15947"/>
                  <a:pt x="8477" y="16034"/>
                </a:cubicBezTo>
                <a:cubicBezTo>
                  <a:pt x="8458" y="16116"/>
                  <a:pt x="8464" y="16277"/>
                  <a:pt x="8509" y="16351"/>
                </a:cubicBezTo>
                <a:cubicBezTo>
                  <a:pt x="8560" y="16434"/>
                  <a:pt x="8620" y="16458"/>
                  <a:pt x="8700" y="164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Ink 23"/>
          <p:cNvSpPr/>
          <p:nvPr/>
        </p:nvSpPr>
        <p:spPr>
          <a:xfrm>
            <a:off x="3371760" y="5611680"/>
            <a:ext cx="584280" cy="320760"/>
          </a:xfrm>
          <a:custGeom>
            <a:avLst/>
            <a:gdLst/>
            <a:ahLst/>
            <a:rect l="l" t="t" r="r" b="b"/>
            <a:pathLst>
              <a:path w="1621" h="890">
                <a:moveTo>
                  <a:pt x="9747" y="15780"/>
                </a:moveTo>
                <a:cubicBezTo>
                  <a:pt x="9747" y="15705"/>
                  <a:pt x="9759" y="15648"/>
                  <a:pt x="9716" y="15589"/>
                </a:cubicBezTo>
                <a:cubicBezTo>
                  <a:pt x="9650" y="15589"/>
                  <a:pt x="9599" y="15634"/>
                  <a:pt x="9557" y="15684"/>
                </a:cubicBezTo>
                <a:cubicBezTo>
                  <a:pt x="9467" y="15790"/>
                  <a:pt x="9430" y="15917"/>
                  <a:pt x="9398" y="16034"/>
                </a:cubicBezTo>
                <a:cubicBezTo>
                  <a:pt x="9376" y="16117"/>
                  <a:pt x="9361" y="16210"/>
                  <a:pt x="9462" y="16256"/>
                </a:cubicBezTo>
                <a:cubicBezTo>
                  <a:pt x="9492" y="16270"/>
                  <a:pt x="9637" y="16185"/>
                  <a:pt x="9652" y="16161"/>
                </a:cubicBezTo>
                <a:cubicBezTo>
                  <a:pt x="9696" y="16093"/>
                  <a:pt x="9780" y="15983"/>
                  <a:pt x="9811" y="15907"/>
                </a:cubicBezTo>
                <a:cubicBezTo>
                  <a:pt x="9814" y="15900"/>
                  <a:pt x="9811" y="15787"/>
                  <a:pt x="9811" y="15875"/>
                </a:cubicBezTo>
                <a:cubicBezTo>
                  <a:pt x="9811" y="15968"/>
                  <a:pt x="9761" y="16075"/>
                  <a:pt x="9779" y="16161"/>
                </a:cubicBezTo>
                <a:cubicBezTo>
                  <a:pt x="9798" y="16251"/>
                  <a:pt x="9808" y="16317"/>
                  <a:pt x="9874" y="16383"/>
                </a:cubicBezTo>
              </a:path>
              <a:path w="1621" h="890">
                <a:moveTo>
                  <a:pt x="10160" y="15780"/>
                </a:moveTo>
                <a:cubicBezTo>
                  <a:pt x="10160" y="15962"/>
                  <a:pt x="10205" y="16230"/>
                  <a:pt x="10128" y="16383"/>
                </a:cubicBezTo>
                <a:cubicBezTo>
                  <a:pt x="10143" y="16309"/>
                  <a:pt x="10180" y="16234"/>
                  <a:pt x="10192" y="16161"/>
                </a:cubicBezTo>
                <a:cubicBezTo>
                  <a:pt x="10212" y="16042"/>
                  <a:pt x="10233" y="16014"/>
                  <a:pt x="10319" y="15938"/>
                </a:cubicBezTo>
                <a:cubicBezTo>
                  <a:pt x="10415" y="15853"/>
                  <a:pt x="10412" y="15843"/>
                  <a:pt x="10541" y="15843"/>
                </a:cubicBezTo>
              </a:path>
              <a:path w="1621" h="890">
                <a:moveTo>
                  <a:pt x="10604" y="16256"/>
                </a:moveTo>
                <a:cubicBezTo>
                  <a:pt x="10687" y="16209"/>
                  <a:pt x="10757" y="16163"/>
                  <a:pt x="10827" y="16097"/>
                </a:cubicBezTo>
                <a:cubicBezTo>
                  <a:pt x="10903" y="16025"/>
                  <a:pt x="10958" y="15999"/>
                  <a:pt x="10986" y="15907"/>
                </a:cubicBezTo>
                <a:cubicBezTo>
                  <a:pt x="10986" y="15875"/>
                  <a:pt x="10986" y="15864"/>
                  <a:pt x="10986" y="15843"/>
                </a:cubicBezTo>
                <a:cubicBezTo>
                  <a:pt x="10917" y="15821"/>
                  <a:pt x="10970" y="15823"/>
                  <a:pt x="10890" y="15875"/>
                </a:cubicBezTo>
                <a:cubicBezTo>
                  <a:pt x="10789" y="15940"/>
                  <a:pt x="10754" y="15990"/>
                  <a:pt x="10700" y="16097"/>
                </a:cubicBezTo>
                <a:cubicBezTo>
                  <a:pt x="10646" y="16205"/>
                  <a:pt x="10674" y="16311"/>
                  <a:pt x="10732" y="16415"/>
                </a:cubicBezTo>
                <a:cubicBezTo>
                  <a:pt x="10770" y="16453"/>
                  <a:pt x="10788" y="16467"/>
                  <a:pt x="10827" y="164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Ink 24"/>
          <p:cNvSpPr/>
          <p:nvPr/>
        </p:nvSpPr>
        <p:spPr>
          <a:xfrm>
            <a:off x="4194000" y="5589720"/>
            <a:ext cx="344520" cy="422280"/>
          </a:xfrm>
          <a:custGeom>
            <a:avLst/>
            <a:gdLst/>
            <a:ahLst/>
            <a:rect l="l" t="t" r="r" b="b"/>
            <a:pathLst>
              <a:path w="954" h="1175">
                <a:moveTo>
                  <a:pt x="11779" y="15526"/>
                </a:moveTo>
                <a:cubicBezTo>
                  <a:pt x="11779" y="15668"/>
                  <a:pt x="11760" y="15801"/>
                  <a:pt x="11748" y="15938"/>
                </a:cubicBezTo>
                <a:cubicBezTo>
                  <a:pt x="11734" y="16091"/>
                  <a:pt x="11723" y="16267"/>
                  <a:pt x="11684" y="16415"/>
                </a:cubicBezTo>
                <a:cubicBezTo>
                  <a:pt x="11673" y="16436"/>
                  <a:pt x="11663" y="16457"/>
                  <a:pt x="11652" y="16478"/>
                </a:cubicBezTo>
              </a:path>
              <a:path w="954" h="1175">
                <a:moveTo>
                  <a:pt x="12128" y="15684"/>
                </a:moveTo>
                <a:cubicBezTo>
                  <a:pt x="12128" y="15860"/>
                  <a:pt x="12157" y="16058"/>
                  <a:pt x="12097" y="16224"/>
                </a:cubicBezTo>
                <a:cubicBezTo>
                  <a:pt x="12065" y="16313"/>
                  <a:pt x="12046" y="16390"/>
                  <a:pt x="12033" y="16478"/>
                </a:cubicBezTo>
                <a:cubicBezTo>
                  <a:pt x="12051" y="16407"/>
                  <a:pt x="12099" y="16332"/>
                  <a:pt x="12128" y="16256"/>
                </a:cubicBezTo>
                <a:cubicBezTo>
                  <a:pt x="12176" y="16127"/>
                  <a:pt x="12230" y="16027"/>
                  <a:pt x="12287" y="15907"/>
                </a:cubicBezTo>
                <a:cubicBezTo>
                  <a:pt x="12323" y="15831"/>
                  <a:pt x="12355" y="15775"/>
                  <a:pt x="12414" y="15716"/>
                </a:cubicBezTo>
                <a:cubicBezTo>
                  <a:pt x="12443" y="15687"/>
                  <a:pt x="12449" y="15676"/>
                  <a:pt x="12478" y="15684"/>
                </a:cubicBezTo>
                <a:cubicBezTo>
                  <a:pt x="12493" y="15746"/>
                  <a:pt x="12523" y="15808"/>
                  <a:pt x="12541" y="15875"/>
                </a:cubicBezTo>
                <a:cubicBezTo>
                  <a:pt x="12573" y="15997"/>
                  <a:pt x="12573" y="16096"/>
                  <a:pt x="12573" y="16224"/>
                </a:cubicBezTo>
                <a:cubicBezTo>
                  <a:pt x="12573" y="16367"/>
                  <a:pt x="12533" y="16583"/>
                  <a:pt x="12605" y="16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Ink 25"/>
          <p:cNvSpPr/>
          <p:nvPr/>
        </p:nvSpPr>
        <p:spPr>
          <a:xfrm>
            <a:off x="4789440" y="5532480"/>
            <a:ext cx="1760760" cy="560520"/>
          </a:xfrm>
          <a:custGeom>
            <a:avLst/>
            <a:gdLst/>
            <a:ahLst/>
            <a:rect l="l" t="t" r="r" b="b"/>
            <a:pathLst>
              <a:path w="4891" h="1557">
                <a:moveTo>
                  <a:pt x="13938" y="15589"/>
                </a:moveTo>
                <a:cubicBezTo>
                  <a:pt x="13938" y="15497"/>
                  <a:pt x="13929" y="15445"/>
                  <a:pt x="13906" y="15399"/>
                </a:cubicBezTo>
                <a:cubicBezTo>
                  <a:pt x="13882" y="15351"/>
                  <a:pt x="13842" y="15367"/>
                  <a:pt x="13780" y="15367"/>
                </a:cubicBezTo>
                <a:cubicBezTo>
                  <a:pt x="13737" y="15367"/>
                  <a:pt x="13656" y="15435"/>
                  <a:pt x="13621" y="15462"/>
                </a:cubicBezTo>
                <a:cubicBezTo>
                  <a:pt x="13563" y="15506"/>
                  <a:pt x="13537" y="15618"/>
                  <a:pt x="13526" y="15684"/>
                </a:cubicBezTo>
                <a:cubicBezTo>
                  <a:pt x="13509" y="15789"/>
                  <a:pt x="13545" y="15878"/>
                  <a:pt x="13589" y="15970"/>
                </a:cubicBezTo>
                <a:cubicBezTo>
                  <a:pt x="13634" y="16064"/>
                  <a:pt x="13711" y="16164"/>
                  <a:pt x="13748" y="16256"/>
                </a:cubicBezTo>
                <a:cubicBezTo>
                  <a:pt x="13771" y="16313"/>
                  <a:pt x="13725" y="16343"/>
                  <a:pt x="13716" y="16383"/>
                </a:cubicBezTo>
                <a:cubicBezTo>
                  <a:pt x="13701" y="16451"/>
                  <a:pt x="13670" y="16504"/>
                  <a:pt x="13589" y="16510"/>
                </a:cubicBezTo>
                <a:cubicBezTo>
                  <a:pt x="13505" y="16516"/>
                  <a:pt x="13461" y="16503"/>
                  <a:pt x="13398" y="16446"/>
                </a:cubicBezTo>
                <a:cubicBezTo>
                  <a:pt x="13351" y="16404"/>
                  <a:pt x="13314" y="16351"/>
                  <a:pt x="13303" y="16288"/>
                </a:cubicBezTo>
                <a:cubicBezTo>
                  <a:pt x="13289" y="16209"/>
                  <a:pt x="13349" y="16179"/>
                  <a:pt x="13398" y="16129"/>
                </a:cubicBezTo>
              </a:path>
              <a:path w="4891" h="1557">
                <a:moveTo>
                  <a:pt x="14192" y="15653"/>
                </a:moveTo>
                <a:cubicBezTo>
                  <a:pt x="14192" y="15737"/>
                  <a:pt x="14185" y="15792"/>
                  <a:pt x="14160" y="15875"/>
                </a:cubicBezTo>
                <a:cubicBezTo>
                  <a:pt x="14116" y="16020"/>
                  <a:pt x="14108" y="16171"/>
                  <a:pt x="14065" y="16320"/>
                </a:cubicBezTo>
                <a:cubicBezTo>
                  <a:pt x="14031" y="16437"/>
                  <a:pt x="13985" y="16551"/>
                  <a:pt x="13970" y="16669"/>
                </a:cubicBezTo>
              </a:path>
              <a:path w="4891" h="1557">
                <a:moveTo>
                  <a:pt x="13938" y="16034"/>
                </a:moveTo>
                <a:cubicBezTo>
                  <a:pt x="14023" y="16102"/>
                  <a:pt x="14120" y="16127"/>
                  <a:pt x="14224" y="16161"/>
                </a:cubicBezTo>
                <a:cubicBezTo>
                  <a:pt x="14319" y="16192"/>
                  <a:pt x="14351" y="16202"/>
                  <a:pt x="14414" y="16224"/>
                </a:cubicBezTo>
              </a:path>
              <a:path w="4891" h="1557">
                <a:moveTo>
                  <a:pt x="14764" y="16129"/>
                </a:moveTo>
                <a:cubicBezTo>
                  <a:pt x="14773" y="16063"/>
                  <a:pt x="14796" y="16036"/>
                  <a:pt x="14796" y="15970"/>
                </a:cubicBezTo>
                <a:cubicBezTo>
                  <a:pt x="14796" y="15959"/>
                  <a:pt x="14796" y="15949"/>
                  <a:pt x="14796" y="15938"/>
                </a:cubicBezTo>
                <a:cubicBezTo>
                  <a:pt x="14722" y="15938"/>
                  <a:pt x="14697" y="15966"/>
                  <a:pt x="14637" y="16002"/>
                </a:cubicBezTo>
                <a:cubicBezTo>
                  <a:pt x="14535" y="16064"/>
                  <a:pt x="14499" y="16118"/>
                  <a:pt x="14446" y="16224"/>
                </a:cubicBezTo>
                <a:cubicBezTo>
                  <a:pt x="14398" y="16319"/>
                  <a:pt x="14407" y="16345"/>
                  <a:pt x="14478" y="16415"/>
                </a:cubicBezTo>
                <a:cubicBezTo>
                  <a:pt x="14528" y="16465"/>
                  <a:pt x="14628" y="16407"/>
                  <a:pt x="14668" y="16351"/>
                </a:cubicBezTo>
                <a:cubicBezTo>
                  <a:pt x="14710" y="16293"/>
                  <a:pt x="14771" y="16172"/>
                  <a:pt x="14827" y="16129"/>
                </a:cubicBezTo>
                <a:cubicBezTo>
                  <a:pt x="14838" y="16129"/>
                  <a:pt x="14848" y="16129"/>
                  <a:pt x="14859" y="16129"/>
                </a:cubicBezTo>
                <a:cubicBezTo>
                  <a:pt x="14859" y="16191"/>
                  <a:pt x="14845" y="16264"/>
                  <a:pt x="14827" y="16320"/>
                </a:cubicBezTo>
                <a:cubicBezTo>
                  <a:pt x="14795" y="16418"/>
                  <a:pt x="14796" y="16501"/>
                  <a:pt x="14796" y="16605"/>
                </a:cubicBezTo>
                <a:cubicBezTo>
                  <a:pt x="14796" y="16637"/>
                  <a:pt x="14796" y="16647"/>
                  <a:pt x="14827" y="16637"/>
                </a:cubicBezTo>
              </a:path>
              <a:path w="4891" h="1557">
                <a:moveTo>
                  <a:pt x="15081" y="15970"/>
                </a:moveTo>
                <a:cubicBezTo>
                  <a:pt x="15081" y="16111"/>
                  <a:pt x="15131" y="16367"/>
                  <a:pt x="15050" y="16478"/>
                </a:cubicBezTo>
                <a:cubicBezTo>
                  <a:pt x="15067" y="16408"/>
                  <a:pt x="15084" y="16332"/>
                  <a:pt x="15113" y="16256"/>
                </a:cubicBezTo>
                <a:cubicBezTo>
                  <a:pt x="15157" y="16140"/>
                  <a:pt x="15221" y="16028"/>
                  <a:pt x="15304" y="15938"/>
                </a:cubicBezTo>
                <a:cubicBezTo>
                  <a:pt x="15363" y="15874"/>
                  <a:pt x="15414" y="15875"/>
                  <a:pt x="15494" y="15875"/>
                </a:cubicBezTo>
                <a:cubicBezTo>
                  <a:pt x="15577" y="15875"/>
                  <a:pt x="15571" y="15983"/>
                  <a:pt x="15589" y="16034"/>
                </a:cubicBezTo>
                <a:cubicBezTo>
                  <a:pt x="15630" y="16150"/>
                  <a:pt x="15595" y="16198"/>
                  <a:pt x="15589" y="16320"/>
                </a:cubicBezTo>
                <a:cubicBezTo>
                  <a:pt x="15584" y="16418"/>
                  <a:pt x="15573" y="16527"/>
                  <a:pt x="15621" y="16605"/>
                </a:cubicBezTo>
              </a:path>
              <a:path w="4891" h="1557">
                <a:moveTo>
                  <a:pt x="16320" y="15748"/>
                </a:moveTo>
                <a:cubicBezTo>
                  <a:pt x="16342" y="15794"/>
                  <a:pt x="16333" y="15893"/>
                  <a:pt x="16320" y="15970"/>
                </a:cubicBezTo>
                <a:cubicBezTo>
                  <a:pt x="16293" y="16122"/>
                  <a:pt x="16262" y="16261"/>
                  <a:pt x="16256" y="16415"/>
                </a:cubicBezTo>
                <a:cubicBezTo>
                  <a:pt x="16254" y="16476"/>
                  <a:pt x="16235" y="16517"/>
                  <a:pt x="16224" y="16574"/>
                </a:cubicBezTo>
                <a:cubicBezTo>
                  <a:pt x="16242" y="16500"/>
                  <a:pt x="16256" y="16439"/>
                  <a:pt x="16256" y="16351"/>
                </a:cubicBezTo>
                <a:cubicBezTo>
                  <a:pt x="16256" y="16239"/>
                  <a:pt x="16258" y="16162"/>
                  <a:pt x="16192" y="16066"/>
                </a:cubicBezTo>
                <a:cubicBezTo>
                  <a:pt x="16155" y="16012"/>
                  <a:pt x="16098" y="15974"/>
                  <a:pt x="16034" y="15970"/>
                </a:cubicBezTo>
                <a:cubicBezTo>
                  <a:pt x="15959" y="15965"/>
                  <a:pt x="15866" y="16019"/>
                  <a:pt x="15843" y="16097"/>
                </a:cubicBezTo>
                <a:cubicBezTo>
                  <a:pt x="15811" y="16207"/>
                  <a:pt x="15860" y="16294"/>
                  <a:pt x="15907" y="16383"/>
                </a:cubicBezTo>
                <a:cubicBezTo>
                  <a:pt x="15957" y="16479"/>
                  <a:pt x="16094" y="16519"/>
                  <a:pt x="16192" y="16574"/>
                </a:cubicBezTo>
              </a:path>
              <a:path w="4891" h="1557">
                <a:moveTo>
                  <a:pt x="16828" y="16288"/>
                </a:moveTo>
                <a:cubicBezTo>
                  <a:pt x="16836" y="16254"/>
                  <a:pt x="16881" y="16202"/>
                  <a:pt x="16859" y="16161"/>
                </a:cubicBezTo>
                <a:cubicBezTo>
                  <a:pt x="16841" y="16128"/>
                  <a:pt x="16765" y="16099"/>
                  <a:pt x="16732" y="16097"/>
                </a:cubicBezTo>
                <a:cubicBezTo>
                  <a:pt x="16630" y="16090"/>
                  <a:pt x="16589" y="16145"/>
                  <a:pt x="16542" y="16224"/>
                </a:cubicBezTo>
                <a:cubicBezTo>
                  <a:pt x="16486" y="16317"/>
                  <a:pt x="16501" y="16418"/>
                  <a:pt x="16542" y="16510"/>
                </a:cubicBezTo>
                <a:cubicBezTo>
                  <a:pt x="16572" y="16577"/>
                  <a:pt x="16576" y="16590"/>
                  <a:pt x="16637" y="16605"/>
                </a:cubicBezTo>
                <a:cubicBezTo>
                  <a:pt x="16715" y="16605"/>
                  <a:pt x="16750" y="16546"/>
                  <a:pt x="16796" y="16478"/>
                </a:cubicBezTo>
                <a:cubicBezTo>
                  <a:pt x="16841" y="16411"/>
                  <a:pt x="16853" y="16275"/>
                  <a:pt x="16891" y="16224"/>
                </a:cubicBezTo>
                <a:cubicBezTo>
                  <a:pt x="16902" y="16224"/>
                  <a:pt x="16912" y="16224"/>
                  <a:pt x="16923" y="16224"/>
                </a:cubicBezTo>
                <a:cubicBezTo>
                  <a:pt x="16910" y="16317"/>
                  <a:pt x="16891" y="16372"/>
                  <a:pt x="16891" y="16478"/>
                </a:cubicBezTo>
                <a:cubicBezTo>
                  <a:pt x="16891" y="16568"/>
                  <a:pt x="16882" y="16601"/>
                  <a:pt x="16923" y="16669"/>
                </a:cubicBezTo>
              </a:path>
              <a:path w="4891" h="1557">
                <a:moveTo>
                  <a:pt x="17208" y="16192"/>
                </a:moveTo>
                <a:cubicBezTo>
                  <a:pt x="17208" y="16263"/>
                  <a:pt x="17185" y="16318"/>
                  <a:pt x="17177" y="16383"/>
                </a:cubicBezTo>
                <a:cubicBezTo>
                  <a:pt x="17161" y="16505"/>
                  <a:pt x="17177" y="16640"/>
                  <a:pt x="17177" y="16764"/>
                </a:cubicBezTo>
                <a:cubicBezTo>
                  <a:pt x="17189" y="16667"/>
                  <a:pt x="17227" y="16599"/>
                  <a:pt x="17272" y="16510"/>
                </a:cubicBezTo>
                <a:cubicBezTo>
                  <a:pt x="17309" y="16437"/>
                  <a:pt x="17322" y="16345"/>
                  <a:pt x="17367" y="16288"/>
                </a:cubicBezTo>
                <a:cubicBezTo>
                  <a:pt x="17407" y="16238"/>
                  <a:pt x="17448" y="16226"/>
                  <a:pt x="17494" y="16192"/>
                </a:cubicBezTo>
              </a:path>
              <a:path w="4891" h="1557">
                <a:moveTo>
                  <a:pt x="18129" y="15780"/>
                </a:moveTo>
                <a:cubicBezTo>
                  <a:pt x="18142" y="15833"/>
                  <a:pt x="18185" y="15879"/>
                  <a:pt x="18193" y="15938"/>
                </a:cubicBezTo>
                <a:cubicBezTo>
                  <a:pt x="18213" y="16082"/>
                  <a:pt x="18174" y="16214"/>
                  <a:pt x="18161" y="16351"/>
                </a:cubicBezTo>
                <a:cubicBezTo>
                  <a:pt x="18146" y="16505"/>
                  <a:pt x="18167" y="16658"/>
                  <a:pt x="18129" y="16796"/>
                </a:cubicBezTo>
                <a:cubicBezTo>
                  <a:pt x="18129" y="16832"/>
                  <a:pt x="18132" y="16840"/>
                  <a:pt x="18161" y="16796"/>
                </a:cubicBezTo>
                <a:cubicBezTo>
                  <a:pt x="18161" y="16649"/>
                  <a:pt x="18206" y="16415"/>
                  <a:pt x="18129" y="16288"/>
                </a:cubicBezTo>
                <a:cubicBezTo>
                  <a:pt x="18097" y="16235"/>
                  <a:pt x="18034" y="16177"/>
                  <a:pt x="17970" y="16192"/>
                </a:cubicBezTo>
                <a:cubicBezTo>
                  <a:pt x="17898" y="16209"/>
                  <a:pt x="17808" y="16289"/>
                  <a:pt x="17780" y="16351"/>
                </a:cubicBezTo>
                <a:cubicBezTo>
                  <a:pt x="17724" y="16473"/>
                  <a:pt x="17747" y="16582"/>
                  <a:pt x="17780" y="16700"/>
                </a:cubicBezTo>
                <a:cubicBezTo>
                  <a:pt x="17828" y="16875"/>
                  <a:pt x="17861" y="16907"/>
                  <a:pt x="18034" y="169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Ink 26"/>
          <p:cNvSpPr/>
          <p:nvPr/>
        </p:nvSpPr>
        <p:spPr>
          <a:xfrm>
            <a:off x="6846840" y="5565600"/>
            <a:ext cx="1224000" cy="538200"/>
          </a:xfrm>
          <a:custGeom>
            <a:avLst/>
            <a:gdLst/>
            <a:ahLst/>
            <a:rect l="l" t="t" r="r" b="b"/>
            <a:pathLst>
              <a:path w="3399" h="1493">
                <a:moveTo>
                  <a:pt x="19018" y="15462"/>
                </a:moveTo>
                <a:cubicBezTo>
                  <a:pt x="19018" y="15657"/>
                  <a:pt x="19034" y="15843"/>
                  <a:pt x="19050" y="16034"/>
                </a:cubicBezTo>
                <a:cubicBezTo>
                  <a:pt x="19063" y="16194"/>
                  <a:pt x="19076" y="16352"/>
                  <a:pt x="19082" y="16510"/>
                </a:cubicBezTo>
                <a:cubicBezTo>
                  <a:pt x="19082" y="16563"/>
                  <a:pt x="19082" y="16573"/>
                  <a:pt x="19082" y="16605"/>
                </a:cubicBezTo>
              </a:path>
              <a:path w="3399" h="1493">
                <a:moveTo>
                  <a:pt x="19082" y="15716"/>
                </a:moveTo>
                <a:cubicBezTo>
                  <a:pt x="19082" y="15684"/>
                  <a:pt x="19082" y="15674"/>
                  <a:pt x="19082" y="15653"/>
                </a:cubicBezTo>
                <a:cubicBezTo>
                  <a:pt x="19206" y="15653"/>
                  <a:pt x="19313" y="15648"/>
                  <a:pt x="19431" y="15684"/>
                </a:cubicBezTo>
                <a:cubicBezTo>
                  <a:pt x="19519" y="15711"/>
                  <a:pt x="19602" y="15743"/>
                  <a:pt x="19685" y="15780"/>
                </a:cubicBezTo>
              </a:path>
              <a:path w="3399" h="1493">
                <a:moveTo>
                  <a:pt x="19114" y="16129"/>
                </a:moveTo>
                <a:cubicBezTo>
                  <a:pt x="19136" y="16220"/>
                  <a:pt x="19193" y="16203"/>
                  <a:pt x="19272" y="16224"/>
                </a:cubicBezTo>
                <a:cubicBezTo>
                  <a:pt x="19377" y="16252"/>
                  <a:pt x="19448" y="16256"/>
                  <a:pt x="19558" y="16256"/>
                </a:cubicBezTo>
              </a:path>
              <a:path w="3399" h="1493">
                <a:moveTo>
                  <a:pt x="20130" y="16192"/>
                </a:moveTo>
                <a:cubicBezTo>
                  <a:pt x="20130" y="16160"/>
                  <a:pt x="20130" y="16129"/>
                  <a:pt x="20130" y="16097"/>
                </a:cubicBezTo>
                <a:cubicBezTo>
                  <a:pt x="20086" y="16076"/>
                  <a:pt x="20029" y="16085"/>
                  <a:pt x="19971" y="16129"/>
                </a:cubicBezTo>
                <a:cubicBezTo>
                  <a:pt x="19884" y="16195"/>
                  <a:pt x="19792" y="16241"/>
                  <a:pt x="19780" y="16351"/>
                </a:cubicBezTo>
                <a:cubicBezTo>
                  <a:pt x="19771" y="16434"/>
                  <a:pt x="19799" y="16538"/>
                  <a:pt x="19876" y="16574"/>
                </a:cubicBezTo>
                <a:cubicBezTo>
                  <a:pt x="19952" y="16610"/>
                  <a:pt x="20054" y="16568"/>
                  <a:pt x="20098" y="16510"/>
                </a:cubicBezTo>
                <a:cubicBezTo>
                  <a:pt x="20158" y="16430"/>
                  <a:pt x="20188" y="16321"/>
                  <a:pt x="20193" y="16224"/>
                </a:cubicBezTo>
                <a:cubicBezTo>
                  <a:pt x="20197" y="16145"/>
                  <a:pt x="20160" y="16073"/>
                  <a:pt x="20130" y="16002"/>
                </a:cubicBezTo>
              </a:path>
              <a:path w="3399" h="1493">
                <a:moveTo>
                  <a:pt x="20352" y="16034"/>
                </a:moveTo>
                <a:cubicBezTo>
                  <a:pt x="20352" y="16228"/>
                  <a:pt x="20363" y="16422"/>
                  <a:pt x="20320" y="16605"/>
                </a:cubicBezTo>
                <a:cubicBezTo>
                  <a:pt x="20297" y="16704"/>
                  <a:pt x="20340" y="16640"/>
                  <a:pt x="20352" y="16574"/>
                </a:cubicBezTo>
                <a:cubicBezTo>
                  <a:pt x="20373" y="16457"/>
                  <a:pt x="20372" y="16372"/>
                  <a:pt x="20415" y="16256"/>
                </a:cubicBezTo>
                <a:cubicBezTo>
                  <a:pt x="20457" y="16143"/>
                  <a:pt x="20466" y="16072"/>
                  <a:pt x="20542" y="16002"/>
                </a:cubicBezTo>
                <a:cubicBezTo>
                  <a:pt x="20608" y="15942"/>
                  <a:pt x="20609" y="15938"/>
                  <a:pt x="20701" y="15938"/>
                </a:cubicBezTo>
                <a:cubicBezTo>
                  <a:pt x="20743" y="15938"/>
                  <a:pt x="20764" y="15938"/>
                  <a:pt x="20796" y="15938"/>
                </a:cubicBezTo>
              </a:path>
              <a:path w="3399" h="1493">
                <a:moveTo>
                  <a:pt x="20987" y="16002"/>
                </a:moveTo>
                <a:cubicBezTo>
                  <a:pt x="20998" y="16082"/>
                  <a:pt x="20996" y="16083"/>
                  <a:pt x="20987" y="16161"/>
                </a:cubicBezTo>
                <a:cubicBezTo>
                  <a:pt x="20975" y="16262"/>
                  <a:pt x="20939" y="16350"/>
                  <a:pt x="20923" y="16446"/>
                </a:cubicBezTo>
                <a:cubicBezTo>
                  <a:pt x="20910" y="16523"/>
                  <a:pt x="20901" y="16592"/>
                  <a:pt x="20892" y="16669"/>
                </a:cubicBezTo>
                <a:cubicBezTo>
                  <a:pt x="20899" y="16600"/>
                  <a:pt x="20899" y="16580"/>
                  <a:pt x="20923" y="16510"/>
                </a:cubicBezTo>
                <a:cubicBezTo>
                  <a:pt x="20973" y="16366"/>
                  <a:pt x="21044" y="16231"/>
                  <a:pt x="21114" y="16097"/>
                </a:cubicBezTo>
                <a:cubicBezTo>
                  <a:pt x="21155" y="16019"/>
                  <a:pt x="21162" y="15926"/>
                  <a:pt x="21241" y="15875"/>
                </a:cubicBezTo>
                <a:cubicBezTo>
                  <a:pt x="21277" y="15875"/>
                  <a:pt x="21290" y="15872"/>
                  <a:pt x="21304" y="15843"/>
                </a:cubicBezTo>
                <a:cubicBezTo>
                  <a:pt x="21344" y="15903"/>
                  <a:pt x="21364" y="15955"/>
                  <a:pt x="21368" y="16034"/>
                </a:cubicBezTo>
                <a:cubicBezTo>
                  <a:pt x="21372" y="16108"/>
                  <a:pt x="21357" y="16246"/>
                  <a:pt x="21336" y="16320"/>
                </a:cubicBezTo>
                <a:cubicBezTo>
                  <a:pt x="21323" y="16365"/>
                  <a:pt x="21337" y="16350"/>
                  <a:pt x="21304" y="16383"/>
                </a:cubicBezTo>
                <a:cubicBezTo>
                  <a:pt x="21364" y="16323"/>
                  <a:pt x="21393" y="16268"/>
                  <a:pt x="21431" y="16192"/>
                </a:cubicBezTo>
                <a:cubicBezTo>
                  <a:pt x="21481" y="16092"/>
                  <a:pt x="21549" y="15989"/>
                  <a:pt x="21622" y="15907"/>
                </a:cubicBezTo>
                <a:cubicBezTo>
                  <a:pt x="21679" y="15843"/>
                  <a:pt x="21720" y="15777"/>
                  <a:pt x="21780" y="15716"/>
                </a:cubicBezTo>
                <a:cubicBezTo>
                  <a:pt x="21780" y="15807"/>
                  <a:pt x="21758" y="15887"/>
                  <a:pt x="21749" y="15970"/>
                </a:cubicBezTo>
                <a:cubicBezTo>
                  <a:pt x="21730" y="16152"/>
                  <a:pt x="21712" y="16293"/>
                  <a:pt x="21749" y="16478"/>
                </a:cubicBezTo>
                <a:cubicBezTo>
                  <a:pt x="21780" y="16632"/>
                  <a:pt x="21838" y="16891"/>
                  <a:pt x="22003" y="16954"/>
                </a:cubicBezTo>
                <a:cubicBezTo>
                  <a:pt x="22208" y="17033"/>
                  <a:pt x="22337" y="16721"/>
                  <a:pt x="22416" y="166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MUST know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ing systems by grap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ing systems by sub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ing systems by eli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*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43434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Important Thing to Remember with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ystems of Equa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e need to find the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point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(x, y) where the two lines intersect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380880"/>
            <a:ext cx="44956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Important Thing to Remember with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ystems of Inequalit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e need to find the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intersection region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where the two lines cross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AutoShape 6"/>
          <p:cNvCxnSpPr/>
          <p:nvPr/>
        </p:nvCxnSpPr>
        <p:spPr>
          <a:xfrm>
            <a:off x="4419360" y="-360"/>
            <a:ext cx="1080" cy="7087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" name="Ink 5"/>
          <p:cNvSpPr/>
          <p:nvPr/>
        </p:nvSpPr>
        <p:spPr>
          <a:xfrm>
            <a:off x="708120" y="3325680"/>
            <a:ext cx="1989000" cy="412920"/>
          </a:xfrm>
          <a:custGeom>
            <a:avLst/>
            <a:gdLst/>
            <a:ahLst/>
            <a:rect l="l" t="t" r="r" b="b"/>
            <a:pathLst>
              <a:path w="5526" h="1144">
                <a:moveTo>
                  <a:pt x="1968" y="9334"/>
                </a:moveTo>
                <a:cubicBezTo>
                  <a:pt x="1990" y="9285"/>
                  <a:pt x="2010" y="9265"/>
                  <a:pt x="2032" y="9239"/>
                </a:cubicBezTo>
                <a:cubicBezTo>
                  <a:pt x="2064" y="9275"/>
                  <a:pt x="2065" y="9310"/>
                  <a:pt x="2096" y="9366"/>
                </a:cubicBezTo>
                <a:cubicBezTo>
                  <a:pt x="2128" y="9424"/>
                  <a:pt x="2179" y="9460"/>
                  <a:pt x="2254" y="9493"/>
                </a:cubicBezTo>
                <a:cubicBezTo>
                  <a:pt x="2338" y="9530"/>
                  <a:pt x="2369" y="9514"/>
                  <a:pt x="2445" y="9462"/>
                </a:cubicBezTo>
                <a:cubicBezTo>
                  <a:pt x="2529" y="9405"/>
                  <a:pt x="2570" y="9348"/>
                  <a:pt x="2667" y="9303"/>
                </a:cubicBezTo>
                <a:cubicBezTo>
                  <a:pt x="2698" y="9288"/>
                  <a:pt x="2748" y="9244"/>
                  <a:pt x="2794" y="9271"/>
                </a:cubicBezTo>
                <a:cubicBezTo>
                  <a:pt x="2839" y="9298"/>
                  <a:pt x="2831" y="9366"/>
                  <a:pt x="2858" y="9398"/>
                </a:cubicBezTo>
                <a:cubicBezTo>
                  <a:pt x="2919" y="9470"/>
                  <a:pt x="2945" y="9522"/>
                  <a:pt x="3048" y="9525"/>
                </a:cubicBezTo>
                <a:cubicBezTo>
                  <a:pt x="3210" y="9529"/>
                  <a:pt x="3241" y="9463"/>
                  <a:pt x="3366" y="9398"/>
                </a:cubicBezTo>
                <a:cubicBezTo>
                  <a:pt x="3460" y="9349"/>
                  <a:pt x="3609" y="9294"/>
                  <a:pt x="3715" y="9303"/>
                </a:cubicBezTo>
                <a:cubicBezTo>
                  <a:pt x="3778" y="9308"/>
                  <a:pt x="3889" y="9352"/>
                  <a:pt x="3937" y="9398"/>
                </a:cubicBezTo>
                <a:cubicBezTo>
                  <a:pt x="4013" y="9471"/>
                  <a:pt x="4006" y="9503"/>
                  <a:pt x="4128" y="9525"/>
                </a:cubicBezTo>
                <a:cubicBezTo>
                  <a:pt x="4218" y="9541"/>
                  <a:pt x="4328" y="9513"/>
                  <a:pt x="4413" y="9493"/>
                </a:cubicBezTo>
                <a:cubicBezTo>
                  <a:pt x="4554" y="9460"/>
                  <a:pt x="4648" y="9377"/>
                  <a:pt x="4794" y="9334"/>
                </a:cubicBezTo>
                <a:cubicBezTo>
                  <a:pt x="4922" y="9297"/>
                  <a:pt x="4991" y="9302"/>
                  <a:pt x="5112" y="9334"/>
                </a:cubicBezTo>
                <a:cubicBezTo>
                  <a:pt x="5181" y="9352"/>
                  <a:pt x="5230" y="9350"/>
                  <a:pt x="5302" y="9366"/>
                </a:cubicBezTo>
                <a:cubicBezTo>
                  <a:pt x="5403" y="9389"/>
                  <a:pt x="5401" y="9371"/>
                  <a:pt x="5493" y="9366"/>
                </a:cubicBezTo>
                <a:cubicBezTo>
                  <a:pt x="5635" y="9358"/>
                  <a:pt x="5768" y="9349"/>
                  <a:pt x="5906" y="9334"/>
                </a:cubicBezTo>
                <a:cubicBezTo>
                  <a:pt x="6048" y="9318"/>
                  <a:pt x="6145" y="9299"/>
                  <a:pt x="6286" y="9334"/>
                </a:cubicBezTo>
                <a:cubicBezTo>
                  <a:pt x="6362" y="9353"/>
                  <a:pt x="6438" y="9354"/>
                  <a:pt x="6509" y="9398"/>
                </a:cubicBezTo>
                <a:cubicBezTo>
                  <a:pt x="6587" y="9446"/>
                  <a:pt x="6640" y="9486"/>
                  <a:pt x="6731" y="9525"/>
                </a:cubicBezTo>
                <a:cubicBezTo>
                  <a:pt x="6776" y="9545"/>
                  <a:pt x="6905" y="9589"/>
                  <a:pt x="6953" y="9588"/>
                </a:cubicBezTo>
                <a:cubicBezTo>
                  <a:pt x="7053" y="9586"/>
                  <a:pt x="7178" y="9563"/>
                  <a:pt x="7271" y="9525"/>
                </a:cubicBezTo>
                <a:cubicBezTo>
                  <a:pt x="7367" y="9486"/>
                  <a:pt x="7426" y="9439"/>
                  <a:pt x="7493" y="9398"/>
                </a:cubicBezTo>
              </a:path>
              <a:path w="5526" h="1144">
                <a:moveTo>
                  <a:pt x="3969" y="10001"/>
                </a:moveTo>
                <a:cubicBezTo>
                  <a:pt x="3987" y="10058"/>
                  <a:pt x="4060" y="10033"/>
                  <a:pt x="4128" y="10033"/>
                </a:cubicBezTo>
                <a:cubicBezTo>
                  <a:pt x="4245" y="10033"/>
                  <a:pt x="4355" y="10065"/>
                  <a:pt x="4477" y="10065"/>
                </a:cubicBezTo>
                <a:cubicBezTo>
                  <a:pt x="4540" y="10065"/>
                  <a:pt x="4803" y="10065"/>
                  <a:pt x="4762" y="10065"/>
                </a:cubicBezTo>
                <a:cubicBezTo>
                  <a:pt x="4752" y="10065"/>
                  <a:pt x="4741" y="10065"/>
                  <a:pt x="4731" y="10065"/>
                </a:cubicBezTo>
              </a:path>
              <a:path w="5526" h="1144">
                <a:moveTo>
                  <a:pt x="4000" y="10350"/>
                </a:moveTo>
                <a:cubicBezTo>
                  <a:pt x="4105" y="10350"/>
                  <a:pt x="4189" y="10331"/>
                  <a:pt x="4286" y="10319"/>
                </a:cubicBezTo>
                <a:cubicBezTo>
                  <a:pt x="4390" y="10306"/>
                  <a:pt x="4495" y="10350"/>
                  <a:pt x="4604" y="10350"/>
                </a:cubicBezTo>
                <a:cubicBezTo>
                  <a:pt x="4699" y="10350"/>
                  <a:pt x="4764" y="10382"/>
                  <a:pt x="4858" y="10382"/>
                </a:cubicBezTo>
                <a:cubicBezTo>
                  <a:pt x="4912" y="10382"/>
                  <a:pt x="4906" y="10395"/>
                  <a:pt x="4921" y="10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Ink 6"/>
          <p:cNvSpPr/>
          <p:nvPr/>
        </p:nvSpPr>
        <p:spPr>
          <a:xfrm>
            <a:off x="5154480" y="2000160"/>
            <a:ext cx="3875400" cy="1554120"/>
          </a:xfrm>
          <a:custGeom>
            <a:avLst/>
            <a:gdLst/>
            <a:ahLst/>
            <a:rect l="l" t="t" r="r" b="b"/>
            <a:pathLst>
              <a:path w="10764" h="4319">
                <a:moveTo>
                  <a:pt x="14319" y="8700"/>
                </a:moveTo>
                <a:lnTo>
                  <a:pt x="14319" y="8700"/>
                </a:lnTo>
              </a:path>
              <a:path w="10764" h="4319">
                <a:moveTo>
                  <a:pt x="14319" y="8700"/>
                </a:moveTo>
                <a:lnTo>
                  <a:pt x="14319" y="8700"/>
                </a:lnTo>
              </a:path>
              <a:path w="10764" h="4319">
                <a:moveTo>
                  <a:pt x="14414" y="8826"/>
                </a:moveTo>
                <a:cubicBezTo>
                  <a:pt x="14435" y="8847"/>
                  <a:pt x="14457" y="8869"/>
                  <a:pt x="14478" y="8890"/>
                </a:cubicBezTo>
                <a:cubicBezTo>
                  <a:pt x="14489" y="8901"/>
                  <a:pt x="14499" y="8911"/>
                  <a:pt x="14510" y="8922"/>
                </a:cubicBezTo>
                <a:cubicBezTo>
                  <a:pt x="14533" y="8901"/>
                  <a:pt x="14580" y="8902"/>
                  <a:pt x="14605" y="8858"/>
                </a:cubicBezTo>
                <a:cubicBezTo>
                  <a:pt x="14634" y="8806"/>
                  <a:pt x="14619" y="8734"/>
                  <a:pt x="14700" y="8731"/>
                </a:cubicBezTo>
                <a:cubicBezTo>
                  <a:pt x="14795" y="8728"/>
                  <a:pt x="14724" y="8765"/>
                  <a:pt x="14796" y="8795"/>
                </a:cubicBezTo>
                <a:cubicBezTo>
                  <a:pt x="14828" y="8808"/>
                  <a:pt x="14918" y="8858"/>
                  <a:pt x="14954" y="8858"/>
                </a:cubicBezTo>
                <a:cubicBezTo>
                  <a:pt x="15006" y="8858"/>
                  <a:pt x="15039" y="8818"/>
                  <a:pt x="15081" y="8795"/>
                </a:cubicBezTo>
                <a:cubicBezTo>
                  <a:pt x="15133" y="8766"/>
                  <a:pt x="15184" y="8706"/>
                  <a:pt x="15240" y="8700"/>
                </a:cubicBezTo>
                <a:cubicBezTo>
                  <a:pt x="15316" y="8691"/>
                  <a:pt x="15309" y="8731"/>
                  <a:pt x="15367" y="8763"/>
                </a:cubicBezTo>
                <a:cubicBezTo>
                  <a:pt x="15414" y="8789"/>
                  <a:pt x="15440" y="8816"/>
                  <a:pt x="15494" y="8826"/>
                </a:cubicBezTo>
                <a:cubicBezTo>
                  <a:pt x="15558" y="8838"/>
                  <a:pt x="15604" y="8807"/>
                  <a:pt x="15653" y="8795"/>
                </a:cubicBezTo>
                <a:cubicBezTo>
                  <a:pt x="15714" y="8780"/>
                  <a:pt x="15761" y="8763"/>
                  <a:pt x="15812" y="8731"/>
                </a:cubicBezTo>
                <a:cubicBezTo>
                  <a:pt x="15854" y="8705"/>
                  <a:pt x="15915" y="8649"/>
                  <a:pt x="15970" y="8668"/>
                </a:cubicBezTo>
                <a:cubicBezTo>
                  <a:pt x="16033" y="8690"/>
                  <a:pt x="16088" y="8787"/>
                  <a:pt x="16129" y="8826"/>
                </a:cubicBezTo>
                <a:cubicBezTo>
                  <a:pt x="16175" y="8870"/>
                  <a:pt x="16201" y="8903"/>
                  <a:pt x="16256" y="8922"/>
                </a:cubicBezTo>
                <a:cubicBezTo>
                  <a:pt x="16356" y="8957"/>
                  <a:pt x="16344" y="8920"/>
                  <a:pt x="16446" y="8890"/>
                </a:cubicBezTo>
                <a:cubicBezTo>
                  <a:pt x="16532" y="8865"/>
                  <a:pt x="16560" y="8820"/>
                  <a:pt x="16637" y="8763"/>
                </a:cubicBezTo>
                <a:cubicBezTo>
                  <a:pt x="16697" y="8719"/>
                  <a:pt x="16746" y="8680"/>
                  <a:pt x="16828" y="8700"/>
                </a:cubicBezTo>
                <a:cubicBezTo>
                  <a:pt x="16889" y="8714"/>
                  <a:pt x="16946" y="8828"/>
                  <a:pt x="16986" y="8858"/>
                </a:cubicBezTo>
                <a:cubicBezTo>
                  <a:pt x="17061" y="8914"/>
                  <a:pt x="17114" y="8929"/>
                  <a:pt x="17208" y="8922"/>
                </a:cubicBezTo>
                <a:cubicBezTo>
                  <a:pt x="17277" y="8917"/>
                  <a:pt x="17336" y="8914"/>
                  <a:pt x="17399" y="8890"/>
                </a:cubicBezTo>
                <a:cubicBezTo>
                  <a:pt x="17497" y="8852"/>
                  <a:pt x="17532" y="8757"/>
                  <a:pt x="17621" y="8731"/>
                </a:cubicBezTo>
                <a:cubicBezTo>
                  <a:pt x="17692" y="8710"/>
                  <a:pt x="17758" y="8744"/>
                  <a:pt x="17812" y="8763"/>
                </a:cubicBezTo>
                <a:cubicBezTo>
                  <a:pt x="17866" y="8782"/>
                  <a:pt x="17912" y="8849"/>
                  <a:pt x="17970" y="8858"/>
                </a:cubicBezTo>
                <a:cubicBezTo>
                  <a:pt x="18068" y="8874"/>
                  <a:pt x="18176" y="8857"/>
                  <a:pt x="18256" y="8826"/>
                </a:cubicBezTo>
                <a:cubicBezTo>
                  <a:pt x="18351" y="8789"/>
                  <a:pt x="18475" y="8658"/>
                  <a:pt x="18542" y="8636"/>
                </a:cubicBezTo>
                <a:cubicBezTo>
                  <a:pt x="18613" y="8612"/>
                  <a:pt x="18702" y="8640"/>
                  <a:pt x="18764" y="8668"/>
                </a:cubicBezTo>
                <a:cubicBezTo>
                  <a:pt x="18821" y="8694"/>
                  <a:pt x="18888" y="8790"/>
                  <a:pt x="18955" y="8795"/>
                </a:cubicBezTo>
                <a:cubicBezTo>
                  <a:pt x="19052" y="8803"/>
                  <a:pt x="19090" y="8754"/>
                  <a:pt x="19177" y="8731"/>
                </a:cubicBezTo>
                <a:cubicBezTo>
                  <a:pt x="19266" y="8707"/>
                  <a:pt x="19342" y="8666"/>
                  <a:pt x="19431" y="8636"/>
                </a:cubicBezTo>
                <a:cubicBezTo>
                  <a:pt x="19526" y="8604"/>
                  <a:pt x="19560" y="8588"/>
                  <a:pt x="19653" y="8636"/>
                </a:cubicBezTo>
                <a:cubicBezTo>
                  <a:pt x="19709" y="8665"/>
                  <a:pt x="19753" y="8738"/>
                  <a:pt x="19812" y="8763"/>
                </a:cubicBezTo>
                <a:cubicBezTo>
                  <a:pt x="19888" y="8795"/>
                  <a:pt x="19950" y="8802"/>
                  <a:pt x="20034" y="8795"/>
                </a:cubicBezTo>
                <a:cubicBezTo>
                  <a:pt x="20131" y="8787"/>
                  <a:pt x="20255" y="8752"/>
                  <a:pt x="20352" y="8731"/>
                </a:cubicBezTo>
                <a:cubicBezTo>
                  <a:pt x="20438" y="8712"/>
                  <a:pt x="20515" y="8702"/>
                  <a:pt x="20606" y="8700"/>
                </a:cubicBezTo>
                <a:cubicBezTo>
                  <a:pt x="20669" y="8698"/>
                  <a:pt x="20733" y="8700"/>
                  <a:pt x="20796" y="8700"/>
                </a:cubicBezTo>
              </a:path>
              <a:path w="10764" h="4319">
                <a:moveTo>
                  <a:pt x="17399" y="9017"/>
                </a:moveTo>
                <a:cubicBezTo>
                  <a:pt x="17399" y="9070"/>
                  <a:pt x="17390" y="9101"/>
                  <a:pt x="17367" y="9144"/>
                </a:cubicBezTo>
                <a:cubicBezTo>
                  <a:pt x="17328" y="9217"/>
                  <a:pt x="17251" y="9230"/>
                  <a:pt x="17208" y="9303"/>
                </a:cubicBezTo>
                <a:cubicBezTo>
                  <a:pt x="17172" y="9364"/>
                  <a:pt x="17081" y="9466"/>
                  <a:pt x="17018" y="9525"/>
                </a:cubicBezTo>
                <a:cubicBezTo>
                  <a:pt x="16962" y="9577"/>
                  <a:pt x="16916" y="9626"/>
                  <a:pt x="16859" y="9684"/>
                </a:cubicBezTo>
                <a:cubicBezTo>
                  <a:pt x="16828" y="9716"/>
                  <a:pt x="16818" y="9727"/>
                  <a:pt x="16796" y="9747"/>
                </a:cubicBezTo>
                <a:cubicBezTo>
                  <a:pt x="16844" y="9712"/>
                  <a:pt x="16862" y="9716"/>
                  <a:pt x="16923" y="9716"/>
                </a:cubicBezTo>
                <a:cubicBezTo>
                  <a:pt x="16978" y="9716"/>
                  <a:pt x="17034" y="9769"/>
                  <a:pt x="17082" y="9779"/>
                </a:cubicBezTo>
                <a:cubicBezTo>
                  <a:pt x="17158" y="9794"/>
                  <a:pt x="17232" y="9805"/>
                  <a:pt x="17304" y="9811"/>
                </a:cubicBezTo>
                <a:cubicBezTo>
                  <a:pt x="17366" y="9816"/>
                  <a:pt x="17431" y="9811"/>
                  <a:pt x="17494" y="9811"/>
                </a:cubicBezTo>
              </a:path>
              <a:path w="10764" h="4319">
                <a:moveTo>
                  <a:pt x="18447" y="9017"/>
                </a:moveTo>
                <a:cubicBezTo>
                  <a:pt x="18452" y="9039"/>
                  <a:pt x="18505" y="9139"/>
                  <a:pt x="18510" y="9144"/>
                </a:cubicBezTo>
                <a:cubicBezTo>
                  <a:pt x="18550" y="9184"/>
                  <a:pt x="18621" y="9156"/>
                  <a:pt x="18669" y="9176"/>
                </a:cubicBezTo>
                <a:cubicBezTo>
                  <a:pt x="18700" y="9189"/>
                  <a:pt x="18768" y="9193"/>
                  <a:pt x="18796" y="9208"/>
                </a:cubicBezTo>
                <a:cubicBezTo>
                  <a:pt x="18825" y="9224"/>
                  <a:pt x="18949" y="9246"/>
                  <a:pt x="18923" y="9303"/>
                </a:cubicBezTo>
                <a:cubicBezTo>
                  <a:pt x="18892" y="9371"/>
                  <a:pt x="18849" y="9410"/>
                  <a:pt x="18796" y="9462"/>
                </a:cubicBezTo>
                <a:cubicBezTo>
                  <a:pt x="18742" y="9515"/>
                  <a:pt x="18640" y="9605"/>
                  <a:pt x="18574" y="9652"/>
                </a:cubicBezTo>
                <a:cubicBezTo>
                  <a:pt x="18491" y="9711"/>
                  <a:pt x="18413" y="9765"/>
                  <a:pt x="18320" y="9811"/>
                </a:cubicBezTo>
                <a:cubicBezTo>
                  <a:pt x="18254" y="9844"/>
                  <a:pt x="18236" y="9859"/>
                  <a:pt x="18193" y="9874"/>
                </a:cubicBezTo>
              </a:path>
              <a:path w="10764" h="4319">
                <a:moveTo>
                  <a:pt x="19876" y="8954"/>
                </a:moveTo>
                <a:cubicBezTo>
                  <a:pt x="19868" y="8987"/>
                  <a:pt x="19849" y="9062"/>
                  <a:pt x="19812" y="9080"/>
                </a:cubicBezTo>
                <a:cubicBezTo>
                  <a:pt x="19757" y="9107"/>
                  <a:pt x="19707" y="9184"/>
                  <a:pt x="19653" y="9239"/>
                </a:cubicBezTo>
                <a:cubicBezTo>
                  <a:pt x="19605" y="9287"/>
                  <a:pt x="19590" y="9345"/>
                  <a:pt x="19526" y="9366"/>
                </a:cubicBezTo>
                <a:cubicBezTo>
                  <a:pt x="19502" y="9374"/>
                  <a:pt x="19441" y="9446"/>
                  <a:pt x="19431" y="9462"/>
                </a:cubicBezTo>
                <a:cubicBezTo>
                  <a:pt x="19431" y="9472"/>
                  <a:pt x="19431" y="9483"/>
                  <a:pt x="19431" y="9493"/>
                </a:cubicBezTo>
                <a:cubicBezTo>
                  <a:pt x="19595" y="9493"/>
                  <a:pt x="19753" y="9486"/>
                  <a:pt x="19907" y="9525"/>
                </a:cubicBezTo>
                <a:cubicBezTo>
                  <a:pt x="19963" y="9539"/>
                  <a:pt x="20014" y="9578"/>
                  <a:pt x="20034" y="9588"/>
                </a:cubicBezTo>
                <a:cubicBezTo>
                  <a:pt x="20045" y="9588"/>
                  <a:pt x="20055" y="9588"/>
                  <a:pt x="20066" y="9588"/>
                </a:cubicBezTo>
              </a:path>
              <a:path w="10764" h="4319">
                <a:moveTo>
                  <a:pt x="19494" y="9811"/>
                </a:moveTo>
                <a:cubicBezTo>
                  <a:pt x="19575" y="9811"/>
                  <a:pt x="19612" y="9792"/>
                  <a:pt x="19685" y="9779"/>
                </a:cubicBezTo>
                <a:cubicBezTo>
                  <a:pt x="19815" y="9756"/>
                  <a:pt x="19947" y="9790"/>
                  <a:pt x="20066" y="9811"/>
                </a:cubicBezTo>
                <a:cubicBezTo>
                  <a:pt x="20153" y="9826"/>
                  <a:pt x="20138" y="9806"/>
                  <a:pt x="20225" y="9842"/>
                </a:cubicBezTo>
              </a:path>
              <a:path w="10764" h="4319">
                <a:moveTo>
                  <a:pt x="20860" y="8858"/>
                </a:moveTo>
                <a:cubicBezTo>
                  <a:pt x="20870" y="8889"/>
                  <a:pt x="20872" y="8917"/>
                  <a:pt x="20892" y="8954"/>
                </a:cubicBezTo>
                <a:cubicBezTo>
                  <a:pt x="20919" y="9003"/>
                  <a:pt x="20999" y="9063"/>
                  <a:pt x="21050" y="9080"/>
                </a:cubicBezTo>
                <a:cubicBezTo>
                  <a:pt x="21111" y="9100"/>
                  <a:pt x="21210" y="9165"/>
                  <a:pt x="21272" y="9208"/>
                </a:cubicBezTo>
                <a:cubicBezTo>
                  <a:pt x="21317" y="9239"/>
                  <a:pt x="21407" y="9280"/>
                  <a:pt x="21431" y="9334"/>
                </a:cubicBezTo>
                <a:cubicBezTo>
                  <a:pt x="21431" y="9345"/>
                  <a:pt x="21431" y="9355"/>
                  <a:pt x="21431" y="9366"/>
                </a:cubicBezTo>
                <a:cubicBezTo>
                  <a:pt x="21361" y="9384"/>
                  <a:pt x="21339" y="9438"/>
                  <a:pt x="21272" y="9462"/>
                </a:cubicBezTo>
                <a:cubicBezTo>
                  <a:pt x="21205" y="9486"/>
                  <a:pt x="21123" y="9508"/>
                  <a:pt x="21050" y="9525"/>
                </a:cubicBezTo>
                <a:cubicBezTo>
                  <a:pt x="21032" y="9529"/>
                  <a:pt x="20901" y="9546"/>
                  <a:pt x="20892" y="9557"/>
                </a:cubicBezTo>
                <a:cubicBezTo>
                  <a:pt x="20892" y="9588"/>
                  <a:pt x="20892" y="9599"/>
                  <a:pt x="20860" y="9588"/>
                </a:cubicBezTo>
              </a:path>
              <a:path w="10764" h="4319">
                <a:moveTo>
                  <a:pt x="20860" y="9842"/>
                </a:moveTo>
                <a:cubicBezTo>
                  <a:pt x="20922" y="9842"/>
                  <a:pt x="20971" y="9820"/>
                  <a:pt x="21018" y="9811"/>
                </a:cubicBezTo>
                <a:cubicBezTo>
                  <a:pt x="21126" y="9790"/>
                  <a:pt x="21264" y="9792"/>
                  <a:pt x="21368" y="9779"/>
                </a:cubicBezTo>
                <a:cubicBezTo>
                  <a:pt x="21469" y="9766"/>
                  <a:pt x="21531" y="9802"/>
                  <a:pt x="21622" y="9811"/>
                </a:cubicBezTo>
                <a:cubicBezTo>
                  <a:pt x="21679" y="9817"/>
                  <a:pt x="21668" y="9806"/>
                  <a:pt x="21717" y="9842"/>
                </a:cubicBezTo>
              </a:path>
              <a:path w="10764" h="4319">
                <a:moveTo>
                  <a:pt x="23463" y="5810"/>
                </a:moveTo>
                <a:cubicBezTo>
                  <a:pt x="23463" y="6436"/>
                  <a:pt x="23464" y="7061"/>
                  <a:pt x="23495" y="7684"/>
                </a:cubicBezTo>
                <a:cubicBezTo>
                  <a:pt x="23509" y="7969"/>
                  <a:pt x="23513" y="8257"/>
                  <a:pt x="23527" y="8541"/>
                </a:cubicBezTo>
                <a:cubicBezTo>
                  <a:pt x="23539" y="8798"/>
                  <a:pt x="23569" y="9048"/>
                  <a:pt x="23590" y="9303"/>
                </a:cubicBezTo>
                <a:cubicBezTo>
                  <a:pt x="23602" y="9449"/>
                  <a:pt x="23594" y="9653"/>
                  <a:pt x="23558" y="9747"/>
                </a:cubicBezTo>
              </a:path>
              <a:path w="10764" h="4319">
                <a:moveTo>
                  <a:pt x="22066" y="7874"/>
                </a:moveTo>
                <a:cubicBezTo>
                  <a:pt x="22066" y="7885"/>
                  <a:pt x="22066" y="7895"/>
                  <a:pt x="22066" y="7906"/>
                </a:cubicBezTo>
              </a:path>
              <a:path w="10764" h="4319">
                <a:moveTo>
                  <a:pt x="22066" y="7874"/>
                </a:moveTo>
                <a:lnTo>
                  <a:pt x="22066" y="7874"/>
                </a:lnTo>
              </a:path>
              <a:path w="10764" h="4319">
                <a:moveTo>
                  <a:pt x="22225" y="7938"/>
                </a:moveTo>
                <a:cubicBezTo>
                  <a:pt x="22535" y="7938"/>
                  <a:pt x="22841" y="7928"/>
                  <a:pt x="23146" y="7906"/>
                </a:cubicBezTo>
                <a:cubicBezTo>
                  <a:pt x="23370" y="7890"/>
                  <a:pt x="23590" y="7860"/>
                  <a:pt x="23812" y="7842"/>
                </a:cubicBezTo>
                <a:cubicBezTo>
                  <a:pt x="24025" y="7825"/>
                  <a:pt x="24234" y="7810"/>
                  <a:pt x="24448" y="7810"/>
                </a:cubicBezTo>
                <a:cubicBezTo>
                  <a:pt x="24628" y="7810"/>
                  <a:pt x="24807" y="7810"/>
                  <a:pt x="24987" y="7810"/>
                </a:cubicBezTo>
                <a:cubicBezTo>
                  <a:pt x="24616" y="7810"/>
                  <a:pt x="24713" y="7813"/>
                  <a:pt x="25082" y="7779"/>
                </a:cubicBezTo>
              </a:path>
              <a:path w="10764" h="4319">
                <a:moveTo>
                  <a:pt x="22034" y="5906"/>
                </a:moveTo>
                <a:cubicBezTo>
                  <a:pt x="22056" y="5941"/>
                  <a:pt x="22066" y="5951"/>
                  <a:pt x="22098" y="6001"/>
                </a:cubicBezTo>
                <a:cubicBezTo>
                  <a:pt x="22132" y="6054"/>
                  <a:pt x="22151" y="6063"/>
                  <a:pt x="22193" y="6096"/>
                </a:cubicBezTo>
                <a:cubicBezTo>
                  <a:pt x="22258" y="6148"/>
                  <a:pt x="22292" y="6201"/>
                  <a:pt x="22352" y="6255"/>
                </a:cubicBezTo>
                <a:cubicBezTo>
                  <a:pt x="22429" y="6324"/>
                  <a:pt x="22522" y="6411"/>
                  <a:pt x="22606" y="6477"/>
                </a:cubicBezTo>
                <a:cubicBezTo>
                  <a:pt x="22703" y="6553"/>
                  <a:pt x="22821" y="6603"/>
                  <a:pt x="22924" y="6668"/>
                </a:cubicBezTo>
                <a:cubicBezTo>
                  <a:pt x="23062" y="6755"/>
                  <a:pt x="23177" y="6854"/>
                  <a:pt x="23304" y="6953"/>
                </a:cubicBezTo>
                <a:cubicBezTo>
                  <a:pt x="23437" y="7056"/>
                  <a:pt x="23586" y="7139"/>
                  <a:pt x="23717" y="7239"/>
                </a:cubicBezTo>
                <a:cubicBezTo>
                  <a:pt x="23848" y="7340"/>
                  <a:pt x="24000" y="7425"/>
                  <a:pt x="24130" y="7525"/>
                </a:cubicBezTo>
                <a:cubicBezTo>
                  <a:pt x="24260" y="7625"/>
                  <a:pt x="24373" y="7692"/>
                  <a:pt x="24511" y="7779"/>
                </a:cubicBezTo>
                <a:cubicBezTo>
                  <a:pt x="24610" y="7841"/>
                  <a:pt x="24703" y="7904"/>
                  <a:pt x="24797" y="7969"/>
                </a:cubicBezTo>
                <a:cubicBezTo>
                  <a:pt x="24854" y="8008"/>
                  <a:pt x="24904" y="8050"/>
                  <a:pt x="24956" y="8096"/>
                </a:cubicBezTo>
                <a:cubicBezTo>
                  <a:pt x="24987" y="8096"/>
                  <a:pt x="24997" y="8096"/>
                  <a:pt x="24956" y="8096"/>
                </a:cubicBezTo>
              </a:path>
              <a:path w="10764" h="4319">
                <a:moveTo>
                  <a:pt x="24702" y="5556"/>
                </a:moveTo>
                <a:cubicBezTo>
                  <a:pt x="24689" y="5650"/>
                  <a:pt x="24683" y="5719"/>
                  <a:pt x="24638" y="5810"/>
                </a:cubicBezTo>
                <a:cubicBezTo>
                  <a:pt x="24581" y="5924"/>
                  <a:pt x="24505" y="6039"/>
                  <a:pt x="24448" y="6160"/>
                </a:cubicBezTo>
                <a:cubicBezTo>
                  <a:pt x="24364" y="6337"/>
                  <a:pt x="24250" y="6497"/>
                  <a:pt x="24162" y="6668"/>
                </a:cubicBezTo>
                <a:cubicBezTo>
                  <a:pt x="24025" y="6935"/>
                  <a:pt x="23911" y="7222"/>
                  <a:pt x="23781" y="7493"/>
                </a:cubicBezTo>
                <a:cubicBezTo>
                  <a:pt x="23667" y="7731"/>
                  <a:pt x="23534" y="7965"/>
                  <a:pt x="23400" y="8192"/>
                </a:cubicBezTo>
                <a:cubicBezTo>
                  <a:pt x="23277" y="8400"/>
                  <a:pt x="23174" y="8623"/>
                  <a:pt x="23050" y="8826"/>
                </a:cubicBezTo>
                <a:cubicBezTo>
                  <a:pt x="22949" y="8991"/>
                  <a:pt x="22826" y="9157"/>
                  <a:pt x="22701" y="9303"/>
                </a:cubicBezTo>
                <a:cubicBezTo>
                  <a:pt x="22651" y="9361"/>
                  <a:pt x="22627" y="9397"/>
                  <a:pt x="22574" y="9462"/>
                </a:cubicBezTo>
                <a:cubicBezTo>
                  <a:pt x="22563" y="9472"/>
                  <a:pt x="22553" y="9483"/>
                  <a:pt x="22542" y="9493"/>
                </a:cubicBezTo>
              </a:path>
              <a:path w="10764" h="4319">
                <a:moveTo>
                  <a:pt x="22034" y="6477"/>
                </a:moveTo>
                <a:cubicBezTo>
                  <a:pt x="22059" y="6575"/>
                  <a:pt x="22090" y="6689"/>
                  <a:pt x="22098" y="6794"/>
                </a:cubicBezTo>
                <a:cubicBezTo>
                  <a:pt x="22116" y="7039"/>
                  <a:pt x="22130" y="7278"/>
                  <a:pt x="22130" y="7525"/>
                </a:cubicBezTo>
                <a:cubicBezTo>
                  <a:pt x="22130" y="7807"/>
                  <a:pt x="22164" y="8102"/>
                  <a:pt x="22193" y="8382"/>
                </a:cubicBezTo>
                <a:cubicBezTo>
                  <a:pt x="22214" y="8584"/>
                  <a:pt x="22256" y="8788"/>
                  <a:pt x="22288" y="8985"/>
                </a:cubicBezTo>
                <a:cubicBezTo>
                  <a:pt x="22288" y="9038"/>
                  <a:pt x="22288" y="9070"/>
                  <a:pt x="22288" y="9017"/>
                </a:cubicBezTo>
                <a:cubicBezTo>
                  <a:pt x="22266" y="8847"/>
                  <a:pt x="22252" y="8679"/>
                  <a:pt x="22225" y="8509"/>
                </a:cubicBezTo>
                <a:cubicBezTo>
                  <a:pt x="22167" y="8149"/>
                  <a:pt x="22167" y="7762"/>
                  <a:pt x="22162" y="7398"/>
                </a:cubicBezTo>
                <a:cubicBezTo>
                  <a:pt x="22158" y="7129"/>
                  <a:pt x="22204" y="6870"/>
                  <a:pt x="22225" y="6604"/>
                </a:cubicBezTo>
                <a:cubicBezTo>
                  <a:pt x="22234" y="6495"/>
                  <a:pt x="22239" y="6400"/>
                  <a:pt x="22320" y="6318"/>
                </a:cubicBezTo>
                <a:cubicBezTo>
                  <a:pt x="22331" y="6318"/>
                  <a:pt x="22341" y="6318"/>
                  <a:pt x="22352" y="6318"/>
                </a:cubicBezTo>
                <a:cubicBezTo>
                  <a:pt x="22381" y="6428"/>
                  <a:pt x="22435" y="6572"/>
                  <a:pt x="22447" y="6699"/>
                </a:cubicBezTo>
                <a:cubicBezTo>
                  <a:pt x="22471" y="6963"/>
                  <a:pt x="22458" y="7229"/>
                  <a:pt x="22479" y="7493"/>
                </a:cubicBezTo>
                <a:cubicBezTo>
                  <a:pt x="22506" y="7830"/>
                  <a:pt x="22534" y="8170"/>
                  <a:pt x="22542" y="8509"/>
                </a:cubicBezTo>
                <a:cubicBezTo>
                  <a:pt x="22545" y="8632"/>
                  <a:pt x="22559" y="8725"/>
                  <a:pt x="22542" y="8826"/>
                </a:cubicBezTo>
                <a:cubicBezTo>
                  <a:pt x="22542" y="8663"/>
                  <a:pt x="22515" y="8512"/>
                  <a:pt x="22511" y="8350"/>
                </a:cubicBezTo>
                <a:cubicBezTo>
                  <a:pt x="22504" y="8022"/>
                  <a:pt x="22499" y="7691"/>
                  <a:pt x="22542" y="7366"/>
                </a:cubicBezTo>
                <a:cubicBezTo>
                  <a:pt x="22571" y="7151"/>
                  <a:pt x="22606" y="6938"/>
                  <a:pt x="22670" y="6731"/>
                </a:cubicBezTo>
                <a:cubicBezTo>
                  <a:pt x="22706" y="6613"/>
                  <a:pt x="22724" y="6674"/>
                  <a:pt x="22733" y="6668"/>
                </a:cubicBezTo>
                <a:cubicBezTo>
                  <a:pt x="22775" y="6846"/>
                  <a:pt x="22793" y="7021"/>
                  <a:pt x="22796" y="7207"/>
                </a:cubicBezTo>
                <a:cubicBezTo>
                  <a:pt x="22805" y="7662"/>
                  <a:pt x="22796" y="8117"/>
                  <a:pt x="22796" y="8572"/>
                </a:cubicBezTo>
                <a:cubicBezTo>
                  <a:pt x="22785" y="8527"/>
                  <a:pt x="22765" y="8410"/>
                  <a:pt x="22765" y="8318"/>
                </a:cubicBezTo>
                <a:cubicBezTo>
                  <a:pt x="22765" y="8107"/>
                  <a:pt x="22768" y="7892"/>
                  <a:pt x="22796" y="7684"/>
                </a:cubicBezTo>
                <a:cubicBezTo>
                  <a:pt x="22817" y="7525"/>
                  <a:pt x="22859" y="7353"/>
                  <a:pt x="22924" y="7207"/>
                </a:cubicBezTo>
                <a:cubicBezTo>
                  <a:pt x="22978" y="7086"/>
                  <a:pt x="22963" y="7160"/>
                  <a:pt x="23019" y="7144"/>
                </a:cubicBezTo>
                <a:cubicBezTo>
                  <a:pt x="23040" y="7251"/>
                  <a:pt x="23050" y="7347"/>
                  <a:pt x="23050" y="7461"/>
                </a:cubicBezTo>
                <a:cubicBezTo>
                  <a:pt x="23050" y="7715"/>
                  <a:pt x="23050" y="7969"/>
                  <a:pt x="23050" y="8223"/>
                </a:cubicBezTo>
                <a:cubicBezTo>
                  <a:pt x="23050" y="8122"/>
                  <a:pt x="23073" y="8034"/>
                  <a:pt x="23082" y="7938"/>
                </a:cubicBezTo>
                <a:cubicBezTo>
                  <a:pt x="23099" y="7756"/>
                  <a:pt x="23107" y="7577"/>
                  <a:pt x="23146" y="7398"/>
                </a:cubicBezTo>
                <a:cubicBezTo>
                  <a:pt x="23172" y="7277"/>
                  <a:pt x="23210" y="7210"/>
                  <a:pt x="23273" y="7112"/>
                </a:cubicBezTo>
                <a:cubicBezTo>
                  <a:pt x="23273" y="7297"/>
                  <a:pt x="23256" y="7471"/>
                  <a:pt x="23241" y="7652"/>
                </a:cubicBezTo>
                <a:cubicBezTo>
                  <a:pt x="23231" y="7770"/>
                  <a:pt x="23249" y="7872"/>
                  <a:pt x="23273" y="7969"/>
                </a:cubicBezTo>
                <a:cubicBezTo>
                  <a:pt x="23316" y="7839"/>
                  <a:pt x="23335" y="7718"/>
                  <a:pt x="23368" y="7588"/>
                </a:cubicBezTo>
                <a:cubicBezTo>
                  <a:pt x="23392" y="7491"/>
                  <a:pt x="23418" y="7373"/>
                  <a:pt x="23495" y="7302"/>
                </a:cubicBezTo>
                <a:cubicBezTo>
                  <a:pt x="23524" y="7275"/>
                  <a:pt x="23542" y="7263"/>
                  <a:pt x="23558" y="7366"/>
                </a:cubicBezTo>
                <a:cubicBezTo>
                  <a:pt x="23576" y="7485"/>
                  <a:pt x="23550" y="7606"/>
                  <a:pt x="23527" y="7715"/>
                </a:cubicBezTo>
                <a:cubicBezTo>
                  <a:pt x="23527" y="7726"/>
                  <a:pt x="23527" y="7736"/>
                  <a:pt x="23527" y="7747"/>
                </a:cubicBezTo>
                <a:cubicBezTo>
                  <a:pt x="23537" y="7728"/>
                  <a:pt x="23573" y="7672"/>
                  <a:pt x="23590" y="7620"/>
                </a:cubicBezTo>
                <a:cubicBezTo>
                  <a:pt x="23618" y="7532"/>
                  <a:pt x="23642" y="7454"/>
                  <a:pt x="23686" y="7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ing Systems by Grap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ake sure PLOTS is of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ut in equ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- Inters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 ENTER 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324480" y="3352680"/>
            <a:ext cx="28195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2x -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x 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Ink 5"/>
          <p:cNvSpPr/>
          <p:nvPr/>
        </p:nvSpPr>
        <p:spPr>
          <a:xfrm>
            <a:off x="663480" y="1692360"/>
            <a:ext cx="789120" cy="639720"/>
          </a:xfrm>
          <a:custGeom>
            <a:avLst/>
            <a:gdLst/>
            <a:ahLst/>
            <a:rect l="l" t="t" r="r" b="b"/>
            <a:pathLst>
              <a:path w="2191" h="1779">
                <a:moveTo>
                  <a:pt x="2032" y="4826"/>
                </a:moveTo>
                <a:cubicBezTo>
                  <a:pt x="2032" y="4899"/>
                  <a:pt x="2011" y="4949"/>
                  <a:pt x="2000" y="5016"/>
                </a:cubicBezTo>
                <a:cubicBezTo>
                  <a:pt x="1983" y="5119"/>
                  <a:pt x="1973" y="5231"/>
                  <a:pt x="1968" y="5334"/>
                </a:cubicBezTo>
                <a:cubicBezTo>
                  <a:pt x="1963" y="5434"/>
                  <a:pt x="1948" y="5527"/>
                  <a:pt x="1937" y="5620"/>
                </a:cubicBezTo>
                <a:cubicBezTo>
                  <a:pt x="1923" y="5738"/>
                  <a:pt x="1934" y="5854"/>
                  <a:pt x="1905" y="5969"/>
                </a:cubicBezTo>
                <a:cubicBezTo>
                  <a:pt x="1877" y="6078"/>
                  <a:pt x="1895" y="6179"/>
                  <a:pt x="1873" y="6286"/>
                </a:cubicBezTo>
                <a:cubicBezTo>
                  <a:pt x="1861" y="6348"/>
                  <a:pt x="1842" y="6401"/>
                  <a:pt x="1842" y="6477"/>
                </a:cubicBezTo>
                <a:cubicBezTo>
                  <a:pt x="1894" y="6470"/>
                  <a:pt x="1923" y="6465"/>
                  <a:pt x="1968" y="6445"/>
                </a:cubicBezTo>
                <a:cubicBezTo>
                  <a:pt x="2033" y="6416"/>
                  <a:pt x="2046" y="6387"/>
                  <a:pt x="2127" y="6382"/>
                </a:cubicBezTo>
                <a:cubicBezTo>
                  <a:pt x="2219" y="6377"/>
                  <a:pt x="2276" y="6350"/>
                  <a:pt x="2381" y="6350"/>
                </a:cubicBezTo>
                <a:cubicBezTo>
                  <a:pt x="2496" y="6350"/>
                  <a:pt x="2587" y="6322"/>
                  <a:pt x="2699" y="6318"/>
                </a:cubicBezTo>
                <a:cubicBezTo>
                  <a:pt x="2977" y="6307"/>
                  <a:pt x="3252" y="6318"/>
                  <a:pt x="3524" y="6286"/>
                </a:cubicBezTo>
                <a:cubicBezTo>
                  <a:pt x="3651" y="6271"/>
                  <a:pt x="3792" y="6273"/>
                  <a:pt x="3905" y="6255"/>
                </a:cubicBezTo>
                <a:cubicBezTo>
                  <a:pt x="3916" y="6255"/>
                  <a:pt x="3926" y="6255"/>
                  <a:pt x="3937" y="6255"/>
                </a:cubicBezTo>
                <a:cubicBezTo>
                  <a:pt x="3911" y="6187"/>
                  <a:pt x="3905" y="6150"/>
                  <a:pt x="3905" y="6064"/>
                </a:cubicBezTo>
                <a:cubicBezTo>
                  <a:pt x="3905" y="5919"/>
                  <a:pt x="3921" y="5791"/>
                  <a:pt x="3937" y="5652"/>
                </a:cubicBezTo>
                <a:cubicBezTo>
                  <a:pt x="3948" y="5556"/>
                  <a:pt x="3965" y="5459"/>
                  <a:pt x="3969" y="5366"/>
                </a:cubicBezTo>
                <a:cubicBezTo>
                  <a:pt x="3974" y="5251"/>
                  <a:pt x="4018" y="5154"/>
                  <a:pt x="4032" y="5048"/>
                </a:cubicBezTo>
                <a:cubicBezTo>
                  <a:pt x="4048" y="4928"/>
                  <a:pt x="4034" y="4800"/>
                  <a:pt x="4000" y="4699"/>
                </a:cubicBezTo>
                <a:cubicBezTo>
                  <a:pt x="3953" y="4723"/>
                  <a:pt x="3928" y="4750"/>
                  <a:pt x="3874" y="4762"/>
                </a:cubicBezTo>
                <a:cubicBezTo>
                  <a:pt x="3676" y="4805"/>
                  <a:pt x="3430" y="4752"/>
                  <a:pt x="3238" y="4731"/>
                </a:cubicBezTo>
                <a:cubicBezTo>
                  <a:pt x="3028" y="4708"/>
                  <a:pt x="2804" y="4738"/>
                  <a:pt x="2604" y="4762"/>
                </a:cubicBezTo>
                <a:cubicBezTo>
                  <a:pt x="2474" y="4778"/>
                  <a:pt x="2347" y="4773"/>
                  <a:pt x="2222" y="4794"/>
                </a:cubicBezTo>
                <a:cubicBezTo>
                  <a:pt x="2169" y="4794"/>
                  <a:pt x="2159" y="4794"/>
                  <a:pt x="2127" y="47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Ink 6"/>
          <p:cNvSpPr/>
          <p:nvPr/>
        </p:nvSpPr>
        <p:spPr>
          <a:xfrm>
            <a:off x="6469200" y="3817800"/>
            <a:ext cx="1657080" cy="79560"/>
          </a:xfrm>
          <a:custGeom>
            <a:avLst/>
            <a:gdLst/>
            <a:ahLst/>
            <a:rect l="l" t="t" r="r" b="b"/>
            <a:pathLst>
              <a:path w="4605" h="224">
                <a:moveTo>
                  <a:pt x="17970" y="10827"/>
                </a:moveTo>
                <a:cubicBezTo>
                  <a:pt x="17981" y="10821"/>
                  <a:pt x="18031" y="10777"/>
                  <a:pt x="18066" y="10763"/>
                </a:cubicBezTo>
                <a:cubicBezTo>
                  <a:pt x="18115" y="10743"/>
                  <a:pt x="18173" y="10746"/>
                  <a:pt x="18224" y="10732"/>
                </a:cubicBezTo>
                <a:cubicBezTo>
                  <a:pt x="18320" y="10705"/>
                  <a:pt x="18411" y="10716"/>
                  <a:pt x="18510" y="10700"/>
                </a:cubicBezTo>
                <a:cubicBezTo>
                  <a:pt x="18621" y="10682"/>
                  <a:pt x="18745" y="10647"/>
                  <a:pt x="18860" y="10636"/>
                </a:cubicBezTo>
                <a:cubicBezTo>
                  <a:pt x="19042" y="10619"/>
                  <a:pt x="19287" y="10595"/>
                  <a:pt x="19463" y="10604"/>
                </a:cubicBezTo>
                <a:cubicBezTo>
                  <a:pt x="19643" y="10613"/>
                  <a:pt x="19818" y="10636"/>
                  <a:pt x="20002" y="10636"/>
                </a:cubicBezTo>
                <a:cubicBezTo>
                  <a:pt x="20192" y="10636"/>
                  <a:pt x="20388" y="10639"/>
                  <a:pt x="20574" y="10668"/>
                </a:cubicBezTo>
                <a:cubicBezTo>
                  <a:pt x="20803" y="10703"/>
                  <a:pt x="21040" y="10726"/>
                  <a:pt x="21272" y="10732"/>
                </a:cubicBezTo>
                <a:cubicBezTo>
                  <a:pt x="21434" y="10736"/>
                  <a:pt x="21589" y="10758"/>
                  <a:pt x="21749" y="10763"/>
                </a:cubicBezTo>
                <a:cubicBezTo>
                  <a:pt x="21893" y="10767"/>
                  <a:pt x="22022" y="10790"/>
                  <a:pt x="22162" y="10795"/>
                </a:cubicBezTo>
                <a:cubicBezTo>
                  <a:pt x="22295" y="10800"/>
                  <a:pt x="22427" y="10808"/>
                  <a:pt x="22542" y="10827"/>
                </a:cubicBezTo>
                <a:cubicBezTo>
                  <a:pt x="22553" y="10827"/>
                  <a:pt x="22563" y="10827"/>
                  <a:pt x="22574" y="108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Ink 7"/>
          <p:cNvSpPr/>
          <p:nvPr/>
        </p:nvSpPr>
        <p:spPr>
          <a:xfrm>
            <a:off x="5851440" y="3486240"/>
            <a:ext cx="252360" cy="411120"/>
          </a:xfrm>
          <a:custGeom>
            <a:avLst/>
            <a:gdLst/>
            <a:ahLst/>
            <a:rect l="l" t="t" r="r" b="b"/>
            <a:pathLst>
              <a:path w="699" h="1144">
                <a:moveTo>
                  <a:pt x="16288" y="9684"/>
                </a:moveTo>
                <a:cubicBezTo>
                  <a:pt x="16288" y="9797"/>
                  <a:pt x="16272" y="9892"/>
                  <a:pt x="16256" y="10001"/>
                </a:cubicBezTo>
                <a:cubicBezTo>
                  <a:pt x="16241" y="10106"/>
                  <a:pt x="16280" y="10189"/>
                  <a:pt x="16288" y="10287"/>
                </a:cubicBezTo>
                <a:cubicBezTo>
                  <a:pt x="16288" y="10323"/>
                  <a:pt x="16291" y="10337"/>
                  <a:pt x="16320" y="10350"/>
                </a:cubicBezTo>
                <a:cubicBezTo>
                  <a:pt x="16403" y="10350"/>
                  <a:pt x="16406" y="10331"/>
                  <a:pt x="16446" y="10255"/>
                </a:cubicBezTo>
                <a:cubicBezTo>
                  <a:pt x="16503" y="10147"/>
                  <a:pt x="16557" y="10050"/>
                  <a:pt x="16605" y="9938"/>
                </a:cubicBezTo>
                <a:cubicBezTo>
                  <a:pt x="16628" y="9884"/>
                  <a:pt x="16656" y="9861"/>
                  <a:pt x="16669" y="9811"/>
                </a:cubicBezTo>
                <a:cubicBezTo>
                  <a:pt x="16669" y="9905"/>
                  <a:pt x="16648" y="9975"/>
                  <a:pt x="16637" y="10065"/>
                </a:cubicBezTo>
                <a:cubicBezTo>
                  <a:pt x="16622" y="10191"/>
                  <a:pt x="16619" y="10322"/>
                  <a:pt x="16605" y="10446"/>
                </a:cubicBezTo>
                <a:cubicBezTo>
                  <a:pt x="16591" y="10573"/>
                  <a:pt x="16607" y="10624"/>
                  <a:pt x="16542" y="10732"/>
                </a:cubicBezTo>
                <a:cubicBezTo>
                  <a:pt x="16512" y="10781"/>
                  <a:pt x="16490" y="10854"/>
                  <a:pt x="16415" y="10827"/>
                </a:cubicBezTo>
                <a:cubicBezTo>
                  <a:pt x="16383" y="10815"/>
                  <a:pt x="16300" y="10741"/>
                  <a:pt x="16288" y="10700"/>
                </a:cubicBezTo>
                <a:cubicBezTo>
                  <a:pt x="16288" y="10634"/>
                  <a:pt x="16289" y="10610"/>
                  <a:pt x="16320" y="10573"/>
                </a:cubicBezTo>
              </a:path>
              <a:path w="699" h="1144">
                <a:moveTo>
                  <a:pt x="16923" y="10350"/>
                </a:moveTo>
                <a:cubicBezTo>
                  <a:pt x="16923" y="10429"/>
                  <a:pt x="16932" y="10431"/>
                  <a:pt x="16923" y="10509"/>
                </a:cubicBezTo>
                <a:cubicBezTo>
                  <a:pt x="16913" y="10598"/>
                  <a:pt x="16928" y="10582"/>
                  <a:pt x="16891" y="106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Ink 8"/>
          <p:cNvSpPr/>
          <p:nvPr/>
        </p:nvSpPr>
        <p:spPr>
          <a:xfrm>
            <a:off x="5886360" y="4264200"/>
            <a:ext cx="595440" cy="1771560"/>
          </a:xfrm>
          <a:custGeom>
            <a:avLst/>
            <a:gdLst/>
            <a:ahLst/>
            <a:rect l="l" t="t" r="r" b="b"/>
            <a:pathLst>
              <a:path w="1652" h="4922">
                <a:moveTo>
                  <a:pt x="16510" y="11843"/>
                </a:moveTo>
                <a:cubicBezTo>
                  <a:pt x="16476" y="11893"/>
                  <a:pt x="16429" y="11969"/>
                  <a:pt x="16415" y="12033"/>
                </a:cubicBezTo>
                <a:cubicBezTo>
                  <a:pt x="16390" y="12149"/>
                  <a:pt x="16383" y="12261"/>
                  <a:pt x="16383" y="12382"/>
                </a:cubicBezTo>
                <a:cubicBezTo>
                  <a:pt x="16383" y="12478"/>
                  <a:pt x="16363" y="12583"/>
                  <a:pt x="16415" y="12668"/>
                </a:cubicBezTo>
                <a:cubicBezTo>
                  <a:pt x="16464" y="12748"/>
                  <a:pt x="16508" y="12736"/>
                  <a:pt x="16574" y="12700"/>
                </a:cubicBezTo>
                <a:cubicBezTo>
                  <a:pt x="16667" y="12650"/>
                  <a:pt x="16738" y="12565"/>
                  <a:pt x="16796" y="12478"/>
                </a:cubicBezTo>
                <a:cubicBezTo>
                  <a:pt x="16844" y="12407"/>
                  <a:pt x="16882" y="12322"/>
                  <a:pt x="16923" y="12256"/>
                </a:cubicBezTo>
                <a:cubicBezTo>
                  <a:pt x="16933" y="12245"/>
                  <a:pt x="16944" y="12235"/>
                  <a:pt x="16954" y="12224"/>
                </a:cubicBezTo>
                <a:cubicBezTo>
                  <a:pt x="16945" y="12299"/>
                  <a:pt x="16919" y="12342"/>
                  <a:pt x="16891" y="12414"/>
                </a:cubicBezTo>
                <a:cubicBezTo>
                  <a:pt x="16844" y="12533"/>
                  <a:pt x="16832" y="12669"/>
                  <a:pt x="16796" y="12795"/>
                </a:cubicBezTo>
                <a:cubicBezTo>
                  <a:pt x="16753" y="12946"/>
                  <a:pt x="16742" y="13092"/>
                  <a:pt x="16700" y="13240"/>
                </a:cubicBezTo>
                <a:cubicBezTo>
                  <a:pt x="16679" y="13314"/>
                  <a:pt x="16667" y="13518"/>
                  <a:pt x="16605" y="13557"/>
                </a:cubicBezTo>
                <a:cubicBezTo>
                  <a:pt x="16595" y="13557"/>
                  <a:pt x="16584" y="13557"/>
                  <a:pt x="16574" y="13557"/>
                </a:cubicBezTo>
                <a:cubicBezTo>
                  <a:pt x="16512" y="13523"/>
                  <a:pt x="16479" y="13511"/>
                  <a:pt x="16446" y="13430"/>
                </a:cubicBezTo>
                <a:cubicBezTo>
                  <a:pt x="16408" y="13337"/>
                  <a:pt x="16357" y="13242"/>
                  <a:pt x="16351" y="13144"/>
                </a:cubicBezTo>
                <a:cubicBezTo>
                  <a:pt x="16351" y="13123"/>
                  <a:pt x="16351" y="13102"/>
                  <a:pt x="16351" y="13081"/>
                </a:cubicBezTo>
              </a:path>
              <a:path w="1652" h="4922">
                <a:moveTo>
                  <a:pt x="17113" y="12700"/>
                </a:moveTo>
                <a:cubicBezTo>
                  <a:pt x="17156" y="12668"/>
                  <a:pt x="17189" y="12649"/>
                  <a:pt x="17240" y="12636"/>
                </a:cubicBezTo>
                <a:cubicBezTo>
                  <a:pt x="17240" y="12702"/>
                  <a:pt x="17230" y="12742"/>
                  <a:pt x="17208" y="12795"/>
                </a:cubicBezTo>
                <a:cubicBezTo>
                  <a:pt x="17181" y="12859"/>
                  <a:pt x="17123" y="12931"/>
                  <a:pt x="17082" y="12986"/>
                </a:cubicBezTo>
                <a:cubicBezTo>
                  <a:pt x="17050" y="13029"/>
                  <a:pt x="17031" y="13031"/>
                  <a:pt x="17018" y="13081"/>
                </a:cubicBezTo>
                <a:cubicBezTo>
                  <a:pt x="17059" y="13050"/>
                  <a:pt x="17127" y="13023"/>
                  <a:pt x="17177" y="13018"/>
                </a:cubicBezTo>
                <a:cubicBezTo>
                  <a:pt x="17213" y="13018"/>
                  <a:pt x="17226" y="13015"/>
                  <a:pt x="17240" y="12986"/>
                </a:cubicBezTo>
              </a:path>
              <a:path w="1652" h="4922">
                <a:moveTo>
                  <a:pt x="17970" y="16542"/>
                </a:moveTo>
                <a:cubicBezTo>
                  <a:pt x="17970" y="16638"/>
                  <a:pt x="17977" y="16691"/>
                  <a:pt x="18002" y="16764"/>
                </a:cubicBezTo>
              </a:path>
              <a:path w="1652" h="4922">
                <a:moveTo>
                  <a:pt x="17145" y="14256"/>
                </a:moveTo>
                <a:cubicBezTo>
                  <a:pt x="17113" y="14256"/>
                  <a:pt x="17102" y="14256"/>
                  <a:pt x="17113" y="14288"/>
                </a:cubicBezTo>
              </a:path>
              <a:path w="1652" h="4922">
                <a:moveTo>
                  <a:pt x="17145" y="14256"/>
                </a:moveTo>
                <a:cubicBezTo>
                  <a:pt x="17113" y="14309"/>
                  <a:pt x="17082" y="14361"/>
                  <a:pt x="17050" y="14414"/>
                </a:cubicBezTo>
              </a:path>
              <a:path w="1652" h="4922">
                <a:moveTo>
                  <a:pt x="17050" y="14414"/>
                </a:moveTo>
                <a:cubicBezTo>
                  <a:pt x="17032" y="14461"/>
                  <a:pt x="16995" y="14528"/>
                  <a:pt x="16986" y="14573"/>
                </a:cubicBezTo>
                <a:cubicBezTo>
                  <a:pt x="16962" y="14692"/>
                  <a:pt x="16923" y="14802"/>
                  <a:pt x="16891" y="14922"/>
                </a:cubicBezTo>
                <a:cubicBezTo>
                  <a:pt x="16844" y="15100"/>
                  <a:pt x="16858" y="15283"/>
                  <a:pt x="16828" y="15462"/>
                </a:cubicBezTo>
                <a:cubicBezTo>
                  <a:pt x="16806" y="15593"/>
                  <a:pt x="16771" y="15739"/>
                  <a:pt x="16796" y="15875"/>
                </a:cubicBezTo>
                <a:cubicBezTo>
                  <a:pt x="16814" y="15971"/>
                  <a:pt x="16825" y="16031"/>
                  <a:pt x="16891" y="16097"/>
                </a:cubicBezTo>
                <a:cubicBezTo>
                  <a:pt x="16932" y="16138"/>
                  <a:pt x="17022" y="16142"/>
                  <a:pt x="17082" y="16129"/>
                </a:cubicBezTo>
                <a:cubicBezTo>
                  <a:pt x="17157" y="16113"/>
                  <a:pt x="17204" y="16070"/>
                  <a:pt x="17272" y="16034"/>
                </a:cubicBezTo>
                <a:cubicBezTo>
                  <a:pt x="17343" y="15997"/>
                  <a:pt x="17416" y="15943"/>
                  <a:pt x="17462" y="15875"/>
                </a:cubicBezTo>
                <a:cubicBezTo>
                  <a:pt x="17508" y="15806"/>
                  <a:pt x="17494" y="15732"/>
                  <a:pt x="17494" y="15653"/>
                </a:cubicBezTo>
                <a:cubicBezTo>
                  <a:pt x="17494" y="15569"/>
                  <a:pt x="17449" y="15497"/>
                  <a:pt x="17399" y="15430"/>
                </a:cubicBezTo>
                <a:cubicBezTo>
                  <a:pt x="17377" y="15401"/>
                  <a:pt x="17275" y="15363"/>
                  <a:pt x="17240" y="15367"/>
                </a:cubicBezTo>
                <a:cubicBezTo>
                  <a:pt x="17170" y="15375"/>
                  <a:pt x="17088" y="15437"/>
                  <a:pt x="17050" y="15494"/>
                </a:cubicBezTo>
                <a:cubicBezTo>
                  <a:pt x="16993" y="15579"/>
                  <a:pt x="16956" y="15684"/>
                  <a:pt x="16923" y="15780"/>
                </a:cubicBezTo>
                <a:cubicBezTo>
                  <a:pt x="16886" y="15888"/>
                  <a:pt x="16891" y="15984"/>
                  <a:pt x="16891" y="16097"/>
                </a:cubicBezTo>
                <a:cubicBezTo>
                  <a:pt x="16891" y="16155"/>
                  <a:pt x="16886" y="16171"/>
                  <a:pt x="16923" y="16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Ink 9"/>
          <p:cNvSpPr/>
          <p:nvPr/>
        </p:nvSpPr>
        <p:spPr>
          <a:xfrm>
            <a:off x="2536920" y="3268800"/>
            <a:ext cx="1784160" cy="571320"/>
          </a:xfrm>
          <a:custGeom>
            <a:avLst/>
            <a:gdLst/>
            <a:ahLst/>
            <a:rect l="l" t="t" r="r" b="b"/>
            <a:pathLst>
              <a:path w="4955" h="1589">
                <a:moveTo>
                  <a:pt x="7207" y="9271"/>
                </a:moveTo>
                <a:cubicBezTo>
                  <a:pt x="7189" y="9290"/>
                  <a:pt x="7206" y="9245"/>
                  <a:pt x="7176" y="9334"/>
                </a:cubicBezTo>
                <a:cubicBezTo>
                  <a:pt x="7152" y="9407"/>
                  <a:pt x="7156" y="9473"/>
                  <a:pt x="7144" y="9557"/>
                </a:cubicBezTo>
                <a:cubicBezTo>
                  <a:pt x="7128" y="9666"/>
                  <a:pt x="7115" y="9762"/>
                  <a:pt x="7112" y="9874"/>
                </a:cubicBezTo>
                <a:cubicBezTo>
                  <a:pt x="7109" y="9986"/>
                  <a:pt x="7090" y="10083"/>
                  <a:pt x="7080" y="10192"/>
                </a:cubicBezTo>
                <a:cubicBezTo>
                  <a:pt x="7071" y="10294"/>
                  <a:pt x="7057" y="10380"/>
                  <a:pt x="7048" y="10478"/>
                </a:cubicBezTo>
                <a:cubicBezTo>
                  <a:pt x="7044" y="10520"/>
                  <a:pt x="7051" y="10562"/>
                  <a:pt x="7048" y="10604"/>
                </a:cubicBezTo>
                <a:cubicBezTo>
                  <a:pt x="7095" y="10604"/>
                  <a:pt x="7098" y="10600"/>
                  <a:pt x="7144" y="10604"/>
                </a:cubicBezTo>
                <a:cubicBezTo>
                  <a:pt x="7216" y="10610"/>
                  <a:pt x="7310" y="10631"/>
                  <a:pt x="7366" y="10636"/>
                </a:cubicBezTo>
                <a:cubicBezTo>
                  <a:pt x="7520" y="10651"/>
                  <a:pt x="7667" y="10621"/>
                  <a:pt x="7810" y="10604"/>
                </a:cubicBezTo>
                <a:cubicBezTo>
                  <a:pt x="7922" y="10590"/>
                  <a:pt x="8051" y="10582"/>
                  <a:pt x="8160" y="10573"/>
                </a:cubicBezTo>
                <a:cubicBezTo>
                  <a:pt x="8564" y="10541"/>
                  <a:pt x="9002" y="10561"/>
                  <a:pt x="9398" y="10604"/>
                </a:cubicBezTo>
                <a:cubicBezTo>
                  <a:pt x="9507" y="10616"/>
                  <a:pt x="9609" y="10614"/>
                  <a:pt x="9716" y="10636"/>
                </a:cubicBezTo>
                <a:cubicBezTo>
                  <a:pt x="9794" y="10652"/>
                  <a:pt x="9857" y="10663"/>
                  <a:pt x="9938" y="10668"/>
                </a:cubicBezTo>
                <a:cubicBezTo>
                  <a:pt x="9949" y="10668"/>
                  <a:pt x="9959" y="10668"/>
                  <a:pt x="9970" y="10668"/>
                </a:cubicBezTo>
                <a:cubicBezTo>
                  <a:pt x="9954" y="10619"/>
                  <a:pt x="9946" y="10640"/>
                  <a:pt x="9938" y="10573"/>
                </a:cubicBezTo>
                <a:cubicBezTo>
                  <a:pt x="9920" y="10411"/>
                  <a:pt x="9951" y="10247"/>
                  <a:pt x="9970" y="10096"/>
                </a:cubicBezTo>
                <a:cubicBezTo>
                  <a:pt x="9992" y="9919"/>
                  <a:pt x="10038" y="9456"/>
                  <a:pt x="9938" y="9303"/>
                </a:cubicBezTo>
                <a:cubicBezTo>
                  <a:pt x="9920" y="9276"/>
                  <a:pt x="9839" y="9208"/>
                  <a:pt x="9811" y="9208"/>
                </a:cubicBezTo>
                <a:cubicBezTo>
                  <a:pt x="9791" y="9208"/>
                  <a:pt x="9677" y="9264"/>
                  <a:pt x="9652" y="9271"/>
                </a:cubicBezTo>
                <a:cubicBezTo>
                  <a:pt x="9593" y="9288"/>
                  <a:pt x="9524" y="9298"/>
                  <a:pt x="9462" y="9303"/>
                </a:cubicBezTo>
                <a:cubicBezTo>
                  <a:pt x="9258" y="9320"/>
                  <a:pt x="9057" y="9291"/>
                  <a:pt x="8858" y="9271"/>
                </a:cubicBezTo>
                <a:cubicBezTo>
                  <a:pt x="8722" y="9257"/>
                  <a:pt x="8582" y="9244"/>
                  <a:pt x="8446" y="9239"/>
                </a:cubicBezTo>
                <a:cubicBezTo>
                  <a:pt x="8306" y="9234"/>
                  <a:pt x="8175" y="9208"/>
                  <a:pt x="8033" y="9208"/>
                </a:cubicBezTo>
                <a:cubicBezTo>
                  <a:pt x="7849" y="9208"/>
                  <a:pt x="7668" y="9221"/>
                  <a:pt x="7493" y="9239"/>
                </a:cubicBezTo>
                <a:cubicBezTo>
                  <a:pt x="7400" y="9248"/>
                  <a:pt x="7301" y="9239"/>
                  <a:pt x="7207" y="9239"/>
                </a:cubicBezTo>
              </a:path>
              <a:path w="4955" h="1589">
                <a:moveTo>
                  <a:pt x="7620" y="9557"/>
                </a:moveTo>
                <a:cubicBezTo>
                  <a:pt x="7734" y="9557"/>
                  <a:pt x="7839" y="9556"/>
                  <a:pt x="7938" y="9588"/>
                </a:cubicBezTo>
                <a:cubicBezTo>
                  <a:pt x="7948" y="9588"/>
                  <a:pt x="7959" y="9588"/>
                  <a:pt x="7969" y="9588"/>
                </a:cubicBezTo>
                <a:cubicBezTo>
                  <a:pt x="7919" y="9639"/>
                  <a:pt x="7889" y="9696"/>
                  <a:pt x="7842" y="9747"/>
                </a:cubicBezTo>
                <a:cubicBezTo>
                  <a:pt x="7774" y="9821"/>
                  <a:pt x="7724" y="9898"/>
                  <a:pt x="7652" y="9970"/>
                </a:cubicBezTo>
                <a:cubicBezTo>
                  <a:pt x="7578" y="10044"/>
                  <a:pt x="7503" y="10117"/>
                  <a:pt x="7430" y="10192"/>
                </a:cubicBezTo>
                <a:cubicBezTo>
                  <a:pt x="7446" y="10141"/>
                  <a:pt x="7480" y="10158"/>
                  <a:pt x="7525" y="10128"/>
                </a:cubicBezTo>
                <a:cubicBezTo>
                  <a:pt x="7575" y="10094"/>
                  <a:pt x="7588" y="10096"/>
                  <a:pt x="7652" y="10096"/>
                </a:cubicBezTo>
                <a:cubicBezTo>
                  <a:pt x="7708" y="10096"/>
                  <a:pt x="7731" y="10144"/>
                  <a:pt x="7779" y="10160"/>
                </a:cubicBezTo>
                <a:cubicBezTo>
                  <a:pt x="7809" y="10170"/>
                  <a:pt x="7867" y="10214"/>
                  <a:pt x="7906" y="10192"/>
                </a:cubicBezTo>
                <a:cubicBezTo>
                  <a:pt x="7935" y="10163"/>
                  <a:pt x="7941" y="10153"/>
                  <a:pt x="7969" y="10160"/>
                </a:cubicBezTo>
              </a:path>
              <a:path w="4955" h="1589">
                <a:moveTo>
                  <a:pt x="8350" y="9684"/>
                </a:moveTo>
                <a:cubicBezTo>
                  <a:pt x="8330" y="9623"/>
                  <a:pt x="8288" y="9666"/>
                  <a:pt x="8255" y="9716"/>
                </a:cubicBezTo>
                <a:cubicBezTo>
                  <a:pt x="8196" y="9808"/>
                  <a:pt x="8114" y="9886"/>
                  <a:pt x="8096" y="10001"/>
                </a:cubicBezTo>
                <a:cubicBezTo>
                  <a:pt x="8083" y="10084"/>
                  <a:pt x="8085" y="10159"/>
                  <a:pt x="8128" y="10192"/>
                </a:cubicBezTo>
                <a:cubicBezTo>
                  <a:pt x="8165" y="10220"/>
                  <a:pt x="8275" y="10207"/>
                  <a:pt x="8318" y="10160"/>
                </a:cubicBezTo>
                <a:cubicBezTo>
                  <a:pt x="8384" y="10088"/>
                  <a:pt x="8441" y="10045"/>
                  <a:pt x="8446" y="9938"/>
                </a:cubicBezTo>
                <a:cubicBezTo>
                  <a:pt x="8448" y="9896"/>
                  <a:pt x="8452" y="9747"/>
                  <a:pt x="8414" y="9716"/>
                </a:cubicBezTo>
                <a:cubicBezTo>
                  <a:pt x="8393" y="9699"/>
                  <a:pt x="8284" y="9716"/>
                  <a:pt x="8255" y="9716"/>
                </a:cubicBezTo>
              </a:path>
              <a:path w="4955" h="1589">
                <a:moveTo>
                  <a:pt x="8668" y="9620"/>
                </a:moveTo>
                <a:cubicBezTo>
                  <a:pt x="8715" y="9644"/>
                  <a:pt x="8639" y="9689"/>
                  <a:pt x="8604" y="9747"/>
                </a:cubicBezTo>
                <a:cubicBezTo>
                  <a:pt x="8548" y="9840"/>
                  <a:pt x="8515" y="9958"/>
                  <a:pt x="8509" y="10065"/>
                </a:cubicBezTo>
                <a:cubicBezTo>
                  <a:pt x="8505" y="10138"/>
                  <a:pt x="8502" y="10140"/>
                  <a:pt x="8541" y="10192"/>
                </a:cubicBezTo>
                <a:cubicBezTo>
                  <a:pt x="8599" y="10180"/>
                  <a:pt x="8679" y="10163"/>
                  <a:pt x="8731" y="10128"/>
                </a:cubicBezTo>
                <a:cubicBezTo>
                  <a:pt x="8801" y="10081"/>
                  <a:pt x="8822" y="10018"/>
                  <a:pt x="8826" y="9938"/>
                </a:cubicBezTo>
                <a:cubicBezTo>
                  <a:pt x="8832" y="9827"/>
                  <a:pt x="8800" y="9830"/>
                  <a:pt x="8763" y="9747"/>
                </a:cubicBezTo>
                <a:cubicBezTo>
                  <a:pt x="8763" y="9711"/>
                  <a:pt x="8760" y="9698"/>
                  <a:pt x="8731" y="9684"/>
                </a:cubicBezTo>
                <a:cubicBezTo>
                  <a:pt x="8769" y="9671"/>
                  <a:pt x="8786" y="9622"/>
                  <a:pt x="8858" y="9652"/>
                </a:cubicBezTo>
                <a:cubicBezTo>
                  <a:pt x="8897" y="9669"/>
                  <a:pt x="8959" y="9706"/>
                  <a:pt x="8985" y="9747"/>
                </a:cubicBezTo>
                <a:cubicBezTo>
                  <a:pt x="9034" y="9824"/>
                  <a:pt x="9017" y="9913"/>
                  <a:pt x="9017" y="10001"/>
                </a:cubicBezTo>
                <a:cubicBezTo>
                  <a:pt x="9017" y="10058"/>
                  <a:pt x="9105" y="10174"/>
                  <a:pt x="9049" y="10160"/>
                </a:cubicBezTo>
                <a:cubicBezTo>
                  <a:pt x="9038" y="10149"/>
                  <a:pt x="9028" y="10139"/>
                  <a:pt x="9017" y="10128"/>
                </a:cubicBezTo>
                <a:cubicBezTo>
                  <a:pt x="9017" y="10042"/>
                  <a:pt x="9023" y="9953"/>
                  <a:pt x="9049" y="9874"/>
                </a:cubicBezTo>
                <a:cubicBezTo>
                  <a:pt x="9071" y="9808"/>
                  <a:pt x="9104" y="9724"/>
                  <a:pt x="9176" y="9716"/>
                </a:cubicBezTo>
                <a:cubicBezTo>
                  <a:pt x="9258" y="9707"/>
                  <a:pt x="9266" y="9733"/>
                  <a:pt x="9271" y="9811"/>
                </a:cubicBezTo>
                <a:cubicBezTo>
                  <a:pt x="9277" y="9916"/>
                  <a:pt x="9271" y="10023"/>
                  <a:pt x="9271" y="10128"/>
                </a:cubicBezTo>
                <a:cubicBezTo>
                  <a:pt x="9331" y="10089"/>
                  <a:pt x="9286" y="10020"/>
                  <a:pt x="9303" y="9938"/>
                </a:cubicBezTo>
                <a:cubicBezTo>
                  <a:pt x="9324" y="9841"/>
                  <a:pt x="9368" y="9753"/>
                  <a:pt x="9462" y="9716"/>
                </a:cubicBezTo>
                <a:cubicBezTo>
                  <a:pt x="9472" y="9716"/>
                  <a:pt x="9483" y="9716"/>
                  <a:pt x="9493" y="9716"/>
                </a:cubicBezTo>
                <a:cubicBezTo>
                  <a:pt x="9538" y="9775"/>
                  <a:pt x="9533" y="9805"/>
                  <a:pt x="9557" y="9874"/>
                </a:cubicBezTo>
                <a:cubicBezTo>
                  <a:pt x="9588" y="9963"/>
                  <a:pt x="9605" y="10069"/>
                  <a:pt x="9620" y="10160"/>
                </a:cubicBezTo>
                <a:cubicBezTo>
                  <a:pt x="9631" y="10225"/>
                  <a:pt x="9642" y="10302"/>
                  <a:pt x="9716" y="10319"/>
                </a:cubicBezTo>
                <a:cubicBezTo>
                  <a:pt x="9747" y="10319"/>
                  <a:pt x="9758" y="10319"/>
                  <a:pt x="9779" y="10319"/>
                </a:cubicBezTo>
              </a:path>
              <a:path w="4955" h="1589">
                <a:moveTo>
                  <a:pt x="10478" y="9239"/>
                </a:moveTo>
                <a:cubicBezTo>
                  <a:pt x="10478" y="9649"/>
                  <a:pt x="10509" y="10081"/>
                  <a:pt x="10446" y="10478"/>
                </a:cubicBezTo>
                <a:cubicBezTo>
                  <a:pt x="10433" y="10557"/>
                  <a:pt x="10471" y="10578"/>
                  <a:pt x="10478" y="10604"/>
                </a:cubicBezTo>
                <a:cubicBezTo>
                  <a:pt x="10478" y="10615"/>
                  <a:pt x="10478" y="10625"/>
                  <a:pt x="10478" y="10636"/>
                </a:cubicBezTo>
                <a:cubicBezTo>
                  <a:pt x="10534" y="10570"/>
                  <a:pt x="10506" y="10571"/>
                  <a:pt x="10604" y="10541"/>
                </a:cubicBezTo>
                <a:cubicBezTo>
                  <a:pt x="10673" y="10520"/>
                  <a:pt x="10722" y="10513"/>
                  <a:pt x="10795" y="10509"/>
                </a:cubicBezTo>
                <a:cubicBezTo>
                  <a:pt x="10892" y="10504"/>
                  <a:pt x="10981" y="10541"/>
                  <a:pt x="11081" y="10541"/>
                </a:cubicBezTo>
                <a:cubicBezTo>
                  <a:pt x="11215" y="10541"/>
                  <a:pt x="11337" y="10525"/>
                  <a:pt x="11462" y="10509"/>
                </a:cubicBezTo>
                <a:cubicBezTo>
                  <a:pt x="11525" y="10501"/>
                  <a:pt x="11723" y="10470"/>
                  <a:pt x="11779" y="10478"/>
                </a:cubicBezTo>
                <a:cubicBezTo>
                  <a:pt x="11853" y="10488"/>
                  <a:pt x="11807" y="10542"/>
                  <a:pt x="11811" y="10478"/>
                </a:cubicBezTo>
                <a:cubicBezTo>
                  <a:pt x="11816" y="10397"/>
                  <a:pt x="11833" y="10329"/>
                  <a:pt x="11843" y="10255"/>
                </a:cubicBezTo>
                <a:cubicBezTo>
                  <a:pt x="11863" y="10106"/>
                  <a:pt x="11868" y="9959"/>
                  <a:pt x="11906" y="9811"/>
                </a:cubicBezTo>
                <a:cubicBezTo>
                  <a:pt x="11940" y="9680"/>
                  <a:pt x="11956" y="9533"/>
                  <a:pt x="11970" y="9398"/>
                </a:cubicBezTo>
                <a:cubicBezTo>
                  <a:pt x="11978" y="9315"/>
                  <a:pt x="11979" y="9275"/>
                  <a:pt x="12002" y="9208"/>
                </a:cubicBezTo>
                <a:cubicBezTo>
                  <a:pt x="11991" y="9219"/>
                  <a:pt x="11938" y="9290"/>
                  <a:pt x="11906" y="9303"/>
                </a:cubicBezTo>
                <a:cubicBezTo>
                  <a:pt x="11801" y="9347"/>
                  <a:pt x="11644" y="9388"/>
                  <a:pt x="11525" y="9366"/>
                </a:cubicBezTo>
                <a:cubicBezTo>
                  <a:pt x="11377" y="9338"/>
                  <a:pt x="11228" y="9342"/>
                  <a:pt x="11081" y="9303"/>
                </a:cubicBezTo>
                <a:cubicBezTo>
                  <a:pt x="10948" y="9268"/>
                  <a:pt x="10831" y="9257"/>
                  <a:pt x="10700" y="9208"/>
                </a:cubicBezTo>
                <a:cubicBezTo>
                  <a:pt x="10605" y="9173"/>
                  <a:pt x="10522" y="9129"/>
                  <a:pt x="10446" y="9080"/>
                </a:cubicBezTo>
                <a:cubicBezTo>
                  <a:pt x="10414" y="9080"/>
                  <a:pt x="10403" y="9080"/>
                  <a:pt x="10446" y="9080"/>
                </a:cubicBezTo>
              </a:path>
              <a:path w="4955" h="1589">
                <a:moveTo>
                  <a:pt x="11144" y="9684"/>
                </a:moveTo>
                <a:cubicBezTo>
                  <a:pt x="11105" y="9748"/>
                  <a:pt x="11085" y="9825"/>
                  <a:pt x="11081" y="9906"/>
                </a:cubicBezTo>
                <a:cubicBezTo>
                  <a:pt x="11075" y="10015"/>
                  <a:pt x="11049" y="10108"/>
                  <a:pt x="11049" y="10224"/>
                </a:cubicBezTo>
                <a:cubicBezTo>
                  <a:pt x="11049" y="10274"/>
                  <a:pt x="11083" y="10365"/>
                  <a:pt x="11144" y="10382"/>
                </a:cubicBezTo>
                <a:cubicBezTo>
                  <a:pt x="11222" y="10404"/>
                  <a:pt x="11353" y="10307"/>
                  <a:pt x="11398" y="10255"/>
                </a:cubicBezTo>
                <a:cubicBezTo>
                  <a:pt x="11432" y="10216"/>
                  <a:pt x="11512" y="10085"/>
                  <a:pt x="11494" y="10033"/>
                </a:cubicBezTo>
                <a:cubicBezTo>
                  <a:pt x="11475" y="9976"/>
                  <a:pt x="11429" y="9949"/>
                  <a:pt x="11366" y="9970"/>
                </a:cubicBezTo>
                <a:cubicBezTo>
                  <a:pt x="11309" y="9989"/>
                  <a:pt x="11169" y="10100"/>
                  <a:pt x="11144" y="10160"/>
                </a:cubicBezTo>
                <a:cubicBezTo>
                  <a:pt x="11144" y="10224"/>
                  <a:pt x="11144" y="10245"/>
                  <a:pt x="11144" y="102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Ink 10"/>
          <p:cNvSpPr/>
          <p:nvPr/>
        </p:nvSpPr>
        <p:spPr>
          <a:xfrm>
            <a:off x="5635800" y="5143680"/>
            <a:ext cx="193680" cy="938160"/>
          </a:xfrm>
          <a:custGeom>
            <a:avLst/>
            <a:gdLst/>
            <a:ahLst/>
            <a:rect l="l" t="t" r="r" b="b"/>
            <a:pathLst>
              <a:path w="540" h="2604">
                <a:moveTo>
                  <a:pt x="16192" y="14288"/>
                </a:moveTo>
                <a:cubicBezTo>
                  <a:pt x="16148" y="14310"/>
                  <a:pt x="16103" y="14311"/>
                  <a:pt x="16066" y="14351"/>
                </a:cubicBezTo>
                <a:cubicBezTo>
                  <a:pt x="16036" y="14384"/>
                  <a:pt x="15989" y="14493"/>
                  <a:pt x="15970" y="14542"/>
                </a:cubicBezTo>
                <a:cubicBezTo>
                  <a:pt x="15903" y="14712"/>
                  <a:pt x="15816" y="14869"/>
                  <a:pt x="15780" y="15050"/>
                </a:cubicBezTo>
                <a:cubicBezTo>
                  <a:pt x="15736" y="15267"/>
                  <a:pt x="15671" y="15495"/>
                  <a:pt x="15653" y="15716"/>
                </a:cubicBezTo>
                <a:cubicBezTo>
                  <a:pt x="15635" y="15936"/>
                  <a:pt x="15646" y="16167"/>
                  <a:pt x="15684" y="16383"/>
                </a:cubicBezTo>
                <a:cubicBezTo>
                  <a:pt x="15719" y="16580"/>
                  <a:pt x="15784" y="16738"/>
                  <a:pt x="15907" y="168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Ink 11"/>
          <p:cNvSpPr/>
          <p:nvPr/>
        </p:nvSpPr>
        <p:spPr>
          <a:xfrm>
            <a:off x="7189920" y="5052960"/>
            <a:ext cx="239760" cy="1005120"/>
          </a:xfrm>
          <a:custGeom>
            <a:avLst/>
            <a:gdLst/>
            <a:ahLst/>
            <a:rect l="l" t="t" r="r" b="b"/>
            <a:pathLst>
              <a:path w="668" h="2795">
                <a:moveTo>
                  <a:pt x="20225" y="14065"/>
                </a:moveTo>
                <a:cubicBezTo>
                  <a:pt x="20254" y="14095"/>
                  <a:pt x="20232" y="14063"/>
                  <a:pt x="20256" y="14097"/>
                </a:cubicBezTo>
                <a:cubicBezTo>
                  <a:pt x="20309" y="14170"/>
                  <a:pt x="20379" y="14235"/>
                  <a:pt x="20415" y="14319"/>
                </a:cubicBezTo>
                <a:cubicBezTo>
                  <a:pt x="20476" y="14460"/>
                  <a:pt x="20535" y="14581"/>
                  <a:pt x="20574" y="14732"/>
                </a:cubicBezTo>
                <a:cubicBezTo>
                  <a:pt x="20627" y="14935"/>
                  <a:pt x="20658" y="15123"/>
                  <a:pt x="20638" y="15335"/>
                </a:cubicBezTo>
                <a:cubicBezTo>
                  <a:pt x="20614" y="15589"/>
                  <a:pt x="20571" y="15891"/>
                  <a:pt x="20479" y="16129"/>
                </a:cubicBezTo>
                <a:cubicBezTo>
                  <a:pt x="20390" y="16360"/>
                  <a:pt x="20291" y="16574"/>
                  <a:pt x="20130" y="16764"/>
                </a:cubicBezTo>
                <a:cubicBezTo>
                  <a:pt x="20065" y="16829"/>
                  <a:pt x="20042" y="16850"/>
                  <a:pt x="19971" y="168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Ink 12"/>
          <p:cNvSpPr/>
          <p:nvPr/>
        </p:nvSpPr>
        <p:spPr>
          <a:xfrm>
            <a:off x="6743880" y="5154480"/>
            <a:ext cx="263520" cy="538200"/>
          </a:xfrm>
          <a:custGeom>
            <a:avLst/>
            <a:gdLst/>
            <a:ahLst/>
            <a:rect l="l" t="t" r="r" b="b"/>
            <a:pathLst>
              <a:path w="732" h="1494">
                <a:moveTo>
                  <a:pt x="19368" y="14414"/>
                </a:moveTo>
                <a:cubicBezTo>
                  <a:pt x="19356" y="14380"/>
                  <a:pt x="19344" y="14356"/>
                  <a:pt x="19304" y="14351"/>
                </a:cubicBezTo>
                <a:cubicBezTo>
                  <a:pt x="19251" y="14344"/>
                  <a:pt x="19224" y="14322"/>
                  <a:pt x="19177" y="14319"/>
                </a:cubicBezTo>
                <a:cubicBezTo>
                  <a:pt x="19089" y="14313"/>
                  <a:pt x="19027" y="14329"/>
                  <a:pt x="18955" y="14351"/>
                </a:cubicBezTo>
                <a:cubicBezTo>
                  <a:pt x="18885" y="14372"/>
                  <a:pt x="18865" y="14409"/>
                  <a:pt x="18828" y="14478"/>
                </a:cubicBezTo>
                <a:cubicBezTo>
                  <a:pt x="18786" y="14557"/>
                  <a:pt x="18746" y="14647"/>
                  <a:pt x="18732" y="14732"/>
                </a:cubicBezTo>
                <a:cubicBezTo>
                  <a:pt x="18723" y="14788"/>
                  <a:pt x="18737" y="14878"/>
                  <a:pt x="18764" y="14922"/>
                </a:cubicBezTo>
                <a:cubicBezTo>
                  <a:pt x="18795" y="14973"/>
                  <a:pt x="18857" y="14980"/>
                  <a:pt x="18891" y="14954"/>
                </a:cubicBezTo>
                <a:cubicBezTo>
                  <a:pt x="18957" y="14902"/>
                  <a:pt x="19021" y="14858"/>
                  <a:pt x="19082" y="14796"/>
                </a:cubicBezTo>
                <a:cubicBezTo>
                  <a:pt x="19163" y="14715"/>
                  <a:pt x="19248" y="14642"/>
                  <a:pt x="19304" y="14542"/>
                </a:cubicBezTo>
                <a:cubicBezTo>
                  <a:pt x="19340" y="14478"/>
                  <a:pt x="19368" y="14454"/>
                  <a:pt x="19368" y="14383"/>
                </a:cubicBezTo>
                <a:cubicBezTo>
                  <a:pt x="19320" y="14367"/>
                  <a:pt x="19341" y="14351"/>
                  <a:pt x="19272" y="14351"/>
                </a:cubicBezTo>
                <a:cubicBezTo>
                  <a:pt x="19189" y="14351"/>
                  <a:pt x="19179" y="14361"/>
                  <a:pt x="19114" y="14383"/>
                </a:cubicBezTo>
                <a:cubicBezTo>
                  <a:pt x="19103" y="14383"/>
                  <a:pt x="19093" y="14383"/>
                  <a:pt x="19082" y="14383"/>
                </a:cubicBezTo>
              </a:path>
              <a:path w="732" h="1494">
                <a:moveTo>
                  <a:pt x="19050" y="14922"/>
                </a:moveTo>
                <a:cubicBezTo>
                  <a:pt x="18972" y="14922"/>
                  <a:pt x="18986" y="14958"/>
                  <a:pt x="18923" y="14986"/>
                </a:cubicBezTo>
                <a:cubicBezTo>
                  <a:pt x="18886" y="15002"/>
                  <a:pt x="18871" y="15039"/>
                  <a:pt x="18828" y="15081"/>
                </a:cubicBezTo>
                <a:cubicBezTo>
                  <a:pt x="18789" y="15119"/>
                  <a:pt x="18744" y="15225"/>
                  <a:pt x="18732" y="15272"/>
                </a:cubicBezTo>
                <a:cubicBezTo>
                  <a:pt x="18715" y="15338"/>
                  <a:pt x="18730" y="15439"/>
                  <a:pt x="18764" y="15494"/>
                </a:cubicBezTo>
                <a:cubicBezTo>
                  <a:pt x="18799" y="15551"/>
                  <a:pt x="18843" y="15605"/>
                  <a:pt x="18891" y="15653"/>
                </a:cubicBezTo>
                <a:cubicBezTo>
                  <a:pt x="18980" y="15742"/>
                  <a:pt x="19006" y="15732"/>
                  <a:pt x="19114" y="15780"/>
                </a:cubicBezTo>
                <a:cubicBezTo>
                  <a:pt x="19190" y="15814"/>
                  <a:pt x="19264" y="15816"/>
                  <a:pt x="19336" y="15780"/>
                </a:cubicBezTo>
                <a:cubicBezTo>
                  <a:pt x="19380" y="15758"/>
                  <a:pt x="19452" y="15667"/>
                  <a:pt x="19463" y="15621"/>
                </a:cubicBezTo>
                <a:cubicBezTo>
                  <a:pt x="19495" y="15487"/>
                  <a:pt x="19445" y="15336"/>
                  <a:pt x="19431" y="15208"/>
                </a:cubicBezTo>
                <a:cubicBezTo>
                  <a:pt x="19424" y="15147"/>
                  <a:pt x="19372" y="14961"/>
                  <a:pt x="19304" y="14922"/>
                </a:cubicBezTo>
                <a:cubicBezTo>
                  <a:pt x="19255" y="14894"/>
                  <a:pt x="19143" y="14891"/>
                  <a:pt x="19082" y="14891"/>
                </a:cubicBezTo>
                <a:cubicBezTo>
                  <a:pt x="19024" y="14891"/>
                  <a:pt x="19008" y="14886"/>
                  <a:pt x="18986" y="14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ing Systems by Grap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y = -4x +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y = ½ x +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2x +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y = ½ x –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Ink 4"/>
          <p:cNvSpPr/>
          <p:nvPr/>
        </p:nvSpPr>
        <p:spPr>
          <a:xfrm>
            <a:off x="890640" y="2949480"/>
            <a:ext cx="1920960" cy="947880"/>
          </a:xfrm>
          <a:custGeom>
            <a:avLst/>
            <a:gdLst/>
            <a:ahLst/>
            <a:rect l="l" t="t" r="r" b="b"/>
            <a:pathLst>
              <a:path w="5335" h="2636">
                <a:moveTo>
                  <a:pt x="3366" y="8192"/>
                </a:moveTo>
                <a:cubicBezTo>
                  <a:pt x="3397" y="8192"/>
                  <a:pt x="3408" y="8192"/>
                  <a:pt x="3429" y="8192"/>
                </a:cubicBezTo>
                <a:cubicBezTo>
                  <a:pt x="3389" y="8218"/>
                  <a:pt x="3370" y="8219"/>
                  <a:pt x="3302" y="8255"/>
                </a:cubicBezTo>
                <a:cubicBezTo>
                  <a:pt x="3181" y="8319"/>
                  <a:pt x="3106" y="8412"/>
                  <a:pt x="3016" y="8509"/>
                </a:cubicBezTo>
                <a:cubicBezTo>
                  <a:pt x="2879" y="8657"/>
                  <a:pt x="2762" y="8773"/>
                  <a:pt x="2667" y="8954"/>
                </a:cubicBezTo>
                <a:cubicBezTo>
                  <a:pt x="2581" y="9118"/>
                  <a:pt x="2497" y="9307"/>
                  <a:pt x="2476" y="9493"/>
                </a:cubicBezTo>
                <a:cubicBezTo>
                  <a:pt x="2455" y="9681"/>
                  <a:pt x="2489" y="9809"/>
                  <a:pt x="2572" y="9970"/>
                </a:cubicBezTo>
                <a:cubicBezTo>
                  <a:pt x="2630" y="10082"/>
                  <a:pt x="2692" y="10182"/>
                  <a:pt x="2762" y="10287"/>
                </a:cubicBezTo>
              </a:path>
              <a:path w="5335" h="2636">
                <a:moveTo>
                  <a:pt x="7366" y="8192"/>
                </a:moveTo>
                <a:cubicBezTo>
                  <a:pt x="7396" y="8273"/>
                  <a:pt x="7432" y="8361"/>
                  <a:pt x="7461" y="8446"/>
                </a:cubicBezTo>
                <a:cubicBezTo>
                  <a:pt x="7517" y="8607"/>
                  <a:pt x="7594" y="8759"/>
                  <a:pt x="7652" y="8922"/>
                </a:cubicBezTo>
                <a:cubicBezTo>
                  <a:pt x="7728" y="9136"/>
                  <a:pt x="7789" y="9359"/>
                  <a:pt x="7810" y="9588"/>
                </a:cubicBezTo>
                <a:cubicBezTo>
                  <a:pt x="7827" y="9774"/>
                  <a:pt x="7820" y="9967"/>
                  <a:pt x="7715" y="10128"/>
                </a:cubicBezTo>
                <a:cubicBezTo>
                  <a:pt x="7637" y="10248"/>
                  <a:pt x="7500" y="10340"/>
                  <a:pt x="7366" y="10382"/>
                </a:cubicBezTo>
                <a:cubicBezTo>
                  <a:pt x="7324" y="10393"/>
                  <a:pt x="7281" y="10403"/>
                  <a:pt x="7239" y="10414"/>
                </a:cubicBezTo>
              </a:path>
              <a:path w="5335" h="2636">
                <a:moveTo>
                  <a:pt x="5112" y="10128"/>
                </a:moveTo>
                <a:cubicBezTo>
                  <a:pt x="5098" y="10272"/>
                  <a:pt x="5088" y="10387"/>
                  <a:pt x="5016" y="10509"/>
                </a:cubicBezTo>
                <a:cubicBezTo>
                  <a:pt x="4946" y="10628"/>
                  <a:pt x="4883" y="10723"/>
                  <a:pt x="4794" y="10827"/>
                </a:cubicBezTo>
              </a:path>
              <a:path w="5335" h="2636">
                <a:moveTo>
                  <a:pt x="2889" y="9080"/>
                </a:moveTo>
                <a:cubicBezTo>
                  <a:pt x="2996" y="9080"/>
                  <a:pt x="3084" y="9079"/>
                  <a:pt x="3175" y="9049"/>
                </a:cubicBezTo>
                <a:cubicBezTo>
                  <a:pt x="3207" y="9049"/>
                  <a:pt x="3217" y="9049"/>
                  <a:pt x="3238" y="9049"/>
                </a:cubicBezTo>
              </a:path>
              <a:path w="5335" h="2636">
                <a:moveTo>
                  <a:pt x="3238" y="9811"/>
                </a:moveTo>
                <a:cubicBezTo>
                  <a:pt x="3238" y="9890"/>
                  <a:pt x="3251" y="9932"/>
                  <a:pt x="3270" y="9970"/>
                </a:cubicBezTo>
                <a:cubicBezTo>
                  <a:pt x="3270" y="9980"/>
                  <a:pt x="3270" y="9991"/>
                  <a:pt x="3270" y="10001"/>
                </a:cubicBezTo>
                <a:cubicBezTo>
                  <a:pt x="3305" y="9990"/>
                  <a:pt x="3329" y="9979"/>
                  <a:pt x="3334" y="9938"/>
                </a:cubicBezTo>
                <a:cubicBezTo>
                  <a:pt x="3338" y="9907"/>
                  <a:pt x="3334" y="9873"/>
                  <a:pt x="3334" y="9842"/>
                </a:cubicBezTo>
                <a:cubicBezTo>
                  <a:pt x="3293" y="9829"/>
                  <a:pt x="3292" y="9805"/>
                  <a:pt x="3238" y="9842"/>
                </a:cubicBezTo>
                <a:cubicBezTo>
                  <a:pt x="3218" y="9855"/>
                  <a:pt x="3180" y="9947"/>
                  <a:pt x="3207" y="9970"/>
                </a:cubicBezTo>
                <a:cubicBezTo>
                  <a:pt x="3221" y="9982"/>
                  <a:pt x="3264" y="10022"/>
                  <a:pt x="3302" y="10001"/>
                </a:cubicBezTo>
                <a:cubicBezTo>
                  <a:pt x="3313" y="9991"/>
                  <a:pt x="3323" y="9980"/>
                  <a:pt x="3334" y="9970"/>
                </a:cubicBezTo>
              </a:path>
              <a:path w="5335" h="2636">
                <a:moveTo>
                  <a:pt x="3905" y="8985"/>
                </a:moveTo>
                <a:cubicBezTo>
                  <a:pt x="3882" y="8939"/>
                  <a:pt x="3903" y="8904"/>
                  <a:pt x="3969" y="8890"/>
                </a:cubicBezTo>
                <a:cubicBezTo>
                  <a:pt x="4027" y="8877"/>
                  <a:pt x="4088" y="8919"/>
                  <a:pt x="4128" y="8954"/>
                </a:cubicBezTo>
                <a:cubicBezTo>
                  <a:pt x="4165" y="8987"/>
                  <a:pt x="4211" y="9024"/>
                  <a:pt x="4191" y="9080"/>
                </a:cubicBezTo>
                <a:cubicBezTo>
                  <a:pt x="4163" y="9158"/>
                  <a:pt x="4121" y="9214"/>
                  <a:pt x="4064" y="9271"/>
                </a:cubicBezTo>
                <a:cubicBezTo>
                  <a:pt x="4021" y="9314"/>
                  <a:pt x="3992" y="9352"/>
                  <a:pt x="3937" y="9366"/>
                </a:cubicBezTo>
                <a:cubicBezTo>
                  <a:pt x="3993" y="9332"/>
                  <a:pt x="4028" y="9334"/>
                  <a:pt x="4096" y="9334"/>
                </a:cubicBezTo>
                <a:cubicBezTo>
                  <a:pt x="4219" y="9334"/>
                  <a:pt x="4202" y="9381"/>
                  <a:pt x="4254" y="9462"/>
                </a:cubicBezTo>
                <a:cubicBezTo>
                  <a:pt x="4285" y="9510"/>
                  <a:pt x="4308" y="9587"/>
                  <a:pt x="4286" y="9652"/>
                </a:cubicBezTo>
                <a:cubicBezTo>
                  <a:pt x="4251" y="9757"/>
                  <a:pt x="4208" y="9782"/>
                  <a:pt x="4128" y="9842"/>
                </a:cubicBezTo>
                <a:cubicBezTo>
                  <a:pt x="4078" y="9879"/>
                  <a:pt x="3969" y="9945"/>
                  <a:pt x="3905" y="9938"/>
                </a:cubicBezTo>
                <a:cubicBezTo>
                  <a:pt x="3841" y="9931"/>
                  <a:pt x="3744" y="9868"/>
                  <a:pt x="3715" y="9811"/>
                </a:cubicBezTo>
                <a:cubicBezTo>
                  <a:pt x="3704" y="9779"/>
                  <a:pt x="3694" y="9748"/>
                  <a:pt x="3683" y="9716"/>
                </a:cubicBezTo>
              </a:path>
              <a:path w="5335" h="2636">
                <a:moveTo>
                  <a:pt x="3778" y="8572"/>
                </a:moveTo>
                <a:cubicBezTo>
                  <a:pt x="3837" y="8592"/>
                  <a:pt x="3809" y="8604"/>
                  <a:pt x="3905" y="8604"/>
                </a:cubicBezTo>
                <a:cubicBezTo>
                  <a:pt x="4064" y="8604"/>
                  <a:pt x="4223" y="8604"/>
                  <a:pt x="4382" y="8604"/>
                </a:cubicBezTo>
              </a:path>
              <a:path w="5335" h="2636">
                <a:moveTo>
                  <a:pt x="5366" y="8890"/>
                </a:moveTo>
                <a:cubicBezTo>
                  <a:pt x="5412" y="8843"/>
                  <a:pt x="5456" y="8807"/>
                  <a:pt x="5524" y="8795"/>
                </a:cubicBezTo>
                <a:cubicBezTo>
                  <a:pt x="5574" y="8786"/>
                  <a:pt x="5685" y="8779"/>
                  <a:pt x="5715" y="8826"/>
                </a:cubicBezTo>
                <a:cubicBezTo>
                  <a:pt x="5746" y="8875"/>
                  <a:pt x="5703" y="8975"/>
                  <a:pt x="5683" y="9017"/>
                </a:cubicBezTo>
                <a:cubicBezTo>
                  <a:pt x="5635" y="9120"/>
                  <a:pt x="5570" y="9194"/>
                  <a:pt x="5524" y="9303"/>
                </a:cubicBezTo>
                <a:cubicBezTo>
                  <a:pt x="5482" y="9401"/>
                  <a:pt x="5400" y="9439"/>
                  <a:pt x="5366" y="9557"/>
                </a:cubicBezTo>
                <a:cubicBezTo>
                  <a:pt x="5352" y="9607"/>
                  <a:pt x="5329" y="9677"/>
                  <a:pt x="5302" y="9716"/>
                </a:cubicBezTo>
                <a:cubicBezTo>
                  <a:pt x="5291" y="9726"/>
                  <a:pt x="5281" y="9737"/>
                  <a:pt x="5270" y="9747"/>
                </a:cubicBezTo>
                <a:cubicBezTo>
                  <a:pt x="5316" y="9732"/>
                  <a:pt x="5308" y="9678"/>
                  <a:pt x="5366" y="9652"/>
                </a:cubicBezTo>
                <a:cubicBezTo>
                  <a:pt x="5392" y="9640"/>
                  <a:pt x="5457" y="9599"/>
                  <a:pt x="5493" y="9620"/>
                </a:cubicBezTo>
                <a:cubicBezTo>
                  <a:pt x="5554" y="9654"/>
                  <a:pt x="5543" y="9666"/>
                  <a:pt x="5588" y="9716"/>
                </a:cubicBezTo>
                <a:cubicBezTo>
                  <a:pt x="5635" y="9768"/>
                  <a:pt x="5608" y="9779"/>
                  <a:pt x="5683" y="9779"/>
                </a:cubicBezTo>
              </a:path>
              <a:path w="5335" h="2636">
                <a:moveTo>
                  <a:pt x="5969" y="9620"/>
                </a:moveTo>
                <a:lnTo>
                  <a:pt x="5969" y="9620"/>
                </a:lnTo>
              </a:path>
              <a:path w="5335" h="2636">
                <a:moveTo>
                  <a:pt x="6318" y="9017"/>
                </a:moveTo>
                <a:cubicBezTo>
                  <a:pt x="6278" y="8964"/>
                  <a:pt x="6271" y="8943"/>
                  <a:pt x="6318" y="8890"/>
                </a:cubicBezTo>
                <a:cubicBezTo>
                  <a:pt x="6380" y="8820"/>
                  <a:pt x="6436" y="8878"/>
                  <a:pt x="6509" y="8890"/>
                </a:cubicBezTo>
                <a:cubicBezTo>
                  <a:pt x="6559" y="8898"/>
                  <a:pt x="6649" y="8952"/>
                  <a:pt x="6668" y="9017"/>
                </a:cubicBezTo>
                <a:cubicBezTo>
                  <a:pt x="6686" y="9081"/>
                  <a:pt x="6672" y="9178"/>
                  <a:pt x="6604" y="9208"/>
                </a:cubicBezTo>
                <a:cubicBezTo>
                  <a:pt x="6591" y="9214"/>
                  <a:pt x="6482" y="9233"/>
                  <a:pt x="6477" y="9239"/>
                </a:cubicBezTo>
                <a:cubicBezTo>
                  <a:pt x="6449" y="9274"/>
                  <a:pt x="6495" y="9239"/>
                  <a:pt x="6540" y="9239"/>
                </a:cubicBezTo>
                <a:cubicBezTo>
                  <a:pt x="6621" y="9239"/>
                  <a:pt x="6676" y="9283"/>
                  <a:pt x="6731" y="9334"/>
                </a:cubicBezTo>
                <a:cubicBezTo>
                  <a:pt x="6796" y="9393"/>
                  <a:pt x="6821" y="9436"/>
                  <a:pt x="6826" y="9525"/>
                </a:cubicBezTo>
                <a:cubicBezTo>
                  <a:pt x="6829" y="9571"/>
                  <a:pt x="6804" y="9690"/>
                  <a:pt x="6763" y="9716"/>
                </a:cubicBezTo>
                <a:cubicBezTo>
                  <a:pt x="6735" y="9734"/>
                  <a:pt x="6645" y="9761"/>
                  <a:pt x="6604" y="9747"/>
                </a:cubicBezTo>
                <a:cubicBezTo>
                  <a:pt x="6530" y="9721"/>
                  <a:pt x="6479" y="9691"/>
                  <a:pt x="6414" y="9652"/>
                </a:cubicBezTo>
                <a:cubicBezTo>
                  <a:pt x="6359" y="9619"/>
                  <a:pt x="6331" y="9601"/>
                  <a:pt x="6286" y="9557"/>
                </a:cubicBezTo>
              </a:path>
              <a:path w="5335" h="2636">
                <a:moveTo>
                  <a:pt x="6223" y="8541"/>
                </a:moveTo>
                <a:cubicBezTo>
                  <a:pt x="6137" y="8582"/>
                  <a:pt x="6318" y="8565"/>
                  <a:pt x="6350" y="8572"/>
                </a:cubicBezTo>
                <a:cubicBezTo>
                  <a:pt x="6462" y="8597"/>
                  <a:pt x="6591" y="8638"/>
                  <a:pt x="6699" y="8668"/>
                </a:cubicBezTo>
                <a:cubicBezTo>
                  <a:pt x="6774" y="8688"/>
                  <a:pt x="6812" y="8721"/>
                  <a:pt x="6890" y="8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Ink 5"/>
          <p:cNvSpPr/>
          <p:nvPr/>
        </p:nvSpPr>
        <p:spPr>
          <a:xfrm>
            <a:off x="765000" y="4057560"/>
            <a:ext cx="1578240" cy="777960"/>
          </a:xfrm>
          <a:custGeom>
            <a:avLst/>
            <a:gdLst/>
            <a:ahLst/>
            <a:rect l="l" t="t" r="r" b="b"/>
            <a:pathLst>
              <a:path w="4383" h="2160">
                <a:moveTo>
                  <a:pt x="2826" y="11271"/>
                </a:moveTo>
                <a:cubicBezTo>
                  <a:pt x="2800" y="11303"/>
                  <a:pt x="2735" y="11353"/>
                  <a:pt x="2699" y="11398"/>
                </a:cubicBezTo>
                <a:cubicBezTo>
                  <a:pt x="2611" y="11508"/>
                  <a:pt x="2502" y="11597"/>
                  <a:pt x="2413" y="11716"/>
                </a:cubicBezTo>
                <a:cubicBezTo>
                  <a:pt x="2279" y="11895"/>
                  <a:pt x="2120" y="12113"/>
                  <a:pt x="2127" y="12351"/>
                </a:cubicBezTo>
                <a:cubicBezTo>
                  <a:pt x="2132" y="12501"/>
                  <a:pt x="2231" y="12706"/>
                  <a:pt x="2350" y="12795"/>
                </a:cubicBezTo>
                <a:cubicBezTo>
                  <a:pt x="2474" y="12887"/>
                  <a:pt x="2624" y="12952"/>
                  <a:pt x="2762" y="13018"/>
                </a:cubicBezTo>
              </a:path>
              <a:path w="4383" h="2160">
                <a:moveTo>
                  <a:pt x="2762" y="11938"/>
                </a:moveTo>
                <a:cubicBezTo>
                  <a:pt x="2811" y="11901"/>
                  <a:pt x="2827" y="11906"/>
                  <a:pt x="2889" y="11906"/>
                </a:cubicBezTo>
                <a:cubicBezTo>
                  <a:pt x="2931" y="11906"/>
                  <a:pt x="2974" y="11906"/>
                  <a:pt x="3016" y="11906"/>
                </a:cubicBezTo>
              </a:path>
              <a:path w="4383" h="2160">
                <a:moveTo>
                  <a:pt x="3366" y="11494"/>
                </a:moveTo>
                <a:cubicBezTo>
                  <a:pt x="3366" y="11580"/>
                  <a:pt x="3348" y="11638"/>
                  <a:pt x="3334" y="11716"/>
                </a:cubicBezTo>
                <a:cubicBezTo>
                  <a:pt x="3320" y="11793"/>
                  <a:pt x="3302" y="11858"/>
                  <a:pt x="3302" y="11938"/>
                </a:cubicBezTo>
                <a:cubicBezTo>
                  <a:pt x="3302" y="11970"/>
                  <a:pt x="3302" y="11981"/>
                  <a:pt x="3302" y="12002"/>
                </a:cubicBezTo>
              </a:path>
              <a:path w="4383" h="2160">
                <a:moveTo>
                  <a:pt x="3778" y="11430"/>
                </a:moveTo>
                <a:cubicBezTo>
                  <a:pt x="3778" y="11548"/>
                  <a:pt x="3742" y="11580"/>
                  <a:pt x="3683" y="11684"/>
                </a:cubicBezTo>
                <a:cubicBezTo>
                  <a:pt x="3593" y="11842"/>
                  <a:pt x="3513" y="12001"/>
                  <a:pt x="3429" y="12160"/>
                </a:cubicBezTo>
                <a:cubicBezTo>
                  <a:pt x="3360" y="12291"/>
                  <a:pt x="3277" y="12412"/>
                  <a:pt x="3207" y="12541"/>
                </a:cubicBezTo>
                <a:cubicBezTo>
                  <a:pt x="3160" y="12627"/>
                  <a:pt x="3139" y="12717"/>
                  <a:pt x="3080" y="12795"/>
                </a:cubicBezTo>
                <a:cubicBezTo>
                  <a:pt x="3069" y="12806"/>
                  <a:pt x="3059" y="12816"/>
                  <a:pt x="3048" y="12827"/>
                </a:cubicBezTo>
              </a:path>
              <a:path w="4383" h="2160">
                <a:moveTo>
                  <a:pt x="3492" y="12478"/>
                </a:moveTo>
                <a:cubicBezTo>
                  <a:pt x="3515" y="12409"/>
                  <a:pt x="3532" y="12477"/>
                  <a:pt x="3588" y="12446"/>
                </a:cubicBezTo>
                <a:cubicBezTo>
                  <a:pt x="3619" y="12429"/>
                  <a:pt x="3669" y="12388"/>
                  <a:pt x="3715" y="12414"/>
                </a:cubicBezTo>
                <a:cubicBezTo>
                  <a:pt x="3746" y="12432"/>
                  <a:pt x="3764" y="12508"/>
                  <a:pt x="3746" y="12541"/>
                </a:cubicBezTo>
                <a:cubicBezTo>
                  <a:pt x="3723" y="12583"/>
                  <a:pt x="3681" y="12634"/>
                  <a:pt x="3651" y="12668"/>
                </a:cubicBezTo>
                <a:cubicBezTo>
                  <a:pt x="3617" y="12707"/>
                  <a:pt x="3602" y="12721"/>
                  <a:pt x="3556" y="12732"/>
                </a:cubicBezTo>
                <a:cubicBezTo>
                  <a:pt x="3572" y="12669"/>
                  <a:pt x="3586" y="12668"/>
                  <a:pt x="3651" y="12668"/>
                </a:cubicBezTo>
                <a:cubicBezTo>
                  <a:pt x="3719" y="12668"/>
                  <a:pt x="3729" y="12683"/>
                  <a:pt x="3778" y="12732"/>
                </a:cubicBezTo>
                <a:cubicBezTo>
                  <a:pt x="3828" y="12782"/>
                  <a:pt x="3856" y="12830"/>
                  <a:pt x="3874" y="12890"/>
                </a:cubicBezTo>
                <a:cubicBezTo>
                  <a:pt x="3885" y="12925"/>
                  <a:pt x="3832" y="12994"/>
                  <a:pt x="3810" y="13018"/>
                </a:cubicBezTo>
                <a:cubicBezTo>
                  <a:pt x="3786" y="13045"/>
                  <a:pt x="3685" y="13074"/>
                  <a:pt x="3651" y="13081"/>
                </a:cubicBezTo>
                <a:cubicBezTo>
                  <a:pt x="3604" y="13091"/>
                  <a:pt x="3454" y="13099"/>
                  <a:pt x="3429" y="13049"/>
                </a:cubicBezTo>
                <a:cubicBezTo>
                  <a:pt x="3406" y="13004"/>
                  <a:pt x="3439" y="12952"/>
                  <a:pt x="3461" y="12922"/>
                </a:cubicBezTo>
              </a:path>
              <a:path w="4383" h="2160">
                <a:moveTo>
                  <a:pt x="4445" y="12954"/>
                </a:moveTo>
                <a:cubicBezTo>
                  <a:pt x="4466" y="13058"/>
                  <a:pt x="4470" y="13044"/>
                  <a:pt x="4445" y="13144"/>
                </a:cubicBezTo>
                <a:cubicBezTo>
                  <a:pt x="4432" y="13194"/>
                  <a:pt x="4384" y="13258"/>
                  <a:pt x="4350" y="13303"/>
                </a:cubicBezTo>
                <a:cubicBezTo>
                  <a:pt x="4305" y="13348"/>
                  <a:pt x="4289" y="13376"/>
                  <a:pt x="4286" y="13430"/>
                </a:cubicBezTo>
              </a:path>
              <a:path w="4383" h="2160">
                <a:moveTo>
                  <a:pt x="4953" y="11684"/>
                </a:moveTo>
                <a:cubicBezTo>
                  <a:pt x="4942" y="11684"/>
                  <a:pt x="4932" y="11684"/>
                  <a:pt x="4921" y="11684"/>
                </a:cubicBezTo>
                <a:cubicBezTo>
                  <a:pt x="4960" y="11655"/>
                  <a:pt x="5032" y="11623"/>
                  <a:pt x="5080" y="11620"/>
                </a:cubicBezTo>
                <a:cubicBezTo>
                  <a:pt x="5136" y="11616"/>
                  <a:pt x="5221" y="11651"/>
                  <a:pt x="5270" y="11684"/>
                </a:cubicBezTo>
                <a:cubicBezTo>
                  <a:pt x="5350" y="11738"/>
                  <a:pt x="5309" y="11868"/>
                  <a:pt x="5302" y="11938"/>
                </a:cubicBezTo>
                <a:cubicBezTo>
                  <a:pt x="5289" y="12077"/>
                  <a:pt x="5231" y="12142"/>
                  <a:pt x="5175" y="12256"/>
                </a:cubicBezTo>
                <a:cubicBezTo>
                  <a:pt x="5121" y="12365"/>
                  <a:pt x="5058" y="12471"/>
                  <a:pt x="4985" y="12573"/>
                </a:cubicBezTo>
                <a:cubicBezTo>
                  <a:pt x="4943" y="12632"/>
                  <a:pt x="4877" y="12681"/>
                  <a:pt x="4826" y="12732"/>
                </a:cubicBezTo>
                <a:cubicBezTo>
                  <a:pt x="4865" y="12703"/>
                  <a:pt x="4904" y="12672"/>
                  <a:pt x="4953" y="12668"/>
                </a:cubicBezTo>
                <a:cubicBezTo>
                  <a:pt x="5048" y="12661"/>
                  <a:pt x="5101" y="12675"/>
                  <a:pt x="5175" y="12700"/>
                </a:cubicBezTo>
                <a:cubicBezTo>
                  <a:pt x="5244" y="12723"/>
                  <a:pt x="5214" y="12767"/>
                  <a:pt x="5270" y="12795"/>
                </a:cubicBezTo>
                <a:cubicBezTo>
                  <a:pt x="5299" y="12809"/>
                  <a:pt x="5400" y="12795"/>
                  <a:pt x="5429" y="12795"/>
                </a:cubicBezTo>
              </a:path>
              <a:path w="4383" h="2160">
                <a:moveTo>
                  <a:pt x="5810" y="11557"/>
                </a:moveTo>
                <a:cubicBezTo>
                  <a:pt x="5810" y="11625"/>
                  <a:pt x="5790" y="11651"/>
                  <a:pt x="5778" y="11716"/>
                </a:cubicBezTo>
                <a:cubicBezTo>
                  <a:pt x="5763" y="11799"/>
                  <a:pt x="5753" y="11888"/>
                  <a:pt x="5747" y="11970"/>
                </a:cubicBezTo>
                <a:cubicBezTo>
                  <a:pt x="5745" y="11996"/>
                  <a:pt x="5685" y="12105"/>
                  <a:pt x="5715" y="12128"/>
                </a:cubicBezTo>
                <a:cubicBezTo>
                  <a:pt x="5753" y="12158"/>
                  <a:pt x="5737" y="12156"/>
                  <a:pt x="5778" y="12128"/>
                </a:cubicBezTo>
              </a:path>
              <a:path w="4383" h="2160">
                <a:moveTo>
                  <a:pt x="6255" y="11557"/>
                </a:moveTo>
                <a:cubicBezTo>
                  <a:pt x="6243" y="11656"/>
                  <a:pt x="6196" y="11718"/>
                  <a:pt x="6160" y="11811"/>
                </a:cubicBezTo>
                <a:cubicBezTo>
                  <a:pt x="6109" y="11942"/>
                  <a:pt x="6060" y="12066"/>
                  <a:pt x="6001" y="12192"/>
                </a:cubicBezTo>
                <a:cubicBezTo>
                  <a:pt x="5932" y="12338"/>
                  <a:pt x="5915" y="12458"/>
                  <a:pt x="5874" y="12605"/>
                </a:cubicBezTo>
                <a:cubicBezTo>
                  <a:pt x="5850" y="12693"/>
                  <a:pt x="5810" y="12731"/>
                  <a:pt x="5810" y="12827"/>
                </a:cubicBezTo>
              </a:path>
              <a:path w="4383" h="2160">
                <a:moveTo>
                  <a:pt x="6160" y="12287"/>
                </a:moveTo>
                <a:cubicBezTo>
                  <a:pt x="6169" y="12252"/>
                  <a:pt x="6211" y="12173"/>
                  <a:pt x="6255" y="12160"/>
                </a:cubicBezTo>
                <a:cubicBezTo>
                  <a:pt x="6311" y="12144"/>
                  <a:pt x="6375" y="12157"/>
                  <a:pt x="6414" y="12192"/>
                </a:cubicBezTo>
                <a:cubicBezTo>
                  <a:pt x="6492" y="12262"/>
                  <a:pt x="6461" y="12246"/>
                  <a:pt x="6445" y="12319"/>
                </a:cubicBezTo>
                <a:cubicBezTo>
                  <a:pt x="6428" y="12397"/>
                  <a:pt x="6410" y="12445"/>
                  <a:pt x="6350" y="12510"/>
                </a:cubicBezTo>
                <a:cubicBezTo>
                  <a:pt x="6314" y="12549"/>
                  <a:pt x="6233" y="12573"/>
                  <a:pt x="6286" y="12573"/>
                </a:cubicBezTo>
                <a:cubicBezTo>
                  <a:pt x="6353" y="12573"/>
                  <a:pt x="6366" y="12588"/>
                  <a:pt x="6414" y="12636"/>
                </a:cubicBezTo>
                <a:cubicBezTo>
                  <a:pt x="6463" y="12685"/>
                  <a:pt x="6491" y="12736"/>
                  <a:pt x="6509" y="12795"/>
                </a:cubicBezTo>
                <a:cubicBezTo>
                  <a:pt x="6523" y="12842"/>
                  <a:pt x="6473" y="12922"/>
                  <a:pt x="6445" y="12954"/>
                </a:cubicBezTo>
                <a:cubicBezTo>
                  <a:pt x="6399" y="13006"/>
                  <a:pt x="6320" y="12986"/>
                  <a:pt x="6255" y="12986"/>
                </a:cubicBezTo>
                <a:cubicBezTo>
                  <a:pt x="6188" y="12986"/>
                  <a:pt x="6114" y="13009"/>
                  <a:pt x="6096" y="12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Ink 6"/>
          <p:cNvSpPr/>
          <p:nvPr/>
        </p:nvSpPr>
        <p:spPr>
          <a:xfrm>
            <a:off x="2606760" y="4149720"/>
            <a:ext cx="160200" cy="650880"/>
          </a:xfrm>
          <a:custGeom>
            <a:avLst/>
            <a:gdLst/>
            <a:ahLst/>
            <a:rect l="l" t="t" r="r" b="b"/>
            <a:pathLst>
              <a:path w="446" h="1811">
                <a:moveTo>
                  <a:pt x="7525" y="11525"/>
                </a:moveTo>
                <a:cubicBezTo>
                  <a:pt x="7545" y="11600"/>
                  <a:pt x="7566" y="11673"/>
                  <a:pt x="7588" y="11748"/>
                </a:cubicBezTo>
                <a:cubicBezTo>
                  <a:pt x="7632" y="11901"/>
                  <a:pt x="7666" y="12097"/>
                  <a:pt x="7684" y="12256"/>
                </a:cubicBezTo>
                <a:cubicBezTo>
                  <a:pt x="7702" y="12420"/>
                  <a:pt x="7693" y="12606"/>
                  <a:pt x="7652" y="12764"/>
                </a:cubicBezTo>
                <a:cubicBezTo>
                  <a:pt x="7624" y="12871"/>
                  <a:pt x="7565" y="13064"/>
                  <a:pt x="7493" y="13144"/>
                </a:cubicBezTo>
                <a:cubicBezTo>
                  <a:pt x="7431" y="13213"/>
                  <a:pt x="7314" y="13280"/>
                  <a:pt x="7239" y="133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Ink 7"/>
          <p:cNvSpPr/>
          <p:nvPr/>
        </p:nvSpPr>
        <p:spPr>
          <a:xfrm>
            <a:off x="7680240" y="1817640"/>
            <a:ext cx="492120" cy="822240"/>
          </a:xfrm>
          <a:custGeom>
            <a:avLst/>
            <a:gdLst/>
            <a:ahLst/>
            <a:rect l="l" t="t" r="r" b="b"/>
            <a:pathLst>
              <a:path w="1366" h="2287">
                <a:moveTo>
                  <a:pt x="21336" y="5112"/>
                </a:moveTo>
                <a:cubicBezTo>
                  <a:pt x="21365" y="5176"/>
                  <a:pt x="21381" y="5198"/>
                  <a:pt x="21400" y="5270"/>
                </a:cubicBezTo>
                <a:cubicBezTo>
                  <a:pt x="21428" y="5378"/>
                  <a:pt x="21489" y="5454"/>
                  <a:pt x="21526" y="5556"/>
                </a:cubicBezTo>
                <a:cubicBezTo>
                  <a:pt x="21577" y="5695"/>
                  <a:pt x="21624" y="5835"/>
                  <a:pt x="21685" y="5969"/>
                </a:cubicBezTo>
                <a:cubicBezTo>
                  <a:pt x="21752" y="6116"/>
                  <a:pt x="21809" y="6267"/>
                  <a:pt x="21876" y="6414"/>
                </a:cubicBezTo>
                <a:cubicBezTo>
                  <a:pt x="21943" y="6561"/>
                  <a:pt x="22011" y="6706"/>
                  <a:pt x="22066" y="6858"/>
                </a:cubicBezTo>
                <a:cubicBezTo>
                  <a:pt x="22107" y="6971"/>
                  <a:pt x="22171" y="7068"/>
                  <a:pt x="22225" y="7176"/>
                </a:cubicBezTo>
                <a:cubicBezTo>
                  <a:pt x="22239" y="7205"/>
                  <a:pt x="22297" y="7329"/>
                  <a:pt x="22352" y="7302"/>
                </a:cubicBezTo>
                <a:cubicBezTo>
                  <a:pt x="22352" y="7281"/>
                  <a:pt x="22352" y="7260"/>
                  <a:pt x="22352" y="7239"/>
                </a:cubicBezTo>
              </a:path>
              <a:path w="1366" h="2287">
                <a:moveTo>
                  <a:pt x="21780" y="5048"/>
                </a:moveTo>
                <a:lnTo>
                  <a:pt x="21780" y="5048"/>
                </a:lnTo>
              </a:path>
              <a:path w="1366" h="2287">
                <a:moveTo>
                  <a:pt x="21780" y="5048"/>
                </a:moveTo>
                <a:cubicBezTo>
                  <a:pt x="21780" y="5069"/>
                  <a:pt x="21780" y="5091"/>
                  <a:pt x="21780" y="5112"/>
                </a:cubicBezTo>
              </a:path>
              <a:path w="1366" h="2287">
                <a:moveTo>
                  <a:pt x="21780" y="5112"/>
                </a:moveTo>
                <a:cubicBezTo>
                  <a:pt x="21819" y="5216"/>
                  <a:pt x="21815" y="5324"/>
                  <a:pt x="21844" y="5429"/>
                </a:cubicBezTo>
                <a:cubicBezTo>
                  <a:pt x="21890" y="5595"/>
                  <a:pt x="21968" y="5780"/>
                  <a:pt x="22034" y="5937"/>
                </a:cubicBezTo>
                <a:cubicBezTo>
                  <a:pt x="22100" y="6095"/>
                  <a:pt x="22154" y="6258"/>
                  <a:pt x="22225" y="6414"/>
                </a:cubicBezTo>
                <a:cubicBezTo>
                  <a:pt x="22290" y="6558"/>
                  <a:pt x="22408" y="6662"/>
                  <a:pt x="22479" y="6794"/>
                </a:cubicBezTo>
                <a:cubicBezTo>
                  <a:pt x="22534" y="6896"/>
                  <a:pt x="22585" y="7006"/>
                  <a:pt x="22638" y="7112"/>
                </a:cubicBezTo>
                <a:cubicBezTo>
                  <a:pt x="22682" y="7200"/>
                  <a:pt x="22691" y="7241"/>
                  <a:pt x="22701" y="7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Ink 8"/>
          <p:cNvSpPr/>
          <p:nvPr/>
        </p:nvSpPr>
        <p:spPr>
          <a:xfrm>
            <a:off x="6058080" y="3132000"/>
            <a:ext cx="582480" cy="857520"/>
          </a:xfrm>
          <a:custGeom>
            <a:avLst/>
            <a:gdLst/>
            <a:ahLst/>
            <a:rect l="l" t="t" r="r" b="b"/>
            <a:pathLst>
              <a:path w="1620" h="2382">
                <a:moveTo>
                  <a:pt x="16954" y="8700"/>
                </a:moveTo>
                <a:cubicBezTo>
                  <a:pt x="16929" y="8794"/>
                  <a:pt x="16923" y="8871"/>
                  <a:pt x="16923" y="8985"/>
                </a:cubicBezTo>
                <a:cubicBezTo>
                  <a:pt x="16923" y="9159"/>
                  <a:pt x="16895" y="9320"/>
                  <a:pt x="16891" y="9493"/>
                </a:cubicBezTo>
                <a:cubicBezTo>
                  <a:pt x="16880" y="9906"/>
                  <a:pt x="16886" y="10327"/>
                  <a:pt x="16923" y="10732"/>
                </a:cubicBezTo>
                <a:cubicBezTo>
                  <a:pt x="16933" y="10845"/>
                  <a:pt x="16923" y="10967"/>
                  <a:pt x="16923" y="11081"/>
                </a:cubicBezTo>
                <a:cubicBezTo>
                  <a:pt x="16898" y="11016"/>
                  <a:pt x="16891" y="10969"/>
                  <a:pt x="16891" y="10890"/>
                </a:cubicBezTo>
                <a:cubicBezTo>
                  <a:pt x="16891" y="10708"/>
                  <a:pt x="16859" y="10535"/>
                  <a:pt x="16859" y="10350"/>
                </a:cubicBezTo>
                <a:cubicBezTo>
                  <a:pt x="16859" y="10147"/>
                  <a:pt x="16828" y="9952"/>
                  <a:pt x="16828" y="9747"/>
                </a:cubicBezTo>
                <a:cubicBezTo>
                  <a:pt x="16828" y="9596"/>
                  <a:pt x="16859" y="9456"/>
                  <a:pt x="16859" y="9303"/>
                </a:cubicBezTo>
                <a:cubicBezTo>
                  <a:pt x="16859" y="9201"/>
                  <a:pt x="16859" y="9133"/>
                  <a:pt x="16891" y="9049"/>
                </a:cubicBezTo>
                <a:cubicBezTo>
                  <a:pt x="16891" y="9013"/>
                  <a:pt x="16894" y="8999"/>
                  <a:pt x="16923" y="8985"/>
                </a:cubicBezTo>
                <a:cubicBezTo>
                  <a:pt x="17005" y="9016"/>
                  <a:pt x="16993" y="8983"/>
                  <a:pt x="17050" y="9080"/>
                </a:cubicBezTo>
                <a:cubicBezTo>
                  <a:pt x="17099" y="9163"/>
                  <a:pt x="17153" y="9274"/>
                  <a:pt x="17177" y="9366"/>
                </a:cubicBezTo>
                <a:cubicBezTo>
                  <a:pt x="17223" y="9542"/>
                  <a:pt x="17291" y="9694"/>
                  <a:pt x="17336" y="9874"/>
                </a:cubicBezTo>
                <a:cubicBezTo>
                  <a:pt x="17386" y="10076"/>
                  <a:pt x="17430" y="10280"/>
                  <a:pt x="17494" y="10478"/>
                </a:cubicBezTo>
                <a:cubicBezTo>
                  <a:pt x="17525" y="10574"/>
                  <a:pt x="17562" y="10679"/>
                  <a:pt x="17590" y="10763"/>
                </a:cubicBezTo>
                <a:cubicBezTo>
                  <a:pt x="17590" y="10662"/>
                  <a:pt x="17567" y="10574"/>
                  <a:pt x="17558" y="10478"/>
                </a:cubicBezTo>
                <a:cubicBezTo>
                  <a:pt x="17524" y="10112"/>
                  <a:pt x="17564" y="9729"/>
                  <a:pt x="17590" y="9366"/>
                </a:cubicBezTo>
                <a:cubicBezTo>
                  <a:pt x="17601" y="9203"/>
                  <a:pt x="17612" y="9015"/>
                  <a:pt x="17653" y="8858"/>
                </a:cubicBezTo>
                <a:cubicBezTo>
                  <a:pt x="17664" y="8837"/>
                  <a:pt x="17674" y="8816"/>
                  <a:pt x="17685" y="8795"/>
                </a:cubicBezTo>
              </a:path>
              <a:path w="1620" h="2382">
                <a:moveTo>
                  <a:pt x="18224" y="9525"/>
                </a:moveTo>
                <a:cubicBezTo>
                  <a:pt x="18224" y="9467"/>
                  <a:pt x="18220" y="9399"/>
                  <a:pt x="18161" y="9366"/>
                </a:cubicBezTo>
                <a:cubicBezTo>
                  <a:pt x="18150" y="9366"/>
                  <a:pt x="18140" y="9366"/>
                  <a:pt x="18129" y="9366"/>
                </a:cubicBezTo>
                <a:cubicBezTo>
                  <a:pt x="18045" y="9388"/>
                  <a:pt x="18015" y="9503"/>
                  <a:pt x="18002" y="9588"/>
                </a:cubicBezTo>
                <a:cubicBezTo>
                  <a:pt x="17978" y="9747"/>
                  <a:pt x="17970" y="9903"/>
                  <a:pt x="17970" y="10065"/>
                </a:cubicBezTo>
                <a:cubicBezTo>
                  <a:pt x="17970" y="10183"/>
                  <a:pt x="17970" y="10401"/>
                  <a:pt x="18034" y="10509"/>
                </a:cubicBezTo>
                <a:cubicBezTo>
                  <a:pt x="18087" y="10597"/>
                  <a:pt x="18136" y="10604"/>
                  <a:pt x="18224" y="10604"/>
                </a:cubicBezTo>
                <a:cubicBezTo>
                  <a:pt x="18328" y="10604"/>
                  <a:pt x="18344" y="10525"/>
                  <a:pt x="18383" y="10446"/>
                </a:cubicBezTo>
                <a:cubicBezTo>
                  <a:pt x="18441" y="10330"/>
                  <a:pt x="18470" y="10232"/>
                  <a:pt x="18447" y="10096"/>
                </a:cubicBezTo>
                <a:cubicBezTo>
                  <a:pt x="18423" y="9955"/>
                  <a:pt x="18418" y="9784"/>
                  <a:pt x="18352" y="9652"/>
                </a:cubicBezTo>
                <a:cubicBezTo>
                  <a:pt x="18300" y="9549"/>
                  <a:pt x="18254" y="9428"/>
                  <a:pt x="18193" y="9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Ink 9"/>
          <p:cNvSpPr/>
          <p:nvPr/>
        </p:nvSpPr>
        <p:spPr>
          <a:xfrm>
            <a:off x="6881760" y="3132000"/>
            <a:ext cx="1701720" cy="857520"/>
          </a:xfrm>
          <a:custGeom>
            <a:avLst/>
            <a:gdLst/>
            <a:ahLst/>
            <a:rect l="l" t="t" r="r" b="b"/>
            <a:pathLst>
              <a:path w="4731" h="2382">
                <a:moveTo>
                  <a:pt x="19748" y="8826"/>
                </a:moveTo>
                <a:cubicBezTo>
                  <a:pt x="19738" y="8742"/>
                  <a:pt x="19741" y="8766"/>
                  <a:pt x="19717" y="8700"/>
                </a:cubicBezTo>
                <a:cubicBezTo>
                  <a:pt x="19635" y="8727"/>
                  <a:pt x="19630" y="8707"/>
                  <a:pt x="19558" y="8795"/>
                </a:cubicBezTo>
                <a:cubicBezTo>
                  <a:pt x="19442" y="8935"/>
                  <a:pt x="19308" y="9125"/>
                  <a:pt x="19272" y="9303"/>
                </a:cubicBezTo>
                <a:cubicBezTo>
                  <a:pt x="19252" y="9400"/>
                  <a:pt x="19219" y="9561"/>
                  <a:pt x="19272" y="9652"/>
                </a:cubicBezTo>
                <a:cubicBezTo>
                  <a:pt x="19327" y="9747"/>
                  <a:pt x="19426" y="9819"/>
                  <a:pt x="19494" y="9906"/>
                </a:cubicBezTo>
                <a:cubicBezTo>
                  <a:pt x="19573" y="10007"/>
                  <a:pt x="19696" y="10122"/>
                  <a:pt x="19717" y="10255"/>
                </a:cubicBezTo>
                <a:cubicBezTo>
                  <a:pt x="19743" y="10421"/>
                  <a:pt x="19737" y="10538"/>
                  <a:pt x="19685" y="10700"/>
                </a:cubicBezTo>
                <a:cubicBezTo>
                  <a:pt x="19645" y="10823"/>
                  <a:pt x="19568" y="10967"/>
                  <a:pt x="19463" y="11049"/>
                </a:cubicBezTo>
                <a:cubicBezTo>
                  <a:pt x="19399" y="11099"/>
                  <a:pt x="19258" y="11089"/>
                  <a:pt x="19209" y="11017"/>
                </a:cubicBezTo>
                <a:cubicBezTo>
                  <a:pt x="19124" y="10894"/>
                  <a:pt x="19125" y="10705"/>
                  <a:pt x="19145" y="10573"/>
                </a:cubicBezTo>
              </a:path>
              <a:path w="4731" h="2382">
                <a:moveTo>
                  <a:pt x="20225" y="9938"/>
                </a:moveTo>
                <a:cubicBezTo>
                  <a:pt x="20129" y="9938"/>
                  <a:pt x="20125" y="9967"/>
                  <a:pt x="20066" y="10033"/>
                </a:cubicBezTo>
                <a:cubicBezTo>
                  <a:pt x="19966" y="10145"/>
                  <a:pt x="19950" y="10270"/>
                  <a:pt x="19907" y="10414"/>
                </a:cubicBezTo>
                <a:cubicBezTo>
                  <a:pt x="19865" y="10555"/>
                  <a:pt x="19876" y="10631"/>
                  <a:pt x="19939" y="10763"/>
                </a:cubicBezTo>
                <a:cubicBezTo>
                  <a:pt x="19986" y="10861"/>
                  <a:pt x="20045" y="10835"/>
                  <a:pt x="20130" y="10795"/>
                </a:cubicBezTo>
                <a:cubicBezTo>
                  <a:pt x="20237" y="10744"/>
                  <a:pt x="20306" y="10650"/>
                  <a:pt x="20352" y="10541"/>
                </a:cubicBezTo>
                <a:cubicBezTo>
                  <a:pt x="20403" y="10420"/>
                  <a:pt x="20407" y="10225"/>
                  <a:pt x="20384" y="10096"/>
                </a:cubicBezTo>
                <a:cubicBezTo>
                  <a:pt x="20364" y="9986"/>
                  <a:pt x="20331" y="9915"/>
                  <a:pt x="20225" y="9906"/>
                </a:cubicBezTo>
                <a:cubicBezTo>
                  <a:pt x="20194" y="9903"/>
                  <a:pt x="20161" y="9906"/>
                  <a:pt x="20130" y="9906"/>
                </a:cubicBezTo>
              </a:path>
              <a:path w="4731" h="2382">
                <a:moveTo>
                  <a:pt x="20606" y="9239"/>
                </a:moveTo>
                <a:cubicBezTo>
                  <a:pt x="20606" y="9359"/>
                  <a:pt x="20578" y="9468"/>
                  <a:pt x="20574" y="9588"/>
                </a:cubicBezTo>
                <a:cubicBezTo>
                  <a:pt x="20567" y="9825"/>
                  <a:pt x="20590" y="10053"/>
                  <a:pt x="20606" y="10287"/>
                </a:cubicBezTo>
                <a:cubicBezTo>
                  <a:pt x="20617" y="10448"/>
                  <a:pt x="20631" y="10605"/>
                  <a:pt x="20638" y="10763"/>
                </a:cubicBezTo>
                <a:cubicBezTo>
                  <a:pt x="20638" y="10816"/>
                  <a:pt x="20638" y="10826"/>
                  <a:pt x="20638" y="10858"/>
                </a:cubicBezTo>
              </a:path>
              <a:path w="4731" h="2382">
                <a:moveTo>
                  <a:pt x="20860" y="9842"/>
                </a:moveTo>
                <a:cubicBezTo>
                  <a:pt x="20860" y="10116"/>
                  <a:pt x="20811" y="10444"/>
                  <a:pt x="20892" y="10700"/>
                </a:cubicBezTo>
                <a:cubicBezTo>
                  <a:pt x="20919" y="10786"/>
                  <a:pt x="20900" y="10868"/>
                  <a:pt x="20987" y="10890"/>
                </a:cubicBezTo>
                <a:cubicBezTo>
                  <a:pt x="21072" y="10868"/>
                  <a:pt x="21083" y="10817"/>
                  <a:pt x="21114" y="10732"/>
                </a:cubicBezTo>
                <a:cubicBezTo>
                  <a:pt x="21172" y="10573"/>
                  <a:pt x="21197" y="10392"/>
                  <a:pt x="21209" y="10224"/>
                </a:cubicBezTo>
                <a:cubicBezTo>
                  <a:pt x="21220" y="10070"/>
                  <a:pt x="21216" y="9929"/>
                  <a:pt x="21241" y="9779"/>
                </a:cubicBezTo>
                <a:cubicBezTo>
                  <a:pt x="21277" y="9804"/>
                  <a:pt x="21297" y="9963"/>
                  <a:pt x="21304" y="10033"/>
                </a:cubicBezTo>
                <a:cubicBezTo>
                  <a:pt x="21320" y="10206"/>
                  <a:pt x="21349" y="10370"/>
                  <a:pt x="21368" y="10541"/>
                </a:cubicBezTo>
                <a:cubicBezTo>
                  <a:pt x="21372" y="10575"/>
                  <a:pt x="21373" y="10836"/>
                  <a:pt x="21431" y="10858"/>
                </a:cubicBezTo>
                <a:cubicBezTo>
                  <a:pt x="21442" y="10848"/>
                  <a:pt x="21452" y="10837"/>
                  <a:pt x="21463" y="10827"/>
                </a:cubicBezTo>
              </a:path>
              <a:path w="4731" h="2382">
                <a:moveTo>
                  <a:pt x="21654" y="9303"/>
                </a:moveTo>
                <a:cubicBezTo>
                  <a:pt x="21682" y="9414"/>
                  <a:pt x="21685" y="9523"/>
                  <a:pt x="21685" y="9652"/>
                </a:cubicBezTo>
                <a:cubicBezTo>
                  <a:pt x="21685" y="10010"/>
                  <a:pt x="21770" y="10491"/>
                  <a:pt x="21717" y="10827"/>
                </a:cubicBezTo>
                <a:cubicBezTo>
                  <a:pt x="21706" y="10837"/>
                  <a:pt x="21696" y="10848"/>
                  <a:pt x="21685" y="10858"/>
                </a:cubicBezTo>
              </a:path>
              <a:path w="4731" h="2382">
                <a:moveTo>
                  <a:pt x="21463" y="10255"/>
                </a:moveTo>
                <a:cubicBezTo>
                  <a:pt x="21511" y="10220"/>
                  <a:pt x="21568" y="10193"/>
                  <a:pt x="21622" y="10160"/>
                </a:cubicBezTo>
                <a:cubicBezTo>
                  <a:pt x="21712" y="10106"/>
                  <a:pt x="21764" y="10058"/>
                  <a:pt x="21844" y="10001"/>
                </a:cubicBezTo>
              </a:path>
              <a:path w="4731" h="2382">
                <a:moveTo>
                  <a:pt x="22034" y="9747"/>
                </a:moveTo>
                <a:cubicBezTo>
                  <a:pt x="22034" y="9890"/>
                  <a:pt x="22015" y="10020"/>
                  <a:pt x="22003" y="10160"/>
                </a:cubicBezTo>
                <a:cubicBezTo>
                  <a:pt x="21991" y="10308"/>
                  <a:pt x="22034" y="10454"/>
                  <a:pt x="22034" y="10604"/>
                </a:cubicBezTo>
                <a:cubicBezTo>
                  <a:pt x="22034" y="10662"/>
                  <a:pt x="22030" y="10679"/>
                  <a:pt x="22066" y="10700"/>
                </a:cubicBezTo>
              </a:path>
              <a:path w="4731" h="2382">
                <a:moveTo>
                  <a:pt x="22416" y="9747"/>
                </a:moveTo>
                <a:cubicBezTo>
                  <a:pt x="22405" y="9846"/>
                  <a:pt x="22378" y="9935"/>
                  <a:pt x="22352" y="10033"/>
                </a:cubicBezTo>
                <a:cubicBezTo>
                  <a:pt x="22303" y="10221"/>
                  <a:pt x="22288" y="10379"/>
                  <a:pt x="22288" y="10573"/>
                </a:cubicBezTo>
                <a:cubicBezTo>
                  <a:pt x="22288" y="10665"/>
                  <a:pt x="22322" y="10702"/>
                  <a:pt x="22384" y="10763"/>
                </a:cubicBezTo>
                <a:cubicBezTo>
                  <a:pt x="22460" y="10688"/>
                  <a:pt x="22500" y="10678"/>
                  <a:pt x="22542" y="10573"/>
                </a:cubicBezTo>
                <a:cubicBezTo>
                  <a:pt x="22608" y="10408"/>
                  <a:pt x="22606" y="10272"/>
                  <a:pt x="22606" y="10096"/>
                </a:cubicBezTo>
                <a:cubicBezTo>
                  <a:pt x="22606" y="9951"/>
                  <a:pt x="22594" y="9820"/>
                  <a:pt x="22574" y="9684"/>
                </a:cubicBezTo>
                <a:cubicBezTo>
                  <a:pt x="22559" y="9584"/>
                  <a:pt x="22583" y="9626"/>
                  <a:pt x="22606" y="9588"/>
                </a:cubicBezTo>
                <a:cubicBezTo>
                  <a:pt x="22633" y="9622"/>
                  <a:pt x="22670" y="9684"/>
                  <a:pt x="22701" y="9747"/>
                </a:cubicBezTo>
                <a:cubicBezTo>
                  <a:pt x="22770" y="9885"/>
                  <a:pt x="22792" y="9979"/>
                  <a:pt x="22828" y="10128"/>
                </a:cubicBezTo>
                <a:cubicBezTo>
                  <a:pt x="22863" y="10273"/>
                  <a:pt x="22872" y="10427"/>
                  <a:pt x="22892" y="10573"/>
                </a:cubicBezTo>
                <a:cubicBezTo>
                  <a:pt x="22892" y="10626"/>
                  <a:pt x="22892" y="10636"/>
                  <a:pt x="22892" y="10668"/>
                </a:cubicBezTo>
                <a:cubicBezTo>
                  <a:pt x="22907" y="10530"/>
                  <a:pt x="22925" y="10392"/>
                  <a:pt x="22955" y="10255"/>
                </a:cubicBezTo>
                <a:cubicBezTo>
                  <a:pt x="23005" y="10029"/>
                  <a:pt x="23026" y="9786"/>
                  <a:pt x="23146" y="9588"/>
                </a:cubicBezTo>
                <a:cubicBezTo>
                  <a:pt x="23189" y="9517"/>
                  <a:pt x="23233" y="9468"/>
                  <a:pt x="23273" y="9398"/>
                </a:cubicBezTo>
                <a:cubicBezTo>
                  <a:pt x="23318" y="9479"/>
                  <a:pt x="23387" y="9555"/>
                  <a:pt x="23400" y="9652"/>
                </a:cubicBezTo>
                <a:cubicBezTo>
                  <a:pt x="23441" y="9966"/>
                  <a:pt x="23346" y="10298"/>
                  <a:pt x="23432" y="10604"/>
                </a:cubicBezTo>
                <a:cubicBezTo>
                  <a:pt x="23464" y="10718"/>
                  <a:pt x="23483" y="10748"/>
                  <a:pt x="23590" y="10763"/>
                </a:cubicBezTo>
                <a:cubicBezTo>
                  <a:pt x="23663" y="10727"/>
                  <a:pt x="23742" y="10695"/>
                  <a:pt x="23781" y="10604"/>
                </a:cubicBezTo>
                <a:cubicBezTo>
                  <a:pt x="23812" y="10477"/>
                  <a:pt x="23823" y="10435"/>
                  <a:pt x="23844" y="10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Ink 10"/>
          <p:cNvSpPr/>
          <p:nvPr/>
        </p:nvSpPr>
        <p:spPr>
          <a:xfrm>
            <a:off x="6240600" y="1463760"/>
            <a:ext cx="492120" cy="1360440"/>
          </a:xfrm>
          <a:custGeom>
            <a:avLst/>
            <a:gdLst/>
            <a:ahLst/>
            <a:rect l="l" t="t" r="r" b="b"/>
            <a:pathLst>
              <a:path w="1366" h="3779">
                <a:moveTo>
                  <a:pt x="18161" y="7398"/>
                </a:moveTo>
                <a:cubicBezTo>
                  <a:pt x="18084" y="7409"/>
                  <a:pt x="18054" y="7415"/>
                  <a:pt x="18034" y="7493"/>
                </a:cubicBezTo>
              </a:path>
              <a:path w="1366" h="3779">
                <a:moveTo>
                  <a:pt x="18066" y="7525"/>
                </a:moveTo>
                <a:cubicBezTo>
                  <a:pt x="18094" y="7550"/>
                  <a:pt x="18106" y="7604"/>
                  <a:pt x="18161" y="7620"/>
                </a:cubicBezTo>
                <a:cubicBezTo>
                  <a:pt x="18220" y="7637"/>
                  <a:pt x="18277" y="7617"/>
                  <a:pt x="18320" y="7588"/>
                </a:cubicBezTo>
                <a:cubicBezTo>
                  <a:pt x="18400" y="7534"/>
                  <a:pt x="18435" y="7447"/>
                  <a:pt x="18478" y="7366"/>
                </a:cubicBezTo>
                <a:cubicBezTo>
                  <a:pt x="18529" y="7270"/>
                  <a:pt x="18590" y="7156"/>
                  <a:pt x="18606" y="7048"/>
                </a:cubicBezTo>
                <a:cubicBezTo>
                  <a:pt x="18627" y="6910"/>
                  <a:pt x="18681" y="6774"/>
                  <a:pt x="18701" y="6636"/>
                </a:cubicBezTo>
                <a:cubicBezTo>
                  <a:pt x="18760" y="6222"/>
                  <a:pt x="18774" y="5578"/>
                  <a:pt x="18669" y="5175"/>
                </a:cubicBezTo>
                <a:cubicBezTo>
                  <a:pt x="18630" y="5026"/>
                  <a:pt x="18619" y="4882"/>
                  <a:pt x="18574" y="4731"/>
                </a:cubicBezTo>
                <a:cubicBezTo>
                  <a:pt x="18538" y="4610"/>
                  <a:pt x="18486" y="4481"/>
                  <a:pt x="18415" y="4382"/>
                </a:cubicBezTo>
                <a:cubicBezTo>
                  <a:pt x="18361" y="4305"/>
                  <a:pt x="18277" y="4176"/>
                  <a:pt x="18193" y="4128"/>
                </a:cubicBezTo>
                <a:cubicBezTo>
                  <a:pt x="18131" y="4093"/>
                  <a:pt x="18050" y="4061"/>
                  <a:pt x="17970" y="4064"/>
                </a:cubicBezTo>
                <a:cubicBezTo>
                  <a:pt x="17899" y="4066"/>
                  <a:pt x="17814" y="4092"/>
                  <a:pt x="17748" y="4128"/>
                </a:cubicBezTo>
                <a:cubicBezTo>
                  <a:pt x="17693" y="4158"/>
                  <a:pt x="17635" y="4193"/>
                  <a:pt x="17590" y="4254"/>
                </a:cubicBezTo>
                <a:cubicBezTo>
                  <a:pt x="17511" y="4361"/>
                  <a:pt x="17501" y="4489"/>
                  <a:pt x="17462" y="4604"/>
                </a:cubicBezTo>
                <a:cubicBezTo>
                  <a:pt x="17422" y="4720"/>
                  <a:pt x="17423" y="4806"/>
                  <a:pt x="17399" y="4921"/>
                </a:cubicBezTo>
                <a:cubicBezTo>
                  <a:pt x="17372" y="5049"/>
                  <a:pt x="17390" y="5175"/>
                  <a:pt x="17367" y="5302"/>
                </a:cubicBezTo>
                <a:cubicBezTo>
                  <a:pt x="17343" y="5433"/>
                  <a:pt x="17336" y="5547"/>
                  <a:pt x="17336" y="5683"/>
                </a:cubicBezTo>
                <a:cubicBezTo>
                  <a:pt x="17336" y="5837"/>
                  <a:pt x="17362" y="5977"/>
                  <a:pt x="17367" y="6128"/>
                </a:cubicBezTo>
                <a:cubicBezTo>
                  <a:pt x="17372" y="6261"/>
                  <a:pt x="17404" y="6410"/>
                  <a:pt x="17431" y="6540"/>
                </a:cubicBezTo>
                <a:cubicBezTo>
                  <a:pt x="17462" y="6688"/>
                  <a:pt x="17514" y="6840"/>
                  <a:pt x="17558" y="6985"/>
                </a:cubicBezTo>
                <a:cubicBezTo>
                  <a:pt x="17600" y="7124"/>
                  <a:pt x="17612" y="7261"/>
                  <a:pt x="17653" y="7398"/>
                </a:cubicBezTo>
                <a:cubicBezTo>
                  <a:pt x="17684" y="7501"/>
                  <a:pt x="17715" y="7627"/>
                  <a:pt x="17780" y="7715"/>
                </a:cubicBezTo>
                <a:cubicBezTo>
                  <a:pt x="17820" y="7770"/>
                  <a:pt x="17863" y="7839"/>
                  <a:pt x="17939" y="7842"/>
                </a:cubicBezTo>
                <a:cubicBezTo>
                  <a:pt x="18017" y="7845"/>
                  <a:pt x="18069" y="7796"/>
                  <a:pt x="18129" y="7747"/>
                </a:cubicBezTo>
                <a:cubicBezTo>
                  <a:pt x="18214" y="7678"/>
                  <a:pt x="18227" y="7620"/>
                  <a:pt x="18288" y="7525"/>
                </a:cubicBezTo>
                <a:cubicBezTo>
                  <a:pt x="18316" y="7482"/>
                  <a:pt x="18354" y="7441"/>
                  <a:pt x="18383" y="7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ing Systems by Graphing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th Inequa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on calculator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re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8840" y="182880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6026040" y="2076480"/>
            <a:ext cx="2127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xample: 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 &lt; 2x + 5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x +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Ink 6"/>
          <p:cNvSpPr/>
          <p:nvPr/>
        </p:nvSpPr>
        <p:spPr>
          <a:xfrm>
            <a:off x="2136600" y="3382920"/>
            <a:ext cx="470160" cy="457200"/>
          </a:xfrm>
          <a:custGeom>
            <a:avLst/>
            <a:gdLst/>
            <a:ahLst/>
            <a:rect l="l" t="t" r="r" b="b"/>
            <a:pathLst>
              <a:path w="1303" h="1271">
                <a:moveTo>
                  <a:pt x="5969" y="9557"/>
                </a:moveTo>
                <a:cubicBezTo>
                  <a:pt x="5979" y="9624"/>
                  <a:pt x="5980" y="9632"/>
                  <a:pt x="6032" y="9684"/>
                </a:cubicBezTo>
                <a:cubicBezTo>
                  <a:pt x="6061" y="9713"/>
                  <a:pt x="6067" y="9724"/>
                  <a:pt x="6096" y="9716"/>
                </a:cubicBezTo>
                <a:cubicBezTo>
                  <a:pt x="6129" y="9762"/>
                  <a:pt x="6144" y="9769"/>
                  <a:pt x="6191" y="9811"/>
                </a:cubicBezTo>
                <a:cubicBezTo>
                  <a:pt x="6220" y="9839"/>
                  <a:pt x="6226" y="9849"/>
                  <a:pt x="6255" y="9842"/>
                </a:cubicBezTo>
                <a:cubicBezTo>
                  <a:pt x="6279" y="9885"/>
                  <a:pt x="6298" y="9937"/>
                  <a:pt x="6350" y="9970"/>
                </a:cubicBezTo>
                <a:cubicBezTo>
                  <a:pt x="6436" y="10025"/>
                  <a:pt x="6449" y="10047"/>
                  <a:pt x="6509" y="10128"/>
                </a:cubicBezTo>
                <a:cubicBezTo>
                  <a:pt x="6538" y="10167"/>
                  <a:pt x="6604" y="10259"/>
                  <a:pt x="6636" y="10287"/>
                </a:cubicBezTo>
                <a:cubicBezTo>
                  <a:pt x="6691" y="10334"/>
                  <a:pt x="6751" y="10380"/>
                  <a:pt x="6794" y="10446"/>
                </a:cubicBezTo>
                <a:cubicBezTo>
                  <a:pt x="6839" y="10516"/>
                  <a:pt x="6893" y="10544"/>
                  <a:pt x="6953" y="10604"/>
                </a:cubicBezTo>
                <a:cubicBezTo>
                  <a:pt x="6986" y="10637"/>
                  <a:pt x="6975" y="10615"/>
                  <a:pt x="7017" y="10636"/>
                </a:cubicBezTo>
              </a:path>
              <a:path w="1303" h="1271">
                <a:moveTo>
                  <a:pt x="5937" y="9525"/>
                </a:moveTo>
                <a:lnTo>
                  <a:pt x="5937" y="9525"/>
                </a:lnTo>
              </a:path>
              <a:path w="1303" h="1271">
                <a:moveTo>
                  <a:pt x="5937" y="9525"/>
                </a:moveTo>
                <a:cubicBezTo>
                  <a:pt x="5948" y="9525"/>
                  <a:pt x="5958" y="9525"/>
                  <a:pt x="5969" y="9525"/>
                </a:cubicBezTo>
              </a:path>
              <a:path w="1303" h="1271">
                <a:moveTo>
                  <a:pt x="5969" y="9525"/>
                </a:moveTo>
                <a:cubicBezTo>
                  <a:pt x="6093" y="9525"/>
                  <a:pt x="6211" y="9513"/>
                  <a:pt x="6318" y="9493"/>
                </a:cubicBezTo>
                <a:cubicBezTo>
                  <a:pt x="6409" y="9476"/>
                  <a:pt x="6515" y="9476"/>
                  <a:pt x="6604" y="9462"/>
                </a:cubicBezTo>
                <a:cubicBezTo>
                  <a:pt x="6798" y="9431"/>
                  <a:pt x="6962" y="9458"/>
                  <a:pt x="7112" y="9398"/>
                </a:cubicBezTo>
                <a:cubicBezTo>
                  <a:pt x="7142" y="9386"/>
                  <a:pt x="7206" y="9398"/>
                  <a:pt x="7239" y="9398"/>
                </a:cubicBezTo>
                <a:cubicBezTo>
                  <a:pt x="7239" y="9522"/>
                  <a:pt x="7223" y="9641"/>
                  <a:pt x="7207" y="9747"/>
                </a:cubicBezTo>
                <a:cubicBezTo>
                  <a:pt x="7191" y="9854"/>
                  <a:pt x="7195" y="9970"/>
                  <a:pt x="7176" y="10065"/>
                </a:cubicBezTo>
                <a:cubicBezTo>
                  <a:pt x="7142" y="10238"/>
                  <a:pt x="7176" y="10443"/>
                  <a:pt x="7144" y="10604"/>
                </a:cubicBezTo>
                <a:cubicBezTo>
                  <a:pt x="7131" y="10669"/>
                  <a:pt x="7140" y="10633"/>
                  <a:pt x="7112" y="10668"/>
                </a:cubicBezTo>
              </a:path>
              <a:path w="1303" h="1271">
                <a:moveTo>
                  <a:pt x="6096" y="9620"/>
                </a:moveTo>
                <a:cubicBezTo>
                  <a:pt x="6190" y="9620"/>
                  <a:pt x="6263" y="9603"/>
                  <a:pt x="6350" y="9588"/>
                </a:cubicBezTo>
                <a:cubicBezTo>
                  <a:pt x="6479" y="9565"/>
                  <a:pt x="6612" y="9600"/>
                  <a:pt x="6731" y="9620"/>
                </a:cubicBezTo>
                <a:cubicBezTo>
                  <a:pt x="6821" y="9635"/>
                  <a:pt x="6925" y="9620"/>
                  <a:pt x="7017" y="9620"/>
                </a:cubicBezTo>
                <a:cubicBezTo>
                  <a:pt x="6914" y="9620"/>
                  <a:pt x="6831" y="9638"/>
                  <a:pt x="6731" y="9652"/>
                </a:cubicBezTo>
                <a:cubicBezTo>
                  <a:pt x="6629" y="9667"/>
                  <a:pt x="6544" y="9695"/>
                  <a:pt x="6445" y="9716"/>
                </a:cubicBezTo>
                <a:cubicBezTo>
                  <a:pt x="6437" y="9718"/>
                  <a:pt x="6274" y="9743"/>
                  <a:pt x="6286" y="9779"/>
                </a:cubicBezTo>
                <a:cubicBezTo>
                  <a:pt x="6297" y="9779"/>
                  <a:pt x="6307" y="9779"/>
                  <a:pt x="6318" y="9779"/>
                </a:cubicBezTo>
                <a:cubicBezTo>
                  <a:pt x="6389" y="9779"/>
                  <a:pt x="6438" y="9751"/>
                  <a:pt x="6509" y="9747"/>
                </a:cubicBezTo>
                <a:cubicBezTo>
                  <a:pt x="6672" y="9738"/>
                  <a:pt x="6832" y="9744"/>
                  <a:pt x="6985" y="9779"/>
                </a:cubicBezTo>
                <a:cubicBezTo>
                  <a:pt x="6996" y="9779"/>
                  <a:pt x="7006" y="9779"/>
                  <a:pt x="7017" y="9779"/>
                </a:cubicBezTo>
                <a:cubicBezTo>
                  <a:pt x="6955" y="9794"/>
                  <a:pt x="6895" y="9831"/>
                  <a:pt x="6826" y="9842"/>
                </a:cubicBezTo>
                <a:cubicBezTo>
                  <a:pt x="6744" y="9855"/>
                  <a:pt x="6646" y="9861"/>
                  <a:pt x="6572" y="9906"/>
                </a:cubicBezTo>
                <a:cubicBezTo>
                  <a:pt x="6525" y="9935"/>
                  <a:pt x="6490" y="9930"/>
                  <a:pt x="6477" y="9970"/>
                </a:cubicBezTo>
                <a:cubicBezTo>
                  <a:pt x="6600" y="9970"/>
                  <a:pt x="6710" y="9983"/>
                  <a:pt x="6826" y="10001"/>
                </a:cubicBezTo>
                <a:cubicBezTo>
                  <a:pt x="6908" y="10014"/>
                  <a:pt x="7011" y="10031"/>
                  <a:pt x="7080" y="10065"/>
                </a:cubicBezTo>
                <a:cubicBezTo>
                  <a:pt x="7109" y="10093"/>
                  <a:pt x="7120" y="10099"/>
                  <a:pt x="7112" y="10128"/>
                </a:cubicBezTo>
                <a:cubicBezTo>
                  <a:pt x="7057" y="10142"/>
                  <a:pt x="7014" y="10181"/>
                  <a:pt x="6953" y="10192"/>
                </a:cubicBezTo>
                <a:cubicBezTo>
                  <a:pt x="6873" y="10206"/>
                  <a:pt x="6801" y="10235"/>
                  <a:pt x="6731" y="10255"/>
                </a:cubicBezTo>
                <a:cubicBezTo>
                  <a:pt x="6720" y="10255"/>
                  <a:pt x="6710" y="10255"/>
                  <a:pt x="6699" y="10255"/>
                </a:cubicBezTo>
                <a:cubicBezTo>
                  <a:pt x="6715" y="10303"/>
                  <a:pt x="6737" y="10287"/>
                  <a:pt x="6794" y="10287"/>
                </a:cubicBezTo>
                <a:cubicBezTo>
                  <a:pt x="6871" y="10287"/>
                  <a:pt x="6889" y="10312"/>
                  <a:pt x="6953" y="10319"/>
                </a:cubicBezTo>
                <a:cubicBezTo>
                  <a:pt x="6985" y="10319"/>
                  <a:pt x="6996" y="10319"/>
                  <a:pt x="6953" y="10319"/>
                </a:cubicBezTo>
                <a:cubicBezTo>
                  <a:pt x="6932" y="10383"/>
                  <a:pt x="6893" y="10313"/>
                  <a:pt x="6858" y="10382"/>
                </a:cubicBezTo>
                <a:cubicBezTo>
                  <a:pt x="6835" y="10429"/>
                  <a:pt x="6862" y="10510"/>
                  <a:pt x="6890" y="10541"/>
                </a:cubicBezTo>
                <a:cubicBezTo>
                  <a:pt x="6919" y="10570"/>
                  <a:pt x="6925" y="10580"/>
                  <a:pt x="6953" y="10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Ink 7"/>
          <p:cNvSpPr/>
          <p:nvPr/>
        </p:nvSpPr>
        <p:spPr>
          <a:xfrm>
            <a:off x="1749600" y="4275000"/>
            <a:ext cx="468000" cy="606600"/>
          </a:xfrm>
          <a:custGeom>
            <a:avLst/>
            <a:gdLst/>
            <a:ahLst/>
            <a:rect l="l" t="t" r="r" b="b"/>
            <a:pathLst>
              <a:path w="1303" h="1684">
                <a:moveTo>
                  <a:pt x="4985" y="12033"/>
                </a:moveTo>
                <a:cubicBezTo>
                  <a:pt x="5007" y="12071"/>
                  <a:pt x="5013" y="12068"/>
                  <a:pt x="5016" y="12128"/>
                </a:cubicBezTo>
                <a:cubicBezTo>
                  <a:pt x="5019" y="12202"/>
                  <a:pt x="4993" y="12251"/>
                  <a:pt x="4985" y="12319"/>
                </a:cubicBezTo>
                <a:cubicBezTo>
                  <a:pt x="4972" y="12432"/>
                  <a:pt x="4956" y="12529"/>
                  <a:pt x="4921" y="12636"/>
                </a:cubicBezTo>
                <a:cubicBezTo>
                  <a:pt x="4888" y="12736"/>
                  <a:pt x="4874" y="12855"/>
                  <a:pt x="4858" y="12954"/>
                </a:cubicBezTo>
                <a:cubicBezTo>
                  <a:pt x="4831" y="13124"/>
                  <a:pt x="4858" y="13321"/>
                  <a:pt x="4858" y="13494"/>
                </a:cubicBezTo>
                <a:cubicBezTo>
                  <a:pt x="4885" y="13467"/>
                  <a:pt x="4815" y="13479"/>
                  <a:pt x="4890" y="13462"/>
                </a:cubicBezTo>
                <a:cubicBezTo>
                  <a:pt x="4949" y="13448"/>
                  <a:pt x="4940" y="13439"/>
                  <a:pt x="4985" y="13430"/>
                </a:cubicBezTo>
                <a:cubicBezTo>
                  <a:pt x="5051" y="13417"/>
                  <a:pt x="5082" y="13381"/>
                  <a:pt x="5144" y="13367"/>
                </a:cubicBezTo>
                <a:cubicBezTo>
                  <a:pt x="5194" y="13355"/>
                  <a:pt x="5286" y="13326"/>
                  <a:pt x="5334" y="13335"/>
                </a:cubicBezTo>
                <a:cubicBezTo>
                  <a:pt x="5401" y="13347"/>
                  <a:pt x="5452" y="13364"/>
                  <a:pt x="5524" y="13367"/>
                </a:cubicBezTo>
                <a:cubicBezTo>
                  <a:pt x="5623" y="13372"/>
                  <a:pt x="5676" y="13445"/>
                  <a:pt x="5778" y="13462"/>
                </a:cubicBezTo>
                <a:cubicBezTo>
                  <a:pt x="5849" y="13474"/>
                  <a:pt x="5907" y="13513"/>
                  <a:pt x="5969" y="13526"/>
                </a:cubicBezTo>
                <a:cubicBezTo>
                  <a:pt x="6050" y="13542"/>
                  <a:pt x="6124" y="13516"/>
                  <a:pt x="6160" y="13494"/>
                </a:cubicBezTo>
                <a:cubicBezTo>
                  <a:pt x="6131" y="13465"/>
                  <a:pt x="6121" y="13468"/>
                  <a:pt x="6096" y="13430"/>
                </a:cubicBezTo>
                <a:cubicBezTo>
                  <a:pt x="6051" y="13360"/>
                  <a:pt x="6033" y="13303"/>
                  <a:pt x="6001" y="13240"/>
                </a:cubicBezTo>
                <a:cubicBezTo>
                  <a:pt x="5967" y="13171"/>
                  <a:pt x="5932" y="13154"/>
                  <a:pt x="5906" y="13081"/>
                </a:cubicBezTo>
                <a:cubicBezTo>
                  <a:pt x="5879" y="13004"/>
                  <a:pt x="5815" y="12934"/>
                  <a:pt x="5778" y="12859"/>
                </a:cubicBezTo>
                <a:cubicBezTo>
                  <a:pt x="5744" y="12791"/>
                  <a:pt x="5698" y="12695"/>
                  <a:pt x="5652" y="12636"/>
                </a:cubicBezTo>
                <a:cubicBezTo>
                  <a:pt x="5588" y="12554"/>
                  <a:pt x="5552" y="12467"/>
                  <a:pt x="5493" y="12382"/>
                </a:cubicBezTo>
                <a:cubicBezTo>
                  <a:pt x="5446" y="12315"/>
                  <a:pt x="5377" y="12263"/>
                  <a:pt x="5334" y="12192"/>
                </a:cubicBezTo>
                <a:cubicBezTo>
                  <a:pt x="5288" y="12115"/>
                  <a:pt x="5234" y="12037"/>
                  <a:pt x="5175" y="11970"/>
                </a:cubicBezTo>
                <a:cubicBezTo>
                  <a:pt x="5138" y="11928"/>
                  <a:pt x="5134" y="11920"/>
                  <a:pt x="5080" y="11906"/>
                </a:cubicBezTo>
              </a:path>
              <a:path w="1303" h="1684">
                <a:moveTo>
                  <a:pt x="5048" y="11938"/>
                </a:moveTo>
                <a:cubicBezTo>
                  <a:pt x="5048" y="12139"/>
                  <a:pt x="5048" y="12340"/>
                  <a:pt x="5048" y="12541"/>
                </a:cubicBezTo>
                <a:cubicBezTo>
                  <a:pt x="5067" y="12513"/>
                  <a:pt x="5084" y="12476"/>
                  <a:pt x="5112" y="12414"/>
                </a:cubicBezTo>
                <a:cubicBezTo>
                  <a:pt x="5133" y="12368"/>
                  <a:pt x="5148" y="12332"/>
                  <a:pt x="5175" y="12287"/>
                </a:cubicBezTo>
                <a:cubicBezTo>
                  <a:pt x="5210" y="12228"/>
                  <a:pt x="5196" y="12235"/>
                  <a:pt x="5270" y="12224"/>
                </a:cubicBezTo>
                <a:cubicBezTo>
                  <a:pt x="5315" y="12299"/>
                  <a:pt x="5299" y="12277"/>
                  <a:pt x="5270" y="12351"/>
                </a:cubicBezTo>
                <a:cubicBezTo>
                  <a:pt x="5243" y="12419"/>
                  <a:pt x="5210" y="12473"/>
                  <a:pt x="5175" y="12541"/>
                </a:cubicBezTo>
                <a:cubicBezTo>
                  <a:pt x="5119" y="12648"/>
                  <a:pt x="5084" y="12752"/>
                  <a:pt x="5048" y="12859"/>
                </a:cubicBezTo>
                <a:cubicBezTo>
                  <a:pt x="5022" y="12911"/>
                  <a:pt x="5011" y="12919"/>
                  <a:pt x="5016" y="12954"/>
                </a:cubicBezTo>
                <a:cubicBezTo>
                  <a:pt x="5074" y="12983"/>
                  <a:pt x="5045" y="12989"/>
                  <a:pt x="5080" y="12890"/>
                </a:cubicBezTo>
                <a:cubicBezTo>
                  <a:pt x="5108" y="12811"/>
                  <a:pt x="5188" y="12747"/>
                  <a:pt x="5207" y="12668"/>
                </a:cubicBezTo>
                <a:cubicBezTo>
                  <a:pt x="5223" y="12601"/>
                  <a:pt x="5244" y="12544"/>
                  <a:pt x="5270" y="12478"/>
                </a:cubicBezTo>
                <a:cubicBezTo>
                  <a:pt x="5260" y="12537"/>
                  <a:pt x="5266" y="12552"/>
                  <a:pt x="5239" y="12605"/>
                </a:cubicBezTo>
                <a:cubicBezTo>
                  <a:pt x="5192" y="12698"/>
                  <a:pt x="5149" y="12793"/>
                  <a:pt x="5112" y="12890"/>
                </a:cubicBezTo>
                <a:cubicBezTo>
                  <a:pt x="5075" y="12989"/>
                  <a:pt x="5033" y="13107"/>
                  <a:pt x="5016" y="13208"/>
                </a:cubicBezTo>
                <a:cubicBezTo>
                  <a:pt x="5016" y="13240"/>
                  <a:pt x="5016" y="13251"/>
                  <a:pt x="5016" y="13272"/>
                </a:cubicBezTo>
                <a:cubicBezTo>
                  <a:pt x="5100" y="13260"/>
                  <a:pt x="5098" y="13263"/>
                  <a:pt x="5144" y="13176"/>
                </a:cubicBezTo>
                <a:cubicBezTo>
                  <a:pt x="5195" y="13079"/>
                  <a:pt x="5274" y="13011"/>
                  <a:pt x="5334" y="12922"/>
                </a:cubicBezTo>
                <a:cubicBezTo>
                  <a:pt x="5360" y="12884"/>
                  <a:pt x="5407" y="12779"/>
                  <a:pt x="5461" y="12764"/>
                </a:cubicBezTo>
                <a:cubicBezTo>
                  <a:pt x="5493" y="12764"/>
                  <a:pt x="5503" y="12764"/>
                  <a:pt x="5524" y="12764"/>
                </a:cubicBezTo>
                <a:cubicBezTo>
                  <a:pt x="5488" y="12824"/>
                  <a:pt x="5468" y="12888"/>
                  <a:pt x="5429" y="12954"/>
                </a:cubicBezTo>
                <a:cubicBezTo>
                  <a:pt x="5379" y="13039"/>
                  <a:pt x="5383" y="13129"/>
                  <a:pt x="5334" y="13208"/>
                </a:cubicBezTo>
                <a:cubicBezTo>
                  <a:pt x="5298" y="13267"/>
                  <a:pt x="5302" y="13334"/>
                  <a:pt x="5302" y="13335"/>
                </a:cubicBezTo>
                <a:cubicBezTo>
                  <a:pt x="5341" y="13268"/>
                  <a:pt x="5390" y="13209"/>
                  <a:pt x="5429" y="13144"/>
                </a:cubicBezTo>
                <a:cubicBezTo>
                  <a:pt x="5468" y="13079"/>
                  <a:pt x="5516" y="13026"/>
                  <a:pt x="5556" y="12986"/>
                </a:cubicBezTo>
                <a:cubicBezTo>
                  <a:pt x="5590" y="12952"/>
                  <a:pt x="5553" y="12964"/>
                  <a:pt x="5620" y="12954"/>
                </a:cubicBezTo>
                <a:cubicBezTo>
                  <a:pt x="5628" y="13011"/>
                  <a:pt x="5663" y="13056"/>
                  <a:pt x="5652" y="13113"/>
                </a:cubicBezTo>
                <a:cubicBezTo>
                  <a:pt x="5638" y="13187"/>
                  <a:pt x="5602" y="13253"/>
                  <a:pt x="5620" y="13335"/>
                </a:cubicBezTo>
                <a:cubicBezTo>
                  <a:pt x="5632" y="13388"/>
                  <a:pt x="5657" y="13483"/>
                  <a:pt x="5683" y="13526"/>
                </a:cubicBezTo>
                <a:cubicBezTo>
                  <a:pt x="5694" y="13536"/>
                  <a:pt x="5704" y="13547"/>
                  <a:pt x="5715" y="13557"/>
                </a:cubicBezTo>
                <a:cubicBezTo>
                  <a:pt x="5726" y="13546"/>
                  <a:pt x="5802" y="13500"/>
                  <a:pt x="5810" y="13462"/>
                </a:cubicBezTo>
                <a:cubicBezTo>
                  <a:pt x="5828" y="13377"/>
                  <a:pt x="5783" y="13312"/>
                  <a:pt x="5747" y="13240"/>
                </a:cubicBezTo>
                <a:cubicBezTo>
                  <a:pt x="5698" y="13141"/>
                  <a:pt x="5634" y="13046"/>
                  <a:pt x="5588" y="12954"/>
                </a:cubicBezTo>
                <a:cubicBezTo>
                  <a:pt x="5533" y="12844"/>
                  <a:pt x="5466" y="12770"/>
                  <a:pt x="5398" y="12668"/>
                </a:cubicBezTo>
                <a:cubicBezTo>
                  <a:pt x="5362" y="12614"/>
                  <a:pt x="5343" y="12560"/>
                  <a:pt x="5302" y="12510"/>
                </a:cubicBezTo>
                <a:cubicBezTo>
                  <a:pt x="5183" y="12449"/>
                  <a:pt x="5359" y="12565"/>
                  <a:pt x="5366" y="12573"/>
                </a:cubicBezTo>
                <a:cubicBezTo>
                  <a:pt x="5443" y="12661"/>
                  <a:pt x="5510" y="12769"/>
                  <a:pt x="5588" y="12859"/>
                </a:cubicBezTo>
                <a:cubicBezTo>
                  <a:pt x="5647" y="12927"/>
                  <a:pt x="5678" y="12968"/>
                  <a:pt x="5747" y="13018"/>
                </a:cubicBezTo>
                <a:cubicBezTo>
                  <a:pt x="5747" y="12989"/>
                  <a:pt x="5733" y="12942"/>
                  <a:pt x="5683" y="12859"/>
                </a:cubicBezTo>
                <a:cubicBezTo>
                  <a:pt x="5627" y="12766"/>
                  <a:pt x="5561" y="12658"/>
                  <a:pt x="5493" y="12573"/>
                </a:cubicBezTo>
                <a:cubicBezTo>
                  <a:pt x="5426" y="12489"/>
                  <a:pt x="5346" y="12415"/>
                  <a:pt x="5270" y="12351"/>
                </a:cubicBezTo>
                <a:cubicBezTo>
                  <a:pt x="5239" y="12319"/>
                  <a:pt x="5228" y="12308"/>
                  <a:pt x="5207" y="12287"/>
                </a:cubicBezTo>
                <a:cubicBezTo>
                  <a:pt x="5207" y="12288"/>
                  <a:pt x="5228" y="12329"/>
                  <a:pt x="5270" y="12382"/>
                </a:cubicBezTo>
                <a:cubicBezTo>
                  <a:pt x="5340" y="12470"/>
                  <a:pt x="5399" y="12571"/>
                  <a:pt x="5461" y="12668"/>
                </a:cubicBezTo>
                <a:cubicBezTo>
                  <a:pt x="5528" y="12771"/>
                  <a:pt x="5616" y="12853"/>
                  <a:pt x="5683" y="12954"/>
                </a:cubicBezTo>
                <a:cubicBezTo>
                  <a:pt x="5709" y="13006"/>
                  <a:pt x="5720" y="13014"/>
                  <a:pt x="5715" y="13049"/>
                </a:cubicBezTo>
                <a:cubicBezTo>
                  <a:pt x="5681" y="12965"/>
                  <a:pt x="5631" y="12936"/>
                  <a:pt x="5588" y="12859"/>
                </a:cubicBezTo>
                <a:cubicBezTo>
                  <a:pt x="5538" y="12768"/>
                  <a:pt x="5495" y="12658"/>
                  <a:pt x="5429" y="12573"/>
                </a:cubicBezTo>
                <a:cubicBezTo>
                  <a:pt x="5364" y="12489"/>
                  <a:pt x="5298" y="12408"/>
                  <a:pt x="5239" y="12319"/>
                </a:cubicBezTo>
                <a:cubicBezTo>
                  <a:pt x="5211" y="12264"/>
                  <a:pt x="5206" y="12249"/>
                  <a:pt x="5175" y="12224"/>
                </a:cubicBezTo>
                <a:cubicBezTo>
                  <a:pt x="5097" y="12144"/>
                  <a:pt x="5196" y="12269"/>
                  <a:pt x="5207" y="12287"/>
                </a:cubicBezTo>
                <a:cubicBezTo>
                  <a:pt x="5263" y="12380"/>
                  <a:pt x="5308" y="12480"/>
                  <a:pt x="5366" y="12573"/>
                </a:cubicBezTo>
                <a:cubicBezTo>
                  <a:pt x="5444" y="12698"/>
                  <a:pt x="5528" y="12820"/>
                  <a:pt x="5588" y="12954"/>
                </a:cubicBezTo>
                <a:cubicBezTo>
                  <a:pt x="5629" y="13045"/>
                  <a:pt x="5647" y="13133"/>
                  <a:pt x="5715" y="13208"/>
                </a:cubicBezTo>
                <a:cubicBezTo>
                  <a:pt x="5747" y="13240"/>
                  <a:pt x="5758" y="13251"/>
                  <a:pt x="5715" y="13208"/>
                </a:cubicBezTo>
                <a:cubicBezTo>
                  <a:pt x="5647" y="13154"/>
                  <a:pt x="5587" y="13112"/>
                  <a:pt x="5524" y="13049"/>
                </a:cubicBezTo>
                <a:cubicBezTo>
                  <a:pt x="5450" y="12975"/>
                  <a:pt x="5361" y="12910"/>
                  <a:pt x="5270" y="12859"/>
                </a:cubicBezTo>
                <a:cubicBezTo>
                  <a:pt x="5199" y="12820"/>
                  <a:pt x="5126" y="12779"/>
                  <a:pt x="5048" y="12764"/>
                </a:cubicBezTo>
                <a:cubicBezTo>
                  <a:pt x="5016" y="12764"/>
                  <a:pt x="5006" y="12764"/>
                  <a:pt x="4985" y="12764"/>
                </a:cubicBezTo>
                <a:cubicBezTo>
                  <a:pt x="5043" y="12797"/>
                  <a:pt x="5083" y="12847"/>
                  <a:pt x="5144" y="12890"/>
                </a:cubicBezTo>
                <a:cubicBezTo>
                  <a:pt x="5203" y="12932"/>
                  <a:pt x="5291" y="12988"/>
                  <a:pt x="5334" y="13049"/>
                </a:cubicBezTo>
                <a:cubicBezTo>
                  <a:pt x="5430" y="13183"/>
                  <a:pt x="5297" y="13086"/>
                  <a:pt x="5270" y="13081"/>
                </a:cubicBezTo>
                <a:cubicBezTo>
                  <a:pt x="5189" y="13065"/>
                  <a:pt x="5136" y="13023"/>
                  <a:pt x="5048" y="13018"/>
                </a:cubicBezTo>
                <a:cubicBezTo>
                  <a:pt x="4991" y="13015"/>
                  <a:pt x="4970" y="13005"/>
                  <a:pt x="4953" y="13049"/>
                </a:cubicBezTo>
                <a:cubicBezTo>
                  <a:pt x="4934" y="13099"/>
                  <a:pt x="4990" y="13173"/>
                  <a:pt x="5016" y="13208"/>
                </a:cubicBezTo>
                <a:cubicBezTo>
                  <a:pt x="5053" y="13258"/>
                  <a:pt x="5119" y="13310"/>
                  <a:pt x="5144" y="13335"/>
                </a:cubicBezTo>
                <a:cubicBezTo>
                  <a:pt x="5127" y="13328"/>
                  <a:pt x="5036" y="13289"/>
                  <a:pt x="4985" y="13272"/>
                </a:cubicBezTo>
                <a:cubicBezTo>
                  <a:pt x="4940" y="13272"/>
                  <a:pt x="4918" y="13266"/>
                  <a:pt x="4890" y="132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Ink 8"/>
          <p:cNvSpPr/>
          <p:nvPr/>
        </p:nvSpPr>
        <p:spPr>
          <a:xfrm>
            <a:off x="5407200" y="3382920"/>
            <a:ext cx="2639880" cy="2527200"/>
          </a:xfrm>
          <a:custGeom>
            <a:avLst/>
            <a:gdLst/>
            <a:ahLst/>
            <a:rect l="l" t="t" r="r" b="b"/>
            <a:pathLst>
              <a:path w="7335" h="7018">
                <a:moveTo>
                  <a:pt x="19018" y="9970"/>
                </a:moveTo>
                <a:cubicBezTo>
                  <a:pt x="19006" y="10022"/>
                  <a:pt x="19000" y="10071"/>
                  <a:pt x="18986" y="10128"/>
                </a:cubicBezTo>
                <a:cubicBezTo>
                  <a:pt x="18963" y="10225"/>
                  <a:pt x="18957" y="10311"/>
                  <a:pt x="18955" y="10414"/>
                </a:cubicBezTo>
                <a:cubicBezTo>
                  <a:pt x="18949" y="10714"/>
                  <a:pt x="18946" y="11006"/>
                  <a:pt x="18923" y="11303"/>
                </a:cubicBezTo>
                <a:cubicBezTo>
                  <a:pt x="18882" y="11829"/>
                  <a:pt x="18926" y="12366"/>
                  <a:pt x="18891" y="12890"/>
                </a:cubicBezTo>
                <a:cubicBezTo>
                  <a:pt x="18834" y="13744"/>
                  <a:pt x="18873" y="14645"/>
                  <a:pt x="18923" y="15494"/>
                </a:cubicBezTo>
                <a:cubicBezTo>
                  <a:pt x="18941" y="15796"/>
                  <a:pt x="18937" y="16125"/>
                  <a:pt x="18891" y="16415"/>
                </a:cubicBezTo>
              </a:path>
              <a:path w="7335" h="7018">
                <a:moveTo>
                  <a:pt x="15018" y="12764"/>
                </a:moveTo>
                <a:cubicBezTo>
                  <a:pt x="15029" y="12764"/>
                  <a:pt x="15039" y="12764"/>
                  <a:pt x="15050" y="12764"/>
                </a:cubicBezTo>
              </a:path>
              <a:path w="7335" h="7018">
                <a:moveTo>
                  <a:pt x="15018" y="12764"/>
                </a:moveTo>
                <a:cubicBezTo>
                  <a:pt x="15039" y="12774"/>
                  <a:pt x="15060" y="12785"/>
                  <a:pt x="15081" y="12795"/>
                </a:cubicBezTo>
              </a:path>
              <a:path w="7335" h="7018">
                <a:moveTo>
                  <a:pt x="15081" y="12795"/>
                </a:moveTo>
                <a:cubicBezTo>
                  <a:pt x="15139" y="12809"/>
                  <a:pt x="15187" y="12814"/>
                  <a:pt x="15240" y="12827"/>
                </a:cubicBezTo>
                <a:cubicBezTo>
                  <a:pt x="15314" y="12845"/>
                  <a:pt x="15387" y="12844"/>
                  <a:pt x="15462" y="12859"/>
                </a:cubicBezTo>
                <a:cubicBezTo>
                  <a:pt x="15575" y="12882"/>
                  <a:pt x="15666" y="12876"/>
                  <a:pt x="15780" y="12890"/>
                </a:cubicBezTo>
                <a:cubicBezTo>
                  <a:pt x="15935" y="12909"/>
                  <a:pt x="16102" y="12926"/>
                  <a:pt x="16256" y="12954"/>
                </a:cubicBezTo>
                <a:cubicBezTo>
                  <a:pt x="16415" y="12983"/>
                  <a:pt x="16574" y="12992"/>
                  <a:pt x="16732" y="13018"/>
                </a:cubicBezTo>
                <a:cubicBezTo>
                  <a:pt x="16912" y="13047"/>
                  <a:pt x="17093" y="13053"/>
                  <a:pt x="17272" y="13081"/>
                </a:cubicBezTo>
                <a:cubicBezTo>
                  <a:pt x="17500" y="13116"/>
                  <a:pt x="17740" y="13154"/>
                  <a:pt x="17970" y="13176"/>
                </a:cubicBezTo>
                <a:cubicBezTo>
                  <a:pt x="18234" y="13201"/>
                  <a:pt x="18499" y="13254"/>
                  <a:pt x="18764" y="13272"/>
                </a:cubicBezTo>
                <a:cubicBezTo>
                  <a:pt x="18973" y="13286"/>
                  <a:pt x="19227" y="13312"/>
                  <a:pt x="19431" y="13303"/>
                </a:cubicBezTo>
                <a:cubicBezTo>
                  <a:pt x="19642" y="13294"/>
                  <a:pt x="19851" y="13272"/>
                  <a:pt x="20066" y="13272"/>
                </a:cubicBezTo>
                <a:cubicBezTo>
                  <a:pt x="20569" y="13272"/>
                  <a:pt x="21093" y="13230"/>
                  <a:pt x="21590" y="13303"/>
                </a:cubicBezTo>
                <a:cubicBezTo>
                  <a:pt x="21727" y="13323"/>
                  <a:pt x="21871" y="13319"/>
                  <a:pt x="22003" y="13367"/>
                </a:cubicBezTo>
                <a:cubicBezTo>
                  <a:pt x="22094" y="13427"/>
                  <a:pt x="22122" y="13447"/>
                  <a:pt x="22193" y="13462"/>
                </a:cubicBezTo>
              </a:path>
              <a:path w="7335" h="7018">
                <a:moveTo>
                  <a:pt x="18066" y="13113"/>
                </a:moveTo>
                <a:cubicBezTo>
                  <a:pt x="18068" y="13108"/>
                  <a:pt x="18124" y="13050"/>
                  <a:pt x="18129" y="13018"/>
                </a:cubicBezTo>
                <a:cubicBezTo>
                  <a:pt x="18134" y="12987"/>
                  <a:pt x="18126" y="12953"/>
                  <a:pt x="18129" y="12922"/>
                </a:cubicBezTo>
                <a:cubicBezTo>
                  <a:pt x="18152" y="12924"/>
                  <a:pt x="18231" y="12984"/>
                  <a:pt x="18256" y="12954"/>
                </a:cubicBezTo>
                <a:cubicBezTo>
                  <a:pt x="18286" y="12918"/>
                  <a:pt x="18279" y="12873"/>
                  <a:pt x="18288" y="12827"/>
                </a:cubicBezTo>
                <a:cubicBezTo>
                  <a:pt x="18296" y="12786"/>
                  <a:pt x="18285" y="12741"/>
                  <a:pt x="18288" y="12700"/>
                </a:cubicBezTo>
                <a:cubicBezTo>
                  <a:pt x="18307" y="12722"/>
                  <a:pt x="18328" y="12757"/>
                  <a:pt x="18352" y="12795"/>
                </a:cubicBezTo>
                <a:cubicBezTo>
                  <a:pt x="18383" y="12795"/>
                  <a:pt x="18394" y="12795"/>
                  <a:pt x="18383" y="12827"/>
                </a:cubicBezTo>
                <a:cubicBezTo>
                  <a:pt x="18398" y="12782"/>
                  <a:pt x="18424" y="12709"/>
                  <a:pt x="18447" y="12668"/>
                </a:cubicBezTo>
                <a:cubicBezTo>
                  <a:pt x="18447" y="12636"/>
                  <a:pt x="18447" y="12626"/>
                  <a:pt x="18478" y="12636"/>
                </a:cubicBezTo>
                <a:cubicBezTo>
                  <a:pt x="18511" y="12669"/>
                  <a:pt x="18504" y="12760"/>
                  <a:pt x="18542" y="12732"/>
                </a:cubicBezTo>
                <a:cubicBezTo>
                  <a:pt x="18584" y="12701"/>
                  <a:pt x="18589" y="12616"/>
                  <a:pt x="18606" y="12573"/>
                </a:cubicBezTo>
                <a:cubicBezTo>
                  <a:pt x="18622" y="12534"/>
                  <a:pt x="18624" y="12486"/>
                  <a:pt x="18637" y="12446"/>
                </a:cubicBezTo>
                <a:cubicBezTo>
                  <a:pt x="18667" y="12482"/>
                  <a:pt x="18654" y="12544"/>
                  <a:pt x="18701" y="12541"/>
                </a:cubicBezTo>
                <a:cubicBezTo>
                  <a:pt x="18790" y="12535"/>
                  <a:pt x="18732" y="12538"/>
                  <a:pt x="18764" y="12478"/>
                </a:cubicBezTo>
                <a:cubicBezTo>
                  <a:pt x="18792" y="12424"/>
                  <a:pt x="18793" y="12386"/>
                  <a:pt x="18796" y="12319"/>
                </a:cubicBezTo>
                <a:cubicBezTo>
                  <a:pt x="18798" y="12263"/>
                  <a:pt x="18822" y="12241"/>
                  <a:pt x="18828" y="12224"/>
                </a:cubicBezTo>
                <a:cubicBezTo>
                  <a:pt x="18850" y="12259"/>
                  <a:pt x="18851" y="12275"/>
                  <a:pt x="18891" y="12319"/>
                </a:cubicBezTo>
                <a:cubicBezTo>
                  <a:pt x="18891" y="12351"/>
                  <a:pt x="18891" y="12362"/>
                  <a:pt x="18923" y="12351"/>
                </a:cubicBezTo>
                <a:cubicBezTo>
                  <a:pt x="18925" y="12346"/>
                  <a:pt x="18981" y="12288"/>
                  <a:pt x="18986" y="12256"/>
                </a:cubicBezTo>
                <a:cubicBezTo>
                  <a:pt x="18993" y="12215"/>
                  <a:pt x="18983" y="12170"/>
                  <a:pt x="18986" y="12128"/>
                </a:cubicBezTo>
                <a:cubicBezTo>
                  <a:pt x="19015" y="12148"/>
                  <a:pt x="19063" y="12210"/>
                  <a:pt x="19082" y="12224"/>
                </a:cubicBezTo>
                <a:cubicBezTo>
                  <a:pt x="19093" y="12224"/>
                  <a:pt x="19103" y="12224"/>
                  <a:pt x="19114" y="12224"/>
                </a:cubicBezTo>
                <a:cubicBezTo>
                  <a:pt x="19125" y="12202"/>
                  <a:pt x="19179" y="12165"/>
                  <a:pt x="19177" y="12097"/>
                </a:cubicBezTo>
                <a:cubicBezTo>
                  <a:pt x="19174" y="12013"/>
                  <a:pt x="19177" y="11975"/>
                  <a:pt x="19177" y="11906"/>
                </a:cubicBezTo>
                <a:cubicBezTo>
                  <a:pt x="19199" y="11928"/>
                  <a:pt x="19241" y="11977"/>
                  <a:pt x="19272" y="12002"/>
                </a:cubicBezTo>
                <a:cubicBezTo>
                  <a:pt x="19308" y="12031"/>
                  <a:pt x="19310" y="12024"/>
                  <a:pt x="19336" y="12065"/>
                </a:cubicBezTo>
                <a:cubicBezTo>
                  <a:pt x="19348" y="12044"/>
                  <a:pt x="19401" y="12030"/>
                  <a:pt x="19399" y="11970"/>
                </a:cubicBezTo>
                <a:cubicBezTo>
                  <a:pt x="19396" y="11884"/>
                  <a:pt x="19371" y="11779"/>
                  <a:pt x="19368" y="11684"/>
                </a:cubicBezTo>
                <a:cubicBezTo>
                  <a:pt x="19368" y="11652"/>
                  <a:pt x="19368" y="11641"/>
                  <a:pt x="19368" y="11620"/>
                </a:cubicBezTo>
                <a:cubicBezTo>
                  <a:pt x="19409" y="11666"/>
                  <a:pt x="19420" y="11676"/>
                  <a:pt x="19463" y="11748"/>
                </a:cubicBezTo>
                <a:cubicBezTo>
                  <a:pt x="19483" y="11782"/>
                  <a:pt x="19505" y="11849"/>
                  <a:pt x="19526" y="11874"/>
                </a:cubicBezTo>
                <a:cubicBezTo>
                  <a:pt x="19537" y="11874"/>
                  <a:pt x="19547" y="11874"/>
                  <a:pt x="19558" y="11874"/>
                </a:cubicBezTo>
                <a:cubicBezTo>
                  <a:pt x="19550" y="11765"/>
                  <a:pt x="19536" y="11664"/>
                  <a:pt x="19526" y="11557"/>
                </a:cubicBezTo>
                <a:cubicBezTo>
                  <a:pt x="19519" y="11475"/>
                  <a:pt x="19551" y="11487"/>
                  <a:pt x="19558" y="11430"/>
                </a:cubicBezTo>
                <a:cubicBezTo>
                  <a:pt x="19600" y="11476"/>
                  <a:pt x="19627" y="11511"/>
                  <a:pt x="19653" y="11557"/>
                </a:cubicBezTo>
                <a:cubicBezTo>
                  <a:pt x="19678" y="11600"/>
                  <a:pt x="19742" y="11666"/>
                  <a:pt x="19748" y="11684"/>
                </a:cubicBezTo>
                <a:cubicBezTo>
                  <a:pt x="19748" y="11695"/>
                  <a:pt x="19748" y="11705"/>
                  <a:pt x="19748" y="11716"/>
                </a:cubicBezTo>
                <a:cubicBezTo>
                  <a:pt x="19756" y="11691"/>
                  <a:pt x="19778" y="11660"/>
                  <a:pt x="19780" y="11589"/>
                </a:cubicBezTo>
                <a:cubicBezTo>
                  <a:pt x="19784" y="11477"/>
                  <a:pt x="19752" y="11382"/>
                  <a:pt x="19748" y="11271"/>
                </a:cubicBezTo>
                <a:cubicBezTo>
                  <a:pt x="19745" y="11185"/>
                  <a:pt x="19767" y="11206"/>
                  <a:pt x="19780" y="11144"/>
                </a:cubicBezTo>
                <a:cubicBezTo>
                  <a:pt x="19799" y="11189"/>
                  <a:pt x="19820" y="11229"/>
                  <a:pt x="19844" y="11303"/>
                </a:cubicBezTo>
                <a:cubicBezTo>
                  <a:pt x="19866" y="11371"/>
                  <a:pt x="19903" y="11451"/>
                  <a:pt x="19939" y="11525"/>
                </a:cubicBezTo>
                <a:cubicBezTo>
                  <a:pt x="19939" y="11561"/>
                  <a:pt x="19942" y="11575"/>
                  <a:pt x="19971" y="11589"/>
                </a:cubicBezTo>
                <a:cubicBezTo>
                  <a:pt x="19965" y="11513"/>
                  <a:pt x="19945" y="11434"/>
                  <a:pt x="19939" y="11366"/>
                </a:cubicBezTo>
                <a:cubicBezTo>
                  <a:pt x="19932" y="11286"/>
                  <a:pt x="19965" y="11203"/>
                  <a:pt x="19971" y="11176"/>
                </a:cubicBezTo>
                <a:cubicBezTo>
                  <a:pt x="19971" y="11165"/>
                  <a:pt x="19971" y="11155"/>
                  <a:pt x="19971" y="11144"/>
                </a:cubicBezTo>
                <a:cubicBezTo>
                  <a:pt x="20013" y="11208"/>
                  <a:pt x="20056" y="11271"/>
                  <a:pt x="20098" y="11335"/>
                </a:cubicBezTo>
                <a:cubicBezTo>
                  <a:pt x="20147" y="11409"/>
                  <a:pt x="20161" y="11421"/>
                  <a:pt x="20225" y="11462"/>
                </a:cubicBezTo>
                <a:cubicBezTo>
                  <a:pt x="20235" y="11462"/>
                  <a:pt x="20246" y="11462"/>
                  <a:pt x="20256" y="11462"/>
                </a:cubicBezTo>
                <a:cubicBezTo>
                  <a:pt x="20256" y="11282"/>
                  <a:pt x="20199" y="11128"/>
                  <a:pt x="20193" y="10954"/>
                </a:cubicBezTo>
                <a:cubicBezTo>
                  <a:pt x="20191" y="10912"/>
                  <a:pt x="20193" y="10869"/>
                  <a:pt x="20193" y="10827"/>
                </a:cubicBezTo>
                <a:cubicBezTo>
                  <a:pt x="20212" y="10855"/>
                  <a:pt x="20263" y="10892"/>
                  <a:pt x="20288" y="10954"/>
                </a:cubicBezTo>
                <a:cubicBezTo>
                  <a:pt x="20320" y="11035"/>
                  <a:pt x="20327" y="11099"/>
                  <a:pt x="20384" y="11176"/>
                </a:cubicBezTo>
                <a:cubicBezTo>
                  <a:pt x="20413" y="11215"/>
                  <a:pt x="20429" y="11220"/>
                  <a:pt x="20447" y="11240"/>
                </a:cubicBezTo>
                <a:cubicBezTo>
                  <a:pt x="20447" y="11067"/>
                  <a:pt x="20421" y="10903"/>
                  <a:pt x="20415" y="10732"/>
                </a:cubicBezTo>
                <a:cubicBezTo>
                  <a:pt x="20411" y="10611"/>
                  <a:pt x="20440" y="10640"/>
                  <a:pt x="20447" y="10604"/>
                </a:cubicBezTo>
                <a:cubicBezTo>
                  <a:pt x="20481" y="10649"/>
                  <a:pt x="20510" y="10702"/>
                  <a:pt x="20542" y="10763"/>
                </a:cubicBezTo>
                <a:cubicBezTo>
                  <a:pt x="20586" y="10847"/>
                  <a:pt x="20632" y="10952"/>
                  <a:pt x="20701" y="11017"/>
                </a:cubicBezTo>
                <a:cubicBezTo>
                  <a:pt x="20730" y="11046"/>
                  <a:pt x="20736" y="11056"/>
                  <a:pt x="20764" y="11049"/>
                </a:cubicBezTo>
                <a:cubicBezTo>
                  <a:pt x="20764" y="10899"/>
                  <a:pt x="20765" y="10748"/>
                  <a:pt x="20733" y="10604"/>
                </a:cubicBezTo>
                <a:cubicBezTo>
                  <a:pt x="20712" y="10510"/>
                  <a:pt x="20728" y="10418"/>
                  <a:pt x="20733" y="10382"/>
                </a:cubicBezTo>
                <a:cubicBezTo>
                  <a:pt x="20753" y="10435"/>
                  <a:pt x="20769" y="10483"/>
                  <a:pt x="20796" y="10541"/>
                </a:cubicBezTo>
                <a:cubicBezTo>
                  <a:pt x="20835" y="10627"/>
                  <a:pt x="20866" y="10755"/>
                  <a:pt x="20923" y="10827"/>
                </a:cubicBezTo>
                <a:cubicBezTo>
                  <a:pt x="20948" y="10858"/>
                  <a:pt x="21025" y="10871"/>
                  <a:pt x="21050" y="10890"/>
                </a:cubicBezTo>
                <a:cubicBezTo>
                  <a:pt x="21041" y="10771"/>
                  <a:pt x="21039" y="10657"/>
                  <a:pt x="21018" y="10541"/>
                </a:cubicBezTo>
                <a:cubicBezTo>
                  <a:pt x="20996" y="10423"/>
                  <a:pt x="20948" y="10280"/>
                  <a:pt x="20955" y="10160"/>
                </a:cubicBezTo>
                <a:cubicBezTo>
                  <a:pt x="20955" y="10102"/>
                  <a:pt x="20950" y="10086"/>
                  <a:pt x="20987" y="10065"/>
                </a:cubicBezTo>
                <a:cubicBezTo>
                  <a:pt x="21017" y="10130"/>
                  <a:pt x="21046" y="10218"/>
                  <a:pt x="21082" y="10287"/>
                </a:cubicBezTo>
                <a:cubicBezTo>
                  <a:pt x="21131" y="10381"/>
                  <a:pt x="21197" y="10529"/>
                  <a:pt x="21272" y="10604"/>
                </a:cubicBezTo>
                <a:cubicBezTo>
                  <a:pt x="21308" y="10604"/>
                  <a:pt x="21322" y="10607"/>
                  <a:pt x="21336" y="10636"/>
                </a:cubicBezTo>
                <a:cubicBezTo>
                  <a:pt x="21328" y="10501"/>
                  <a:pt x="21287" y="10388"/>
                  <a:pt x="21272" y="10255"/>
                </a:cubicBezTo>
                <a:cubicBezTo>
                  <a:pt x="21272" y="10213"/>
                  <a:pt x="21272" y="10170"/>
                  <a:pt x="21272" y="10128"/>
                </a:cubicBezTo>
              </a:path>
              <a:path w="7335" h="7018">
                <a:moveTo>
                  <a:pt x="21241" y="9874"/>
                </a:moveTo>
                <a:cubicBezTo>
                  <a:pt x="21289" y="9911"/>
                  <a:pt x="21277" y="9916"/>
                  <a:pt x="21304" y="9970"/>
                </a:cubicBezTo>
                <a:cubicBezTo>
                  <a:pt x="21347" y="10055"/>
                  <a:pt x="21380" y="10179"/>
                  <a:pt x="21431" y="10255"/>
                </a:cubicBezTo>
                <a:cubicBezTo>
                  <a:pt x="21485" y="10336"/>
                  <a:pt x="21523" y="10436"/>
                  <a:pt x="21590" y="10509"/>
                </a:cubicBezTo>
                <a:cubicBezTo>
                  <a:pt x="21590" y="10541"/>
                  <a:pt x="21590" y="10552"/>
                  <a:pt x="21622" y="10541"/>
                </a:cubicBezTo>
                <a:cubicBezTo>
                  <a:pt x="21622" y="10429"/>
                  <a:pt x="21616" y="10335"/>
                  <a:pt x="21590" y="10224"/>
                </a:cubicBezTo>
                <a:cubicBezTo>
                  <a:pt x="21547" y="10037"/>
                  <a:pt x="21526" y="9876"/>
                  <a:pt x="21526" y="9684"/>
                </a:cubicBezTo>
                <a:cubicBezTo>
                  <a:pt x="21526" y="9631"/>
                  <a:pt x="21526" y="9578"/>
                  <a:pt x="21526" y="9525"/>
                </a:cubicBezTo>
                <a:cubicBezTo>
                  <a:pt x="21570" y="9590"/>
                  <a:pt x="21594" y="9666"/>
                  <a:pt x="21622" y="9747"/>
                </a:cubicBezTo>
                <a:cubicBezTo>
                  <a:pt x="21660" y="9855"/>
                  <a:pt x="21700" y="9962"/>
                  <a:pt x="21749" y="10065"/>
                </a:cubicBezTo>
                <a:cubicBezTo>
                  <a:pt x="21786" y="10143"/>
                  <a:pt x="21832" y="10208"/>
                  <a:pt x="21876" y="10255"/>
                </a:cubicBezTo>
                <a:cubicBezTo>
                  <a:pt x="21905" y="10284"/>
                  <a:pt x="21911" y="10294"/>
                  <a:pt x="21939" y="10287"/>
                </a:cubicBezTo>
                <a:cubicBezTo>
                  <a:pt x="21939" y="10197"/>
                  <a:pt x="21917" y="10119"/>
                  <a:pt x="21908" y="10033"/>
                </a:cubicBezTo>
                <a:cubicBezTo>
                  <a:pt x="21892" y="9884"/>
                  <a:pt x="21859" y="9736"/>
                  <a:pt x="21844" y="9588"/>
                </a:cubicBezTo>
                <a:cubicBezTo>
                  <a:pt x="21833" y="9477"/>
                  <a:pt x="21848" y="9491"/>
                  <a:pt x="21876" y="9398"/>
                </a:cubicBezTo>
                <a:cubicBezTo>
                  <a:pt x="21909" y="9481"/>
                  <a:pt x="21925" y="9572"/>
                  <a:pt x="21971" y="9652"/>
                </a:cubicBezTo>
                <a:cubicBezTo>
                  <a:pt x="22037" y="9766"/>
                  <a:pt x="22085" y="9892"/>
                  <a:pt x="22162" y="10001"/>
                </a:cubicBezTo>
                <a:cubicBezTo>
                  <a:pt x="22194" y="10046"/>
                  <a:pt x="22264" y="10082"/>
                  <a:pt x="22320" y="10065"/>
                </a:cubicBezTo>
                <a:cubicBezTo>
                  <a:pt x="22331" y="10054"/>
                  <a:pt x="22341" y="10044"/>
                  <a:pt x="22352" y="100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Ink 9"/>
          <p:cNvSpPr/>
          <p:nvPr/>
        </p:nvSpPr>
        <p:spPr>
          <a:xfrm>
            <a:off x="5451480" y="3371760"/>
            <a:ext cx="2630520" cy="2571840"/>
          </a:xfrm>
          <a:custGeom>
            <a:avLst/>
            <a:gdLst/>
            <a:ahLst/>
            <a:rect l="l" t="t" r="r" b="b"/>
            <a:pathLst>
              <a:path w="7303" h="7145">
                <a:moveTo>
                  <a:pt x="15367" y="15558"/>
                </a:moveTo>
                <a:cubicBezTo>
                  <a:pt x="15367" y="15526"/>
                  <a:pt x="15367" y="15515"/>
                  <a:pt x="15399" y="15526"/>
                </a:cubicBezTo>
              </a:path>
              <a:path w="7303" h="7145">
                <a:moveTo>
                  <a:pt x="15462" y="15430"/>
                </a:moveTo>
                <a:cubicBezTo>
                  <a:pt x="15474" y="15419"/>
                  <a:pt x="15510" y="15347"/>
                  <a:pt x="15526" y="15335"/>
                </a:cubicBezTo>
                <a:cubicBezTo>
                  <a:pt x="15543" y="15321"/>
                  <a:pt x="15616" y="15275"/>
                  <a:pt x="15621" y="15272"/>
                </a:cubicBezTo>
                <a:cubicBezTo>
                  <a:pt x="15660" y="15248"/>
                  <a:pt x="15706" y="15236"/>
                  <a:pt x="15748" y="15208"/>
                </a:cubicBezTo>
                <a:cubicBezTo>
                  <a:pt x="15791" y="15180"/>
                  <a:pt x="15825" y="15146"/>
                  <a:pt x="15875" y="15113"/>
                </a:cubicBezTo>
                <a:cubicBezTo>
                  <a:pt x="15906" y="15093"/>
                  <a:pt x="15922" y="15073"/>
                  <a:pt x="15970" y="15050"/>
                </a:cubicBezTo>
                <a:cubicBezTo>
                  <a:pt x="16011" y="15031"/>
                  <a:pt x="16081" y="14994"/>
                  <a:pt x="16097" y="14986"/>
                </a:cubicBezTo>
                <a:cubicBezTo>
                  <a:pt x="16151" y="14959"/>
                  <a:pt x="16201" y="14955"/>
                  <a:pt x="16256" y="14922"/>
                </a:cubicBezTo>
                <a:cubicBezTo>
                  <a:pt x="16289" y="14902"/>
                  <a:pt x="16335" y="14870"/>
                  <a:pt x="16351" y="14859"/>
                </a:cubicBezTo>
                <a:cubicBezTo>
                  <a:pt x="16395" y="14829"/>
                  <a:pt x="16449" y="14783"/>
                  <a:pt x="16478" y="14764"/>
                </a:cubicBezTo>
                <a:cubicBezTo>
                  <a:pt x="16509" y="14744"/>
                  <a:pt x="16558" y="14711"/>
                  <a:pt x="16574" y="14700"/>
                </a:cubicBezTo>
                <a:cubicBezTo>
                  <a:pt x="16613" y="14672"/>
                  <a:pt x="16676" y="14625"/>
                  <a:pt x="16700" y="14605"/>
                </a:cubicBezTo>
                <a:cubicBezTo>
                  <a:pt x="16730" y="14580"/>
                  <a:pt x="16750" y="14576"/>
                  <a:pt x="16796" y="14542"/>
                </a:cubicBezTo>
                <a:cubicBezTo>
                  <a:pt x="16839" y="14510"/>
                  <a:pt x="16833" y="14466"/>
                  <a:pt x="16859" y="14446"/>
                </a:cubicBezTo>
                <a:cubicBezTo>
                  <a:pt x="16891" y="14422"/>
                  <a:pt x="16926" y="14437"/>
                  <a:pt x="16954" y="14414"/>
                </a:cubicBezTo>
                <a:cubicBezTo>
                  <a:pt x="16967" y="14403"/>
                  <a:pt x="17007" y="14364"/>
                  <a:pt x="17018" y="14351"/>
                </a:cubicBezTo>
                <a:cubicBezTo>
                  <a:pt x="17039" y="14327"/>
                  <a:pt x="17062" y="14310"/>
                  <a:pt x="17082" y="14288"/>
                </a:cubicBezTo>
                <a:cubicBezTo>
                  <a:pt x="17103" y="14265"/>
                  <a:pt x="17131" y="14207"/>
                  <a:pt x="17145" y="14192"/>
                </a:cubicBezTo>
                <a:cubicBezTo>
                  <a:pt x="17163" y="14171"/>
                  <a:pt x="17192" y="14148"/>
                  <a:pt x="17208" y="14129"/>
                </a:cubicBezTo>
                <a:cubicBezTo>
                  <a:pt x="17233" y="14098"/>
                  <a:pt x="17233" y="14078"/>
                  <a:pt x="17272" y="14034"/>
                </a:cubicBezTo>
                <a:cubicBezTo>
                  <a:pt x="17326" y="13974"/>
                  <a:pt x="17387" y="13893"/>
                  <a:pt x="17431" y="13843"/>
                </a:cubicBezTo>
                <a:cubicBezTo>
                  <a:pt x="17473" y="13796"/>
                  <a:pt x="17532" y="13742"/>
                  <a:pt x="17558" y="13716"/>
                </a:cubicBezTo>
                <a:cubicBezTo>
                  <a:pt x="17681" y="13590"/>
                  <a:pt x="17796" y="13454"/>
                  <a:pt x="17907" y="13335"/>
                </a:cubicBezTo>
                <a:cubicBezTo>
                  <a:pt x="17962" y="13276"/>
                  <a:pt x="18012" y="13230"/>
                  <a:pt x="18066" y="13176"/>
                </a:cubicBezTo>
                <a:cubicBezTo>
                  <a:pt x="18171" y="13071"/>
                  <a:pt x="18281" y="12950"/>
                  <a:pt x="18383" y="12859"/>
                </a:cubicBezTo>
                <a:cubicBezTo>
                  <a:pt x="18452" y="12798"/>
                  <a:pt x="18536" y="12758"/>
                  <a:pt x="18606" y="12700"/>
                </a:cubicBezTo>
                <a:cubicBezTo>
                  <a:pt x="18691" y="12630"/>
                  <a:pt x="18770" y="12544"/>
                  <a:pt x="18860" y="12478"/>
                </a:cubicBezTo>
                <a:cubicBezTo>
                  <a:pt x="18965" y="12401"/>
                  <a:pt x="19070" y="12339"/>
                  <a:pt x="19177" y="12256"/>
                </a:cubicBezTo>
                <a:cubicBezTo>
                  <a:pt x="19291" y="12167"/>
                  <a:pt x="19410" y="12089"/>
                  <a:pt x="19526" y="12002"/>
                </a:cubicBezTo>
                <a:cubicBezTo>
                  <a:pt x="19737" y="11844"/>
                  <a:pt x="19948" y="11679"/>
                  <a:pt x="20161" y="11525"/>
                </a:cubicBezTo>
                <a:cubicBezTo>
                  <a:pt x="20359" y="11382"/>
                  <a:pt x="20565" y="11247"/>
                  <a:pt x="20764" y="11112"/>
                </a:cubicBezTo>
                <a:cubicBezTo>
                  <a:pt x="20923" y="11004"/>
                  <a:pt x="21084" y="10900"/>
                  <a:pt x="21241" y="10795"/>
                </a:cubicBezTo>
                <a:cubicBezTo>
                  <a:pt x="21361" y="10715"/>
                  <a:pt x="21468" y="10615"/>
                  <a:pt x="21590" y="10541"/>
                </a:cubicBezTo>
                <a:cubicBezTo>
                  <a:pt x="21708" y="10469"/>
                  <a:pt x="21824" y="10418"/>
                  <a:pt x="21939" y="10350"/>
                </a:cubicBezTo>
                <a:cubicBezTo>
                  <a:pt x="22024" y="10300"/>
                  <a:pt x="22110" y="10239"/>
                  <a:pt x="22193" y="10192"/>
                </a:cubicBezTo>
                <a:cubicBezTo>
                  <a:pt x="22249" y="10161"/>
                  <a:pt x="22329" y="10117"/>
                  <a:pt x="22384" y="10096"/>
                </a:cubicBezTo>
                <a:cubicBezTo>
                  <a:pt x="22416" y="10096"/>
                  <a:pt x="22426" y="10096"/>
                  <a:pt x="22447" y="10096"/>
                </a:cubicBezTo>
              </a:path>
              <a:path w="7303" h="7145">
                <a:moveTo>
                  <a:pt x="15812" y="16320"/>
                </a:moveTo>
                <a:cubicBezTo>
                  <a:pt x="15848" y="16276"/>
                  <a:pt x="15850" y="16252"/>
                  <a:pt x="15875" y="16224"/>
                </a:cubicBezTo>
                <a:cubicBezTo>
                  <a:pt x="15893" y="16204"/>
                  <a:pt x="15937" y="16168"/>
                  <a:pt x="15970" y="16129"/>
                </a:cubicBezTo>
                <a:cubicBezTo>
                  <a:pt x="15986" y="16110"/>
                  <a:pt x="16032" y="16069"/>
                  <a:pt x="16066" y="16034"/>
                </a:cubicBezTo>
                <a:cubicBezTo>
                  <a:pt x="16110" y="15989"/>
                  <a:pt x="16154" y="15950"/>
                  <a:pt x="16192" y="15907"/>
                </a:cubicBezTo>
                <a:cubicBezTo>
                  <a:pt x="16286" y="15802"/>
                  <a:pt x="16400" y="15693"/>
                  <a:pt x="16478" y="15589"/>
                </a:cubicBezTo>
                <a:cubicBezTo>
                  <a:pt x="16535" y="15513"/>
                  <a:pt x="16590" y="15417"/>
                  <a:pt x="16637" y="15335"/>
                </a:cubicBezTo>
                <a:cubicBezTo>
                  <a:pt x="16724" y="15183"/>
                  <a:pt x="16799" y="15033"/>
                  <a:pt x="16891" y="14891"/>
                </a:cubicBezTo>
                <a:cubicBezTo>
                  <a:pt x="16949" y="14802"/>
                  <a:pt x="17025" y="14725"/>
                  <a:pt x="17082" y="14637"/>
                </a:cubicBezTo>
                <a:cubicBezTo>
                  <a:pt x="17175" y="14494"/>
                  <a:pt x="17254" y="14335"/>
                  <a:pt x="17336" y="14192"/>
                </a:cubicBezTo>
                <a:cubicBezTo>
                  <a:pt x="17406" y="14069"/>
                  <a:pt x="17482" y="13931"/>
                  <a:pt x="17558" y="13811"/>
                </a:cubicBezTo>
                <a:cubicBezTo>
                  <a:pt x="17622" y="13711"/>
                  <a:pt x="17719" y="13627"/>
                  <a:pt x="17780" y="13526"/>
                </a:cubicBezTo>
                <a:cubicBezTo>
                  <a:pt x="17863" y="13388"/>
                  <a:pt x="17942" y="13246"/>
                  <a:pt x="18034" y="13113"/>
                </a:cubicBezTo>
                <a:cubicBezTo>
                  <a:pt x="18102" y="13015"/>
                  <a:pt x="18180" y="12920"/>
                  <a:pt x="18256" y="12827"/>
                </a:cubicBezTo>
                <a:cubicBezTo>
                  <a:pt x="18328" y="12739"/>
                  <a:pt x="18406" y="12660"/>
                  <a:pt x="18478" y="12573"/>
                </a:cubicBezTo>
                <a:cubicBezTo>
                  <a:pt x="18602" y="12422"/>
                  <a:pt x="18736" y="12279"/>
                  <a:pt x="18860" y="12128"/>
                </a:cubicBezTo>
                <a:cubicBezTo>
                  <a:pt x="18947" y="12023"/>
                  <a:pt x="19029" y="11917"/>
                  <a:pt x="19114" y="11811"/>
                </a:cubicBezTo>
                <a:cubicBezTo>
                  <a:pt x="19203" y="11699"/>
                  <a:pt x="19305" y="11603"/>
                  <a:pt x="19399" y="11494"/>
                </a:cubicBezTo>
                <a:cubicBezTo>
                  <a:pt x="19491" y="11388"/>
                  <a:pt x="19590" y="11309"/>
                  <a:pt x="19685" y="11208"/>
                </a:cubicBezTo>
                <a:cubicBezTo>
                  <a:pt x="19794" y="11092"/>
                  <a:pt x="19883" y="10966"/>
                  <a:pt x="20002" y="10858"/>
                </a:cubicBezTo>
                <a:cubicBezTo>
                  <a:pt x="20110" y="10760"/>
                  <a:pt x="20218" y="10673"/>
                  <a:pt x="20320" y="10573"/>
                </a:cubicBezTo>
                <a:cubicBezTo>
                  <a:pt x="20426" y="10469"/>
                  <a:pt x="20533" y="10360"/>
                  <a:pt x="20638" y="10255"/>
                </a:cubicBezTo>
                <a:cubicBezTo>
                  <a:pt x="20742" y="10150"/>
                  <a:pt x="20849" y="10032"/>
                  <a:pt x="20955" y="9938"/>
                </a:cubicBezTo>
                <a:cubicBezTo>
                  <a:pt x="21096" y="9813"/>
                  <a:pt x="21252" y="9702"/>
                  <a:pt x="21400" y="9588"/>
                </a:cubicBezTo>
                <a:cubicBezTo>
                  <a:pt x="21471" y="9533"/>
                  <a:pt x="21545" y="9445"/>
                  <a:pt x="21622" y="9398"/>
                </a:cubicBezTo>
                <a:cubicBezTo>
                  <a:pt x="21644" y="9384"/>
                  <a:pt x="21695" y="9380"/>
                  <a:pt x="21717" y="9366"/>
                </a:cubicBezTo>
              </a:path>
              <a:path w="7303" h="7145">
                <a:moveTo>
                  <a:pt x="17907" y="13335"/>
                </a:moveTo>
                <a:cubicBezTo>
                  <a:pt x="17884" y="13364"/>
                  <a:pt x="17859" y="13421"/>
                  <a:pt x="17812" y="13462"/>
                </a:cubicBezTo>
                <a:cubicBezTo>
                  <a:pt x="17784" y="13486"/>
                  <a:pt x="17748" y="13470"/>
                  <a:pt x="17716" y="13494"/>
                </a:cubicBezTo>
                <a:cubicBezTo>
                  <a:pt x="17698" y="13508"/>
                  <a:pt x="17653" y="13535"/>
                  <a:pt x="17621" y="13557"/>
                </a:cubicBezTo>
                <a:cubicBezTo>
                  <a:pt x="17590" y="13578"/>
                  <a:pt x="17535" y="13641"/>
                  <a:pt x="17526" y="13652"/>
                </a:cubicBezTo>
                <a:cubicBezTo>
                  <a:pt x="17501" y="13684"/>
                  <a:pt x="17501" y="13703"/>
                  <a:pt x="17462" y="13748"/>
                </a:cubicBezTo>
                <a:cubicBezTo>
                  <a:pt x="17424" y="13792"/>
                  <a:pt x="17424" y="13813"/>
                  <a:pt x="17399" y="13843"/>
                </a:cubicBezTo>
                <a:cubicBezTo>
                  <a:pt x="17361" y="13888"/>
                  <a:pt x="17361" y="13906"/>
                  <a:pt x="17336" y="13938"/>
                </a:cubicBezTo>
                <a:cubicBezTo>
                  <a:pt x="17295" y="13990"/>
                  <a:pt x="17209" y="14029"/>
                  <a:pt x="17177" y="14065"/>
                </a:cubicBezTo>
                <a:cubicBezTo>
                  <a:pt x="17130" y="14118"/>
                  <a:pt x="17141" y="14120"/>
                  <a:pt x="17082" y="14160"/>
                </a:cubicBezTo>
                <a:cubicBezTo>
                  <a:pt x="17047" y="14184"/>
                  <a:pt x="17033" y="14185"/>
                  <a:pt x="16986" y="14224"/>
                </a:cubicBezTo>
                <a:cubicBezTo>
                  <a:pt x="16957" y="14249"/>
                  <a:pt x="16874" y="14302"/>
                  <a:pt x="16859" y="14319"/>
                </a:cubicBezTo>
                <a:cubicBezTo>
                  <a:pt x="16832" y="14350"/>
                  <a:pt x="16828" y="14357"/>
                  <a:pt x="16796" y="14383"/>
                </a:cubicBezTo>
                <a:cubicBezTo>
                  <a:pt x="16779" y="14397"/>
                  <a:pt x="16745" y="14468"/>
                  <a:pt x="16732" y="14478"/>
                </a:cubicBezTo>
                <a:cubicBezTo>
                  <a:pt x="16700" y="14502"/>
                  <a:pt x="16684" y="14507"/>
                  <a:pt x="16637" y="14542"/>
                </a:cubicBezTo>
                <a:cubicBezTo>
                  <a:pt x="16594" y="14574"/>
                  <a:pt x="16558" y="14605"/>
                  <a:pt x="16510" y="14637"/>
                </a:cubicBezTo>
                <a:cubicBezTo>
                  <a:pt x="16476" y="14660"/>
                  <a:pt x="16463" y="14668"/>
                  <a:pt x="16415" y="14700"/>
                </a:cubicBezTo>
                <a:cubicBezTo>
                  <a:pt x="16369" y="14730"/>
                  <a:pt x="16348" y="14741"/>
                  <a:pt x="16320" y="14764"/>
                </a:cubicBezTo>
                <a:cubicBezTo>
                  <a:pt x="16283" y="14795"/>
                  <a:pt x="16242" y="14845"/>
                  <a:pt x="16224" y="14859"/>
                </a:cubicBezTo>
                <a:cubicBezTo>
                  <a:pt x="16190" y="14885"/>
                  <a:pt x="16118" y="14937"/>
                  <a:pt x="16097" y="14954"/>
                </a:cubicBezTo>
                <a:cubicBezTo>
                  <a:pt x="16054" y="14988"/>
                  <a:pt x="15984" y="15012"/>
                  <a:pt x="15938" y="15050"/>
                </a:cubicBezTo>
                <a:cubicBezTo>
                  <a:pt x="15895" y="15086"/>
                  <a:pt x="15846" y="15107"/>
                  <a:pt x="15812" y="15145"/>
                </a:cubicBezTo>
                <a:cubicBezTo>
                  <a:pt x="15777" y="15184"/>
                  <a:pt x="15780" y="15220"/>
                  <a:pt x="15716" y="15272"/>
                </a:cubicBezTo>
                <a:cubicBezTo>
                  <a:pt x="15675" y="15306"/>
                  <a:pt x="15603" y="15330"/>
                  <a:pt x="15558" y="15367"/>
                </a:cubicBezTo>
                <a:cubicBezTo>
                  <a:pt x="15538" y="15383"/>
                  <a:pt x="15487" y="15407"/>
                  <a:pt x="15462" y="15430"/>
                </a:cubicBezTo>
                <a:cubicBezTo>
                  <a:pt x="15412" y="15475"/>
                  <a:pt x="15345" y="15523"/>
                  <a:pt x="15304" y="15558"/>
                </a:cubicBezTo>
                <a:cubicBezTo>
                  <a:pt x="15288" y="15572"/>
                  <a:pt x="15253" y="15646"/>
                  <a:pt x="15240" y="15653"/>
                </a:cubicBezTo>
                <a:cubicBezTo>
                  <a:pt x="15215" y="15667"/>
                  <a:pt x="15172" y="15672"/>
                  <a:pt x="15145" y="15684"/>
                </a:cubicBezTo>
                <a:cubicBezTo>
                  <a:pt x="15183" y="15646"/>
                  <a:pt x="15182" y="15612"/>
                  <a:pt x="15208" y="15589"/>
                </a:cubicBezTo>
                <a:cubicBezTo>
                  <a:pt x="15242" y="15559"/>
                  <a:pt x="15311" y="15518"/>
                  <a:pt x="15335" y="15494"/>
                </a:cubicBezTo>
                <a:cubicBezTo>
                  <a:pt x="15393" y="15436"/>
                  <a:pt x="15434" y="15442"/>
                  <a:pt x="15494" y="15399"/>
                </a:cubicBezTo>
                <a:cubicBezTo>
                  <a:pt x="15543" y="15364"/>
                  <a:pt x="15572" y="15333"/>
                  <a:pt x="15621" y="15304"/>
                </a:cubicBezTo>
                <a:cubicBezTo>
                  <a:pt x="15655" y="15284"/>
                  <a:pt x="15754" y="15264"/>
                  <a:pt x="15780" y="15240"/>
                </a:cubicBezTo>
                <a:cubicBezTo>
                  <a:pt x="15837" y="15188"/>
                  <a:pt x="15880" y="15133"/>
                  <a:pt x="15938" y="15081"/>
                </a:cubicBezTo>
                <a:cubicBezTo>
                  <a:pt x="15998" y="15027"/>
                  <a:pt x="16045" y="14974"/>
                  <a:pt x="16097" y="14922"/>
                </a:cubicBezTo>
                <a:cubicBezTo>
                  <a:pt x="16293" y="14725"/>
                  <a:pt x="16494" y="14531"/>
                  <a:pt x="16700" y="14351"/>
                </a:cubicBezTo>
                <a:cubicBezTo>
                  <a:pt x="16779" y="14282"/>
                  <a:pt x="16835" y="14247"/>
                  <a:pt x="16923" y="14192"/>
                </a:cubicBezTo>
                <a:cubicBezTo>
                  <a:pt x="16993" y="14148"/>
                  <a:pt x="17080" y="14115"/>
                  <a:pt x="17145" y="14065"/>
                </a:cubicBezTo>
                <a:cubicBezTo>
                  <a:pt x="17191" y="14030"/>
                  <a:pt x="17292" y="13980"/>
                  <a:pt x="17336" y="13938"/>
                </a:cubicBezTo>
                <a:cubicBezTo>
                  <a:pt x="17389" y="13887"/>
                  <a:pt x="17446" y="13835"/>
                  <a:pt x="17494" y="13780"/>
                </a:cubicBezTo>
                <a:cubicBezTo>
                  <a:pt x="17532" y="13742"/>
                  <a:pt x="17547" y="13723"/>
                  <a:pt x="17558" y="13684"/>
                </a:cubicBezTo>
              </a:path>
              <a:path w="7303" h="7145">
                <a:moveTo>
                  <a:pt x="17780" y="13652"/>
                </a:moveTo>
                <a:cubicBezTo>
                  <a:pt x="17746" y="13707"/>
                  <a:pt x="17716" y="13760"/>
                  <a:pt x="17685" y="13811"/>
                </a:cubicBezTo>
                <a:cubicBezTo>
                  <a:pt x="17654" y="13862"/>
                  <a:pt x="17618" y="13928"/>
                  <a:pt x="17590" y="13970"/>
                </a:cubicBezTo>
                <a:cubicBezTo>
                  <a:pt x="17547" y="14034"/>
                  <a:pt x="17504" y="14097"/>
                  <a:pt x="17462" y="14160"/>
                </a:cubicBezTo>
                <a:cubicBezTo>
                  <a:pt x="17424" y="14217"/>
                  <a:pt x="17377" y="14264"/>
                  <a:pt x="17336" y="14319"/>
                </a:cubicBezTo>
                <a:cubicBezTo>
                  <a:pt x="17295" y="14374"/>
                  <a:pt x="17247" y="14422"/>
                  <a:pt x="17208" y="14478"/>
                </a:cubicBezTo>
                <a:cubicBezTo>
                  <a:pt x="17169" y="14534"/>
                  <a:pt x="17123" y="14582"/>
                  <a:pt x="17082" y="14637"/>
                </a:cubicBezTo>
                <a:cubicBezTo>
                  <a:pt x="17041" y="14692"/>
                  <a:pt x="16989" y="14737"/>
                  <a:pt x="16954" y="14796"/>
                </a:cubicBezTo>
                <a:cubicBezTo>
                  <a:pt x="16923" y="14848"/>
                  <a:pt x="16902" y="14903"/>
                  <a:pt x="16859" y="14954"/>
                </a:cubicBezTo>
                <a:cubicBezTo>
                  <a:pt x="16804" y="15019"/>
                  <a:pt x="16749" y="15076"/>
                  <a:pt x="16700" y="15145"/>
                </a:cubicBezTo>
                <a:cubicBezTo>
                  <a:pt x="16661" y="15200"/>
                  <a:pt x="16602" y="15276"/>
                  <a:pt x="16574" y="15335"/>
                </a:cubicBezTo>
                <a:cubicBezTo>
                  <a:pt x="16530" y="15425"/>
                  <a:pt x="16484" y="15508"/>
                  <a:pt x="16415" y="15589"/>
                </a:cubicBezTo>
                <a:cubicBezTo>
                  <a:pt x="16351" y="15664"/>
                  <a:pt x="16288" y="15740"/>
                  <a:pt x="16224" y="15812"/>
                </a:cubicBezTo>
                <a:cubicBezTo>
                  <a:pt x="16118" y="15932"/>
                  <a:pt x="16001" y="16033"/>
                  <a:pt x="15907" y="16161"/>
                </a:cubicBezTo>
                <a:cubicBezTo>
                  <a:pt x="15871" y="16209"/>
                  <a:pt x="15845" y="16242"/>
                  <a:pt x="15812" y="16288"/>
                </a:cubicBezTo>
                <a:cubicBezTo>
                  <a:pt x="15778" y="16337"/>
                  <a:pt x="15741" y="16364"/>
                  <a:pt x="15716" y="16415"/>
                </a:cubicBezTo>
                <a:cubicBezTo>
                  <a:pt x="15695" y="16459"/>
                  <a:pt x="15670" y="16487"/>
                  <a:pt x="15653" y="16510"/>
                </a:cubicBezTo>
                <a:cubicBezTo>
                  <a:pt x="15678" y="16472"/>
                  <a:pt x="15692" y="16414"/>
                  <a:pt x="15716" y="16383"/>
                </a:cubicBezTo>
                <a:cubicBezTo>
                  <a:pt x="15765" y="16319"/>
                  <a:pt x="15822" y="16251"/>
                  <a:pt x="15875" y="16192"/>
                </a:cubicBezTo>
                <a:cubicBezTo>
                  <a:pt x="15931" y="16129"/>
                  <a:pt x="16006" y="16062"/>
                  <a:pt x="16066" y="16002"/>
                </a:cubicBezTo>
                <a:cubicBezTo>
                  <a:pt x="16146" y="15923"/>
                  <a:pt x="16216" y="15847"/>
                  <a:pt x="16288" y="15748"/>
                </a:cubicBezTo>
                <a:cubicBezTo>
                  <a:pt x="16350" y="15663"/>
                  <a:pt x="16417" y="15580"/>
                  <a:pt x="16478" y="15494"/>
                </a:cubicBezTo>
                <a:cubicBezTo>
                  <a:pt x="16562" y="15376"/>
                  <a:pt x="16621" y="15266"/>
                  <a:pt x="16700" y="15145"/>
                </a:cubicBezTo>
                <a:cubicBezTo>
                  <a:pt x="16773" y="15034"/>
                  <a:pt x="16845" y="14934"/>
                  <a:pt x="16923" y="14827"/>
                </a:cubicBezTo>
                <a:cubicBezTo>
                  <a:pt x="16989" y="14736"/>
                  <a:pt x="17079" y="14664"/>
                  <a:pt x="17145" y="14573"/>
                </a:cubicBezTo>
                <a:cubicBezTo>
                  <a:pt x="17216" y="14476"/>
                  <a:pt x="17297" y="14384"/>
                  <a:pt x="17367" y="14288"/>
                </a:cubicBezTo>
                <a:cubicBezTo>
                  <a:pt x="17434" y="14195"/>
                  <a:pt x="17480" y="14095"/>
                  <a:pt x="17558" y="14002"/>
                </a:cubicBezTo>
                <a:cubicBezTo>
                  <a:pt x="17628" y="13919"/>
                  <a:pt x="17678" y="13841"/>
                  <a:pt x="17748" y="13748"/>
                </a:cubicBezTo>
                <a:cubicBezTo>
                  <a:pt x="17809" y="13667"/>
                  <a:pt x="17851" y="13579"/>
                  <a:pt x="17907" y="13494"/>
                </a:cubicBezTo>
                <a:cubicBezTo>
                  <a:pt x="17958" y="13417"/>
                  <a:pt x="18009" y="13314"/>
                  <a:pt x="18066" y="13240"/>
                </a:cubicBezTo>
                <a:cubicBezTo>
                  <a:pt x="18123" y="13167"/>
                  <a:pt x="18164" y="13093"/>
                  <a:pt x="18224" y="13018"/>
                </a:cubicBezTo>
                <a:cubicBezTo>
                  <a:pt x="18278" y="12951"/>
                  <a:pt x="18324" y="12894"/>
                  <a:pt x="18383" y="12827"/>
                </a:cubicBezTo>
                <a:cubicBezTo>
                  <a:pt x="18442" y="12760"/>
                  <a:pt x="18511" y="12699"/>
                  <a:pt x="18574" y="12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Quadrant is it in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xample: 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 &lt; 2x + 5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x +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Ink 3"/>
          <p:cNvSpPr/>
          <p:nvPr/>
        </p:nvSpPr>
        <p:spPr>
          <a:xfrm>
            <a:off x="365040" y="1863720"/>
            <a:ext cx="7442280" cy="3862440"/>
          </a:xfrm>
          <a:custGeom>
            <a:avLst/>
            <a:gdLst/>
            <a:ahLst/>
            <a:rect l="l" t="t" r="r" b="b"/>
            <a:pathLst>
              <a:path w="20670" h="10733">
                <a:moveTo>
                  <a:pt x="16669" y="5175"/>
                </a:moveTo>
                <a:cubicBezTo>
                  <a:pt x="16669" y="5350"/>
                  <a:pt x="16645" y="5513"/>
                  <a:pt x="16637" y="5683"/>
                </a:cubicBezTo>
                <a:cubicBezTo>
                  <a:pt x="16629" y="5857"/>
                  <a:pt x="16620" y="6019"/>
                  <a:pt x="16605" y="6191"/>
                </a:cubicBezTo>
                <a:cubicBezTo>
                  <a:pt x="16587" y="6401"/>
                  <a:pt x="16595" y="6616"/>
                  <a:pt x="16574" y="6826"/>
                </a:cubicBezTo>
                <a:cubicBezTo>
                  <a:pt x="16548" y="7092"/>
                  <a:pt x="16492" y="7352"/>
                  <a:pt x="16478" y="7620"/>
                </a:cubicBezTo>
                <a:cubicBezTo>
                  <a:pt x="16463" y="7905"/>
                  <a:pt x="16451" y="8192"/>
                  <a:pt x="16446" y="8477"/>
                </a:cubicBezTo>
                <a:cubicBezTo>
                  <a:pt x="16438" y="8998"/>
                  <a:pt x="16453" y="9516"/>
                  <a:pt x="16478" y="10033"/>
                </a:cubicBezTo>
                <a:cubicBezTo>
                  <a:pt x="16492" y="10329"/>
                  <a:pt x="16506" y="10627"/>
                  <a:pt x="16510" y="10922"/>
                </a:cubicBezTo>
                <a:cubicBezTo>
                  <a:pt x="16514" y="11221"/>
                  <a:pt x="16527" y="11514"/>
                  <a:pt x="16542" y="11811"/>
                </a:cubicBezTo>
                <a:cubicBezTo>
                  <a:pt x="16581" y="12558"/>
                  <a:pt x="16542" y="13317"/>
                  <a:pt x="16542" y="14065"/>
                </a:cubicBezTo>
              </a:path>
              <a:path w="20670" h="10733">
                <a:moveTo>
                  <a:pt x="12033" y="10065"/>
                </a:moveTo>
                <a:lnTo>
                  <a:pt x="12033" y="10065"/>
                </a:lnTo>
              </a:path>
              <a:path w="20670" h="10733">
                <a:moveTo>
                  <a:pt x="12033" y="10065"/>
                </a:moveTo>
                <a:cubicBezTo>
                  <a:pt x="12065" y="10065"/>
                  <a:pt x="12096" y="10065"/>
                  <a:pt x="12128" y="10065"/>
                </a:cubicBezTo>
              </a:path>
              <a:path w="20670" h="10733">
                <a:moveTo>
                  <a:pt x="12128" y="10065"/>
                </a:moveTo>
                <a:cubicBezTo>
                  <a:pt x="12209" y="10077"/>
                  <a:pt x="12297" y="10084"/>
                  <a:pt x="12382" y="10096"/>
                </a:cubicBezTo>
                <a:cubicBezTo>
                  <a:pt x="12492" y="10111"/>
                  <a:pt x="12587" y="10126"/>
                  <a:pt x="12700" y="10128"/>
                </a:cubicBezTo>
                <a:cubicBezTo>
                  <a:pt x="12978" y="10133"/>
                  <a:pt x="13253" y="10107"/>
                  <a:pt x="13526" y="10096"/>
                </a:cubicBezTo>
                <a:cubicBezTo>
                  <a:pt x="13866" y="10082"/>
                  <a:pt x="14205" y="10087"/>
                  <a:pt x="14542" y="10065"/>
                </a:cubicBezTo>
                <a:cubicBezTo>
                  <a:pt x="14828" y="10046"/>
                  <a:pt x="15112" y="10033"/>
                  <a:pt x="15399" y="10033"/>
                </a:cubicBezTo>
                <a:cubicBezTo>
                  <a:pt x="15645" y="10033"/>
                  <a:pt x="15884" y="9983"/>
                  <a:pt x="16129" y="9970"/>
                </a:cubicBezTo>
                <a:cubicBezTo>
                  <a:pt x="16385" y="9956"/>
                  <a:pt x="16634" y="9938"/>
                  <a:pt x="16891" y="9938"/>
                </a:cubicBezTo>
                <a:cubicBezTo>
                  <a:pt x="17138" y="9938"/>
                  <a:pt x="17406" y="9929"/>
                  <a:pt x="17653" y="9906"/>
                </a:cubicBezTo>
                <a:cubicBezTo>
                  <a:pt x="17980" y="9876"/>
                  <a:pt x="18311" y="9876"/>
                  <a:pt x="18637" y="9842"/>
                </a:cubicBezTo>
                <a:cubicBezTo>
                  <a:pt x="18994" y="9805"/>
                  <a:pt x="19358" y="9785"/>
                  <a:pt x="19717" y="9779"/>
                </a:cubicBezTo>
                <a:cubicBezTo>
                  <a:pt x="20059" y="9774"/>
                  <a:pt x="20394" y="9790"/>
                  <a:pt x="20733" y="9811"/>
                </a:cubicBezTo>
                <a:cubicBezTo>
                  <a:pt x="20925" y="9823"/>
                  <a:pt x="21114" y="9833"/>
                  <a:pt x="21304" y="9842"/>
                </a:cubicBezTo>
                <a:cubicBezTo>
                  <a:pt x="21410" y="9847"/>
                  <a:pt x="21492" y="9854"/>
                  <a:pt x="21590" y="9874"/>
                </a:cubicBezTo>
                <a:cubicBezTo>
                  <a:pt x="21695" y="9895"/>
                  <a:pt x="21614" y="9889"/>
                  <a:pt x="21685" y="9906"/>
                </a:cubicBezTo>
              </a:path>
              <a:path w="20670" h="10733">
                <a:moveTo>
                  <a:pt x="13430" y="10763"/>
                </a:moveTo>
                <a:cubicBezTo>
                  <a:pt x="13458" y="10865"/>
                  <a:pt x="13462" y="10936"/>
                  <a:pt x="13462" y="11049"/>
                </a:cubicBezTo>
                <a:cubicBezTo>
                  <a:pt x="13462" y="11464"/>
                  <a:pt x="13467" y="11876"/>
                  <a:pt x="13494" y="12287"/>
                </a:cubicBezTo>
                <a:cubicBezTo>
                  <a:pt x="13507" y="12487"/>
                  <a:pt x="13521" y="12690"/>
                  <a:pt x="13526" y="12890"/>
                </a:cubicBezTo>
                <a:cubicBezTo>
                  <a:pt x="13529" y="13006"/>
                  <a:pt x="13526" y="13124"/>
                  <a:pt x="13526" y="13240"/>
                </a:cubicBezTo>
              </a:path>
              <a:path w="20670" h="10733">
                <a:moveTo>
                  <a:pt x="14002" y="10954"/>
                </a:moveTo>
                <a:cubicBezTo>
                  <a:pt x="14013" y="11060"/>
                  <a:pt x="14045" y="11164"/>
                  <a:pt x="14034" y="11271"/>
                </a:cubicBezTo>
                <a:cubicBezTo>
                  <a:pt x="14013" y="11475"/>
                  <a:pt x="14002" y="11667"/>
                  <a:pt x="14002" y="11874"/>
                </a:cubicBezTo>
                <a:cubicBezTo>
                  <a:pt x="14002" y="12081"/>
                  <a:pt x="14029" y="12274"/>
                  <a:pt x="14034" y="12478"/>
                </a:cubicBezTo>
                <a:cubicBezTo>
                  <a:pt x="14038" y="12640"/>
                  <a:pt x="14059" y="12794"/>
                  <a:pt x="14065" y="12954"/>
                </a:cubicBezTo>
                <a:cubicBezTo>
                  <a:pt x="14068" y="13037"/>
                  <a:pt x="14087" y="13097"/>
                  <a:pt x="14097" y="13176"/>
                </a:cubicBezTo>
              </a:path>
              <a:path w="20670" h="10733">
                <a:moveTo>
                  <a:pt x="14573" y="11398"/>
                </a:moveTo>
                <a:cubicBezTo>
                  <a:pt x="14573" y="11772"/>
                  <a:pt x="14577" y="12140"/>
                  <a:pt x="14605" y="12510"/>
                </a:cubicBezTo>
                <a:cubicBezTo>
                  <a:pt x="14615" y="12645"/>
                  <a:pt x="14605" y="12786"/>
                  <a:pt x="14605" y="12922"/>
                </a:cubicBezTo>
              </a:path>
              <a:path w="20670" h="10733">
                <a:moveTo>
                  <a:pt x="12764" y="11081"/>
                </a:moveTo>
                <a:cubicBezTo>
                  <a:pt x="12843" y="11017"/>
                  <a:pt x="12870" y="11043"/>
                  <a:pt x="12954" y="11017"/>
                </a:cubicBezTo>
                <a:cubicBezTo>
                  <a:pt x="13076" y="10980"/>
                  <a:pt x="13179" y="10945"/>
                  <a:pt x="13303" y="10922"/>
                </a:cubicBezTo>
                <a:cubicBezTo>
                  <a:pt x="13466" y="10891"/>
                  <a:pt x="13613" y="10890"/>
                  <a:pt x="13780" y="10890"/>
                </a:cubicBezTo>
                <a:cubicBezTo>
                  <a:pt x="14048" y="10890"/>
                  <a:pt x="14310" y="10900"/>
                  <a:pt x="14573" y="10922"/>
                </a:cubicBezTo>
                <a:cubicBezTo>
                  <a:pt x="14819" y="10943"/>
                  <a:pt x="15066" y="10916"/>
                  <a:pt x="15304" y="10954"/>
                </a:cubicBezTo>
                <a:cubicBezTo>
                  <a:pt x="15325" y="10954"/>
                  <a:pt x="15346" y="10954"/>
                  <a:pt x="15367" y="10954"/>
                </a:cubicBezTo>
              </a:path>
              <a:path w="20670" h="10733">
                <a:moveTo>
                  <a:pt x="12890" y="13367"/>
                </a:moveTo>
                <a:cubicBezTo>
                  <a:pt x="12950" y="13340"/>
                  <a:pt x="12984" y="13324"/>
                  <a:pt x="13049" y="13303"/>
                </a:cubicBezTo>
                <a:cubicBezTo>
                  <a:pt x="13179" y="13261"/>
                  <a:pt x="13296" y="13193"/>
                  <a:pt x="13430" y="13176"/>
                </a:cubicBezTo>
                <a:cubicBezTo>
                  <a:pt x="13566" y="13159"/>
                  <a:pt x="13708" y="13125"/>
                  <a:pt x="13843" y="13113"/>
                </a:cubicBezTo>
                <a:cubicBezTo>
                  <a:pt x="14004" y="13098"/>
                  <a:pt x="14159" y="13065"/>
                  <a:pt x="14319" y="13049"/>
                </a:cubicBezTo>
                <a:cubicBezTo>
                  <a:pt x="14470" y="13034"/>
                  <a:pt x="14611" y="13018"/>
                  <a:pt x="14764" y="13018"/>
                </a:cubicBezTo>
                <a:cubicBezTo>
                  <a:pt x="14864" y="13018"/>
                  <a:pt x="15016" y="13012"/>
                  <a:pt x="15113" y="12986"/>
                </a:cubicBezTo>
                <a:cubicBezTo>
                  <a:pt x="15183" y="12967"/>
                  <a:pt x="15244" y="12949"/>
                  <a:pt x="15304" y="12922"/>
                </a:cubicBezTo>
                <a:cubicBezTo>
                  <a:pt x="15344" y="12904"/>
                  <a:pt x="15361" y="12892"/>
                  <a:pt x="15399" y="12859"/>
                </a:cubicBezTo>
              </a:path>
              <a:path w="20670" h="10733">
                <a:moveTo>
                  <a:pt x="14542" y="10986"/>
                </a:moveTo>
                <a:cubicBezTo>
                  <a:pt x="14557" y="11030"/>
                  <a:pt x="14573" y="11038"/>
                  <a:pt x="14573" y="11112"/>
                </a:cubicBezTo>
                <a:cubicBezTo>
                  <a:pt x="14573" y="11209"/>
                  <a:pt x="14605" y="11295"/>
                  <a:pt x="14605" y="11398"/>
                </a:cubicBezTo>
                <a:cubicBezTo>
                  <a:pt x="14605" y="11527"/>
                  <a:pt x="14648" y="11695"/>
                  <a:pt x="14637" y="11811"/>
                </a:cubicBezTo>
                <a:cubicBezTo>
                  <a:pt x="14631" y="11875"/>
                  <a:pt x="14605" y="11929"/>
                  <a:pt x="14605" y="12002"/>
                </a:cubicBezTo>
              </a:path>
              <a:path w="20670" h="10733">
                <a:moveTo>
                  <a:pt x="18193" y="10573"/>
                </a:moveTo>
                <a:cubicBezTo>
                  <a:pt x="18193" y="10851"/>
                  <a:pt x="18196" y="11126"/>
                  <a:pt x="18224" y="11398"/>
                </a:cubicBezTo>
                <a:cubicBezTo>
                  <a:pt x="18253" y="11681"/>
                  <a:pt x="18230" y="11976"/>
                  <a:pt x="18256" y="12256"/>
                </a:cubicBezTo>
                <a:cubicBezTo>
                  <a:pt x="18269" y="12395"/>
                  <a:pt x="18273" y="12533"/>
                  <a:pt x="18288" y="12668"/>
                </a:cubicBezTo>
                <a:cubicBezTo>
                  <a:pt x="18300" y="12773"/>
                  <a:pt x="18287" y="12826"/>
                  <a:pt x="18320" y="12922"/>
                </a:cubicBezTo>
              </a:path>
              <a:path w="20670" h="10733">
                <a:moveTo>
                  <a:pt x="18447" y="10700"/>
                </a:moveTo>
                <a:cubicBezTo>
                  <a:pt x="18455" y="10767"/>
                  <a:pt x="18474" y="10822"/>
                  <a:pt x="18478" y="10890"/>
                </a:cubicBezTo>
                <a:cubicBezTo>
                  <a:pt x="18484" y="11006"/>
                  <a:pt x="18509" y="11128"/>
                  <a:pt x="18542" y="11240"/>
                </a:cubicBezTo>
                <a:cubicBezTo>
                  <a:pt x="18582" y="11374"/>
                  <a:pt x="18620" y="11544"/>
                  <a:pt x="18637" y="11684"/>
                </a:cubicBezTo>
                <a:cubicBezTo>
                  <a:pt x="18653" y="11821"/>
                  <a:pt x="18669" y="11962"/>
                  <a:pt x="18701" y="12097"/>
                </a:cubicBezTo>
                <a:cubicBezTo>
                  <a:pt x="18724" y="12196"/>
                  <a:pt x="18780" y="12286"/>
                  <a:pt x="18796" y="12382"/>
                </a:cubicBezTo>
                <a:cubicBezTo>
                  <a:pt x="18804" y="12428"/>
                  <a:pt x="18789" y="12420"/>
                  <a:pt x="18828" y="12446"/>
                </a:cubicBezTo>
                <a:cubicBezTo>
                  <a:pt x="18820" y="12360"/>
                  <a:pt x="18815" y="12275"/>
                  <a:pt x="18796" y="12192"/>
                </a:cubicBezTo>
                <a:cubicBezTo>
                  <a:pt x="18763" y="12052"/>
                  <a:pt x="18713" y="11924"/>
                  <a:pt x="18701" y="11779"/>
                </a:cubicBezTo>
                <a:cubicBezTo>
                  <a:pt x="18680" y="11523"/>
                  <a:pt x="18712" y="11268"/>
                  <a:pt x="18732" y="11017"/>
                </a:cubicBezTo>
                <a:cubicBezTo>
                  <a:pt x="18743" y="10882"/>
                  <a:pt x="18777" y="10768"/>
                  <a:pt x="18796" y="10636"/>
                </a:cubicBezTo>
                <a:cubicBezTo>
                  <a:pt x="18796" y="10570"/>
                  <a:pt x="18797" y="10547"/>
                  <a:pt x="18828" y="10509"/>
                </a:cubicBezTo>
              </a:path>
              <a:path w="20670" h="10733">
                <a:moveTo>
                  <a:pt x="17590" y="10858"/>
                </a:moveTo>
                <a:cubicBezTo>
                  <a:pt x="17613" y="10840"/>
                  <a:pt x="17668" y="10791"/>
                  <a:pt x="17716" y="10763"/>
                </a:cubicBezTo>
                <a:cubicBezTo>
                  <a:pt x="17822" y="10700"/>
                  <a:pt x="17926" y="10699"/>
                  <a:pt x="18034" y="10668"/>
                </a:cubicBezTo>
                <a:cubicBezTo>
                  <a:pt x="18162" y="10631"/>
                  <a:pt x="18281" y="10587"/>
                  <a:pt x="18415" y="10573"/>
                </a:cubicBezTo>
                <a:cubicBezTo>
                  <a:pt x="18554" y="10558"/>
                  <a:pt x="18691" y="10524"/>
                  <a:pt x="18828" y="10509"/>
                </a:cubicBezTo>
                <a:cubicBezTo>
                  <a:pt x="18958" y="10495"/>
                  <a:pt x="19112" y="10504"/>
                  <a:pt x="19240" y="10478"/>
                </a:cubicBezTo>
                <a:cubicBezTo>
                  <a:pt x="19338" y="10458"/>
                  <a:pt x="19421" y="10446"/>
                  <a:pt x="19526" y="10446"/>
                </a:cubicBezTo>
                <a:cubicBezTo>
                  <a:pt x="19548" y="10446"/>
                  <a:pt x="19667" y="10462"/>
                  <a:pt x="19685" y="10478"/>
                </a:cubicBezTo>
                <a:cubicBezTo>
                  <a:pt x="19685" y="10488"/>
                  <a:pt x="19685" y="10499"/>
                  <a:pt x="19685" y="10509"/>
                </a:cubicBezTo>
              </a:path>
              <a:path w="20670" h="10733">
                <a:moveTo>
                  <a:pt x="17780" y="12954"/>
                </a:moveTo>
                <a:cubicBezTo>
                  <a:pt x="17810" y="12924"/>
                  <a:pt x="17782" y="12952"/>
                  <a:pt x="17812" y="12922"/>
                </a:cubicBezTo>
                <a:cubicBezTo>
                  <a:pt x="17852" y="12882"/>
                  <a:pt x="17902" y="12830"/>
                  <a:pt x="17970" y="12795"/>
                </a:cubicBezTo>
                <a:cubicBezTo>
                  <a:pt x="18057" y="12750"/>
                  <a:pt x="18136" y="12731"/>
                  <a:pt x="18224" y="12700"/>
                </a:cubicBezTo>
                <a:cubicBezTo>
                  <a:pt x="18343" y="12659"/>
                  <a:pt x="18458" y="12637"/>
                  <a:pt x="18574" y="12605"/>
                </a:cubicBezTo>
                <a:cubicBezTo>
                  <a:pt x="18705" y="12569"/>
                  <a:pt x="18864" y="12541"/>
                  <a:pt x="18986" y="12478"/>
                </a:cubicBezTo>
                <a:cubicBezTo>
                  <a:pt x="19121" y="12408"/>
                  <a:pt x="19253" y="12368"/>
                  <a:pt x="19399" y="12319"/>
                </a:cubicBezTo>
                <a:cubicBezTo>
                  <a:pt x="19496" y="12286"/>
                  <a:pt x="19585" y="12241"/>
                  <a:pt x="19685" y="12224"/>
                </a:cubicBezTo>
                <a:cubicBezTo>
                  <a:pt x="19723" y="12218"/>
                  <a:pt x="19773" y="12224"/>
                  <a:pt x="19812" y="12224"/>
                </a:cubicBezTo>
              </a:path>
              <a:path w="20670" h="10733">
                <a:moveTo>
                  <a:pt x="4318" y="10033"/>
                </a:moveTo>
                <a:cubicBezTo>
                  <a:pt x="4307" y="10087"/>
                  <a:pt x="4290" y="10073"/>
                  <a:pt x="4286" y="10128"/>
                </a:cubicBezTo>
                <a:cubicBezTo>
                  <a:pt x="4279" y="10219"/>
                  <a:pt x="4269" y="10297"/>
                  <a:pt x="4254" y="10382"/>
                </a:cubicBezTo>
                <a:cubicBezTo>
                  <a:pt x="4230" y="10519"/>
                  <a:pt x="4226" y="10654"/>
                  <a:pt x="4223" y="10795"/>
                </a:cubicBezTo>
                <a:cubicBezTo>
                  <a:pt x="4219" y="10978"/>
                  <a:pt x="4191" y="11149"/>
                  <a:pt x="4191" y="11335"/>
                </a:cubicBezTo>
                <a:cubicBezTo>
                  <a:pt x="4191" y="11562"/>
                  <a:pt x="4173" y="11778"/>
                  <a:pt x="4159" y="12002"/>
                </a:cubicBezTo>
                <a:cubicBezTo>
                  <a:pt x="4139" y="12318"/>
                  <a:pt x="4144" y="12639"/>
                  <a:pt x="4128" y="12954"/>
                </a:cubicBezTo>
                <a:cubicBezTo>
                  <a:pt x="4114" y="13222"/>
                  <a:pt x="4084" y="13482"/>
                  <a:pt x="4064" y="13748"/>
                </a:cubicBezTo>
                <a:cubicBezTo>
                  <a:pt x="4046" y="13994"/>
                  <a:pt x="3990" y="14233"/>
                  <a:pt x="3969" y="14478"/>
                </a:cubicBezTo>
                <a:cubicBezTo>
                  <a:pt x="3947" y="14741"/>
                  <a:pt x="3923" y="15012"/>
                  <a:pt x="3874" y="15272"/>
                </a:cubicBezTo>
                <a:cubicBezTo>
                  <a:pt x="3846" y="15421"/>
                  <a:pt x="3815" y="15571"/>
                  <a:pt x="3778" y="15716"/>
                </a:cubicBezTo>
                <a:cubicBezTo>
                  <a:pt x="3762" y="15781"/>
                  <a:pt x="3727" y="15877"/>
                  <a:pt x="3715" y="15907"/>
                </a:cubicBezTo>
              </a:path>
              <a:path w="20670" h="10733">
                <a:moveTo>
                  <a:pt x="1016" y="13367"/>
                </a:moveTo>
                <a:cubicBezTo>
                  <a:pt x="1059" y="13356"/>
                  <a:pt x="1108" y="13344"/>
                  <a:pt x="1143" y="13335"/>
                </a:cubicBezTo>
                <a:cubicBezTo>
                  <a:pt x="1234" y="13312"/>
                  <a:pt x="1306" y="13274"/>
                  <a:pt x="1397" y="13240"/>
                </a:cubicBezTo>
                <a:cubicBezTo>
                  <a:pt x="1705" y="13126"/>
                  <a:pt x="2030" y="13065"/>
                  <a:pt x="2350" y="13018"/>
                </a:cubicBezTo>
                <a:cubicBezTo>
                  <a:pt x="2562" y="12987"/>
                  <a:pt x="2773" y="12950"/>
                  <a:pt x="2984" y="12922"/>
                </a:cubicBezTo>
                <a:cubicBezTo>
                  <a:pt x="3204" y="12892"/>
                  <a:pt x="3430" y="12847"/>
                  <a:pt x="3651" y="12827"/>
                </a:cubicBezTo>
                <a:cubicBezTo>
                  <a:pt x="3936" y="12802"/>
                  <a:pt x="4225" y="12780"/>
                  <a:pt x="4508" y="12732"/>
                </a:cubicBezTo>
                <a:cubicBezTo>
                  <a:pt x="4797" y="12684"/>
                  <a:pt x="5105" y="12674"/>
                  <a:pt x="5398" y="12668"/>
                </a:cubicBezTo>
                <a:cubicBezTo>
                  <a:pt x="5636" y="12663"/>
                  <a:pt x="5862" y="12685"/>
                  <a:pt x="6096" y="12700"/>
                </a:cubicBezTo>
                <a:cubicBezTo>
                  <a:pt x="6363" y="12717"/>
                  <a:pt x="6626" y="12777"/>
                  <a:pt x="6890" y="12795"/>
                </a:cubicBezTo>
                <a:cubicBezTo>
                  <a:pt x="7084" y="12809"/>
                  <a:pt x="7270" y="12829"/>
                  <a:pt x="7461" y="12859"/>
                </a:cubicBezTo>
                <a:cubicBezTo>
                  <a:pt x="7590" y="12879"/>
                  <a:pt x="7738" y="12914"/>
                  <a:pt x="7874" y="12890"/>
                </a:cubicBezTo>
                <a:cubicBezTo>
                  <a:pt x="7910" y="12890"/>
                  <a:pt x="7924" y="12887"/>
                  <a:pt x="7938" y="12859"/>
                </a:cubicBezTo>
              </a:path>
              <a:path w="20670" h="10733">
                <a:moveTo>
                  <a:pt x="2540" y="12922"/>
                </a:moveTo>
                <a:cubicBezTo>
                  <a:pt x="2560" y="12898"/>
                  <a:pt x="2620" y="12846"/>
                  <a:pt x="2635" y="12827"/>
                </a:cubicBezTo>
                <a:cubicBezTo>
                  <a:pt x="2660" y="12796"/>
                  <a:pt x="2657" y="12774"/>
                  <a:pt x="2699" y="12732"/>
                </a:cubicBezTo>
                <a:cubicBezTo>
                  <a:pt x="2736" y="12695"/>
                  <a:pt x="2798" y="12662"/>
                  <a:pt x="2826" y="12636"/>
                </a:cubicBezTo>
                <a:cubicBezTo>
                  <a:pt x="2889" y="12578"/>
                  <a:pt x="2948" y="12529"/>
                  <a:pt x="3016" y="12478"/>
                </a:cubicBezTo>
                <a:cubicBezTo>
                  <a:pt x="3069" y="12438"/>
                  <a:pt x="3125" y="12395"/>
                  <a:pt x="3175" y="12351"/>
                </a:cubicBezTo>
                <a:cubicBezTo>
                  <a:pt x="3246" y="12288"/>
                  <a:pt x="3304" y="12222"/>
                  <a:pt x="3366" y="12160"/>
                </a:cubicBezTo>
                <a:cubicBezTo>
                  <a:pt x="3425" y="12101"/>
                  <a:pt x="3494" y="12022"/>
                  <a:pt x="3556" y="11970"/>
                </a:cubicBezTo>
                <a:cubicBezTo>
                  <a:pt x="3629" y="11908"/>
                  <a:pt x="3717" y="11848"/>
                  <a:pt x="3778" y="11779"/>
                </a:cubicBezTo>
                <a:cubicBezTo>
                  <a:pt x="3853" y="11694"/>
                  <a:pt x="3924" y="11640"/>
                  <a:pt x="4000" y="11557"/>
                </a:cubicBezTo>
                <a:cubicBezTo>
                  <a:pt x="4078" y="11472"/>
                  <a:pt x="4139" y="11414"/>
                  <a:pt x="4223" y="11335"/>
                </a:cubicBezTo>
                <a:cubicBezTo>
                  <a:pt x="4561" y="11017"/>
                  <a:pt x="4926" y="10683"/>
                  <a:pt x="5239" y="10350"/>
                </a:cubicBezTo>
                <a:cubicBezTo>
                  <a:pt x="5303" y="10282"/>
                  <a:pt x="5361" y="10186"/>
                  <a:pt x="5429" y="10128"/>
                </a:cubicBezTo>
                <a:cubicBezTo>
                  <a:pt x="5496" y="10071"/>
                  <a:pt x="5581" y="10025"/>
                  <a:pt x="5652" y="9970"/>
                </a:cubicBezTo>
                <a:cubicBezTo>
                  <a:pt x="5662" y="9959"/>
                  <a:pt x="5673" y="9949"/>
                  <a:pt x="5683" y="9938"/>
                </a:cubicBezTo>
              </a:path>
              <a:path w="20670" h="10733">
                <a:moveTo>
                  <a:pt x="2508" y="12954"/>
                </a:moveTo>
                <a:cubicBezTo>
                  <a:pt x="2519" y="12954"/>
                  <a:pt x="2529" y="12954"/>
                  <a:pt x="2540" y="12954"/>
                </a:cubicBezTo>
              </a:path>
              <a:path w="20670" h="10733">
                <a:moveTo>
                  <a:pt x="2508" y="12954"/>
                </a:moveTo>
                <a:cubicBezTo>
                  <a:pt x="2529" y="12954"/>
                  <a:pt x="2551" y="12954"/>
                  <a:pt x="2572" y="12954"/>
                </a:cubicBezTo>
              </a:path>
              <a:path w="20670" h="10733">
                <a:moveTo>
                  <a:pt x="2572" y="12954"/>
                </a:moveTo>
                <a:cubicBezTo>
                  <a:pt x="2615" y="12935"/>
                  <a:pt x="2613" y="12942"/>
                  <a:pt x="2667" y="12922"/>
                </a:cubicBezTo>
                <a:cubicBezTo>
                  <a:pt x="2713" y="12905"/>
                  <a:pt x="2748" y="12878"/>
                  <a:pt x="2794" y="12859"/>
                </a:cubicBezTo>
                <a:cubicBezTo>
                  <a:pt x="2846" y="12838"/>
                  <a:pt x="2898" y="12826"/>
                  <a:pt x="2953" y="12795"/>
                </a:cubicBezTo>
                <a:cubicBezTo>
                  <a:pt x="3001" y="12768"/>
                  <a:pt x="3059" y="12734"/>
                  <a:pt x="3112" y="12700"/>
                </a:cubicBezTo>
                <a:cubicBezTo>
                  <a:pt x="3183" y="12654"/>
                  <a:pt x="3260" y="12617"/>
                  <a:pt x="3334" y="12573"/>
                </a:cubicBezTo>
                <a:cubicBezTo>
                  <a:pt x="3404" y="12531"/>
                  <a:pt x="3487" y="12491"/>
                  <a:pt x="3556" y="12446"/>
                </a:cubicBezTo>
                <a:cubicBezTo>
                  <a:pt x="3653" y="12383"/>
                  <a:pt x="3742" y="12342"/>
                  <a:pt x="3842" y="12287"/>
                </a:cubicBezTo>
                <a:cubicBezTo>
                  <a:pt x="3950" y="12227"/>
                  <a:pt x="4054" y="12162"/>
                  <a:pt x="4159" y="12097"/>
                </a:cubicBezTo>
                <a:cubicBezTo>
                  <a:pt x="4294" y="12014"/>
                  <a:pt x="4430" y="11912"/>
                  <a:pt x="4572" y="11843"/>
                </a:cubicBezTo>
                <a:cubicBezTo>
                  <a:pt x="4725" y="11769"/>
                  <a:pt x="4863" y="11663"/>
                  <a:pt x="5016" y="11589"/>
                </a:cubicBezTo>
                <a:cubicBezTo>
                  <a:pt x="5178" y="11511"/>
                  <a:pt x="5330" y="11408"/>
                  <a:pt x="5493" y="11335"/>
                </a:cubicBezTo>
                <a:cubicBezTo>
                  <a:pt x="5617" y="11280"/>
                  <a:pt x="5727" y="11202"/>
                  <a:pt x="5842" y="11144"/>
                </a:cubicBezTo>
                <a:cubicBezTo>
                  <a:pt x="5950" y="11089"/>
                  <a:pt x="6048" y="11040"/>
                  <a:pt x="6160" y="10986"/>
                </a:cubicBezTo>
                <a:cubicBezTo>
                  <a:pt x="6240" y="10948"/>
                  <a:pt x="6306" y="10901"/>
                  <a:pt x="6382" y="10858"/>
                </a:cubicBezTo>
                <a:cubicBezTo>
                  <a:pt x="6411" y="10830"/>
                  <a:pt x="6417" y="10820"/>
                  <a:pt x="6445" y="10827"/>
                </a:cubicBezTo>
              </a:path>
              <a:path w="20670" h="10733">
                <a:moveTo>
                  <a:pt x="2635" y="12732"/>
                </a:moveTo>
                <a:cubicBezTo>
                  <a:pt x="2622" y="12776"/>
                  <a:pt x="2617" y="12813"/>
                  <a:pt x="2604" y="12859"/>
                </a:cubicBezTo>
                <a:cubicBezTo>
                  <a:pt x="2630" y="12820"/>
                  <a:pt x="2594" y="12920"/>
                  <a:pt x="2635" y="12827"/>
                </a:cubicBezTo>
                <a:cubicBezTo>
                  <a:pt x="2664" y="12762"/>
                  <a:pt x="2698" y="12708"/>
                  <a:pt x="2730" y="12636"/>
                </a:cubicBezTo>
                <a:cubicBezTo>
                  <a:pt x="2743" y="12606"/>
                  <a:pt x="2764" y="12510"/>
                  <a:pt x="2794" y="12510"/>
                </a:cubicBezTo>
                <a:cubicBezTo>
                  <a:pt x="2851" y="12510"/>
                  <a:pt x="2821" y="12560"/>
                  <a:pt x="2826" y="12605"/>
                </a:cubicBezTo>
                <a:cubicBezTo>
                  <a:pt x="2826" y="12636"/>
                  <a:pt x="2826" y="12647"/>
                  <a:pt x="2826" y="12668"/>
                </a:cubicBezTo>
                <a:cubicBezTo>
                  <a:pt x="2849" y="12639"/>
                  <a:pt x="2896" y="12623"/>
                  <a:pt x="2921" y="12573"/>
                </a:cubicBezTo>
                <a:cubicBezTo>
                  <a:pt x="2951" y="12513"/>
                  <a:pt x="2987" y="12484"/>
                  <a:pt x="3016" y="12446"/>
                </a:cubicBezTo>
                <a:cubicBezTo>
                  <a:pt x="3016" y="12414"/>
                  <a:pt x="3016" y="12403"/>
                  <a:pt x="3048" y="12414"/>
                </a:cubicBezTo>
                <a:cubicBezTo>
                  <a:pt x="3048" y="12512"/>
                  <a:pt x="3059" y="12586"/>
                  <a:pt x="3080" y="12668"/>
                </a:cubicBezTo>
                <a:cubicBezTo>
                  <a:pt x="3101" y="12630"/>
                  <a:pt x="3112" y="12625"/>
                  <a:pt x="3143" y="12573"/>
                </a:cubicBezTo>
                <a:cubicBezTo>
                  <a:pt x="3187" y="12500"/>
                  <a:pt x="3190" y="12409"/>
                  <a:pt x="3238" y="12351"/>
                </a:cubicBezTo>
                <a:cubicBezTo>
                  <a:pt x="3251" y="12336"/>
                  <a:pt x="3286" y="12333"/>
                  <a:pt x="3302" y="12319"/>
                </a:cubicBezTo>
                <a:cubicBezTo>
                  <a:pt x="3302" y="12403"/>
                  <a:pt x="3289" y="12475"/>
                  <a:pt x="3334" y="12541"/>
                </a:cubicBezTo>
                <a:cubicBezTo>
                  <a:pt x="3345" y="12541"/>
                  <a:pt x="3355" y="12541"/>
                  <a:pt x="3366" y="12541"/>
                </a:cubicBezTo>
                <a:cubicBezTo>
                  <a:pt x="3400" y="12472"/>
                  <a:pt x="3428" y="12427"/>
                  <a:pt x="3461" y="12351"/>
                </a:cubicBezTo>
                <a:cubicBezTo>
                  <a:pt x="3495" y="12274"/>
                  <a:pt x="3531" y="12197"/>
                  <a:pt x="3556" y="12128"/>
                </a:cubicBezTo>
                <a:cubicBezTo>
                  <a:pt x="3567" y="12099"/>
                  <a:pt x="3579" y="12059"/>
                  <a:pt x="3588" y="12033"/>
                </a:cubicBezTo>
                <a:cubicBezTo>
                  <a:pt x="3588" y="12118"/>
                  <a:pt x="3588" y="12202"/>
                  <a:pt x="3588" y="12287"/>
                </a:cubicBezTo>
                <a:cubicBezTo>
                  <a:pt x="3626" y="12233"/>
                  <a:pt x="3646" y="12317"/>
                  <a:pt x="3683" y="12192"/>
                </a:cubicBezTo>
                <a:cubicBezTo>
                  <a:pt x="3719" y="12071"/>
                  <a:pt x="3738" y="11936"/>
                  <a:pt x="3778" y="11811"/>
                </a:cubicBezTo>
                <a:cubicBezTo>
                  <a:pt x="3804" y="11729"/>
                  <a:pt x="3834" y="11688"/>
                  <a:pt x="3874" y="11620"/>
                </a:cubicBezTo>
                <a:cubicBezTo>
                  <a:pt x="3868" y="11708"/>
                  <a:pt x="3850" y="11794"/>
                  <a:pt x="3842" y="11874"/>
                </a:cubicBezTo>
                <a:cubicBezTo>
                  <a:pt x="3835" y="11944"/>
                  <a:pt x="3870" y="11983"/>
                  <a:pt x="3874" y="12002"/>
                </a:cubicBezTo>
                <a:cubicBezTo>
                  <a:pt x="3900" y="11928"/>
                  <a:pt x="3930" y="11827"/>
                  <a:pt x="3969" y="11748"/>
                </a:cubicBezTo>
                <a:cubicBezTo>
                  <a:pt x="4029" y="11627"/>
                  <a:pt x="4070" y="11472"/>
                  <a:pt x="4159" y="11366"/>
                </a:cubicBezTo>
                <a:cubicBezTo>
                  <a:pt x="4188" y="11338"/>
                  <a:pt x="4194" y="11328"/>
                  <a:pt x="4223" y="11335"/>
                </a:cubicBezTo>
                <a:cubicBezTo>
                  <a:pt x="4230" y="11392"/>
                  <a:pt x="4262" y="11447"/>
                  <a:pt x="4254" y="11525"/>
                </a:cubicBezTo>
                <a:cubicBezTo>
                  <a:pt x="4245" y="11619"/>
                  <a:pt x="4201" y="11714"/>
                  <a:pt x="4191" y="11811"/>
                </a:cubicBezTo>
                <a:cubicBezTo>
                  <a:pt x="4187" y="11853"/>
                  <a:pt x="4194" y="11896"/>
                  <a:pt x="4191" y="11938"/>
                </a:cubicBezTo>
                <a:cubicBezTo>
                  <a:pt x="4238" y="11833"/>
                  <a:pt x="4282" y="11735"/>
                  <a:pt x="4318" y="11620"/>
                </a:cubicBezTo>
                <a:cubicBezTo>
                  <a:pt x="4364" y="11474"/>
                  <a:pt x="4425" y="11349"/>
                  <a:pt x="4477" y="11208"/>
                </a:cubicBezTo>
                <a:cubicBezTo>
                  <a:pt x="4517" y="11100"/>
                  <a:pt x="4551" y="11080"/>
                  <a:pt x="4604" y="11017"/>
                </a:cubicBezTo>
                <a:cubicBezTo>
                  <a:pt x="4619" y="11115"/>
                  <a:pt x="4610" y="11146"/>
                  <a:pt x="4604" y="11240"/>
                </a:cubicBezTo>
                <a:cubicBezTo>
                  <a:pt x="4597" y="11346"/>
                  <a:pt x="4580" y="11459"/>
                  <a:pt x="4572" y="11557"/>
                </a:cubicBezTo>
                <a:cubicBezTo>
                  <a:pt x="4566" y="11629"/>
                  <a:pt x="4546" y="11630"/>
                  <a:pt x="4540" y="11652"/>
                </a:cubicBezTo>
                <a:cubicBezTo>
                  <a:pt x="4556" y="11618"/>
                  <a:pt x="4616" y="11503"/>
                  <a:pt x="4636" y="11430"/>
                </a:cubicBezTo>
                <a:cubicBezTo>
                  <a:pt x="4686" y="11244"/>
                  <a:pt x="4767" y="11072"/>
                  <a:pt x="4826" y="10890"/>
                </a:cubicBezTo>
                <a:cubicBezTo>
                  <a:pt x="4874" y="10742"/>
                  <a:pt x="4890" y="10632"/>
                  <a:pt x="4985" y="10509"/>
                </a:cubicBezTo>
                <a:cubicBezTo>
                  <a:pt x="5010" y="10457"/>
                  <a:pt x="5008" y="10436"/>
                  <a:pt x="5048" y="10446"/>
                </a:cubicBezTo>
                <a:cubicBezTo>
                  <a:pt x="5048" y="10718"/>
                  <a:pt x="5019" y="11013"/>
                  <a:pt x="5080" y="11271"/>
                </a:cubicBezTo>
                <a:cubicBezTo>
                  <a:pt x="5080" y="11329"/>
                  <a:pt x="5075" y="11345"/>
                  <a:pt x="5112" y="11366"/>
                </a:cubicBezTo>
                <a:cubicBezTo>
                  <a:pt x="5127" y="11332"/>
                  <a:pt x="5187" y="11217"/>
                  <a:pt x="5207" y="11144"/>
                </a:cubicBezTo>
                <a:cubicBezTo>
                  <a:pt x="5270" y="10913"/>
                  <a:pt x="5282" y="10544"/>
                  <a:pt x="5429" y="10350"/>
                </a:cubicBezTo>
                <a:cubicBezTo>
                  <a:pt x="5454" y="10317"/>
                  <a:pt x="5506" y="10305"/>
                  <a:pt x="5524" y="10287"/>
                </a:cubicBezTo>
                <a:cubicBezTo>
                  <a:pt x="5543" y="10356"/>
                  <a:pt x="5578" y="10427"/>
                  <a:pt x="5588" y="10509"/>
                </a:cubicBezTo>
                <a:cubicBezTo>
                  <a:pt x="5605" y="10644"/>
                  <a:pt x="5605" y="10789"/>
                  <a:pt x="5620" y="10922"/>
                </a:cubicBezTo>
                <a:cubicBezTo>
                  <a:pt x="5636" y="11065"/>
                  <a:pt x="5645" y="10983"/>
                  <a:pt x="5683" y="11081"/>
                </a:cubicBezTo>
                <a:cubicBezTo>
                  <a:pt x="5734" y="11020"/>
                  <a:pt x="5788" y="11008"/>
                  <a:pt x="5810" y="10890"/>
                </a:cubicBezTo>
                <a:cubicBezTo>
                  <a:pt x="5841" y="10724"/>
                  <a:pt x="5874" y="10605"/>
                  <a:pt x="5937" y="10446"/>
                </a:cubicBezTo>
                <a:cubicBezTo>
                  <a:pt x="5975" y="10350"/>
                  <a:pt x="6007" y="10275"/>
                  <a:pt x="6064" y="10192"/>
                </a:cubicBezTo>
                <a:cubicBezTo>
                  <a:pt x="6075" y="10181"/>
                  <a:pt x="6085" y="10171"/>
                  <a:pt x="6096" y="10160"/>
                </a:cubicBezTo>
                <a:cubicBezTo>
                  <a:pt x="6099" y="10174"/>
                  <a:pt x="6126" y="10257"/>
                  <a:pt x="6128" y="10319"/>
                </a:cubicBezTo>
                <a:cubicBezTo>
                  <a:pt x="6134" y="10475"/>
                  <a:pt x="6129" y="10616"/>
                  <a:pt x="6160" y="10763"/>
                </a:cubicBezTo>
                <a:cubicBezTo>
                  <a:pt x="6171" y="10817"/>
                  <a:pt x="6175" y="10870"/>
                  <a:pt x="6191" y="10922"/>
                </a:cubicBezTo>
              </a:path>
              <a:path w="20670" h="10733">
                <a:moveTo>
                  <a:pt x="7715" y="10001"/>
                </a:moveTo>
                <a:cubicBezTo>
                  <a:pt x="7767" y="10071"/>
                  <a:pt x="7720" y="10073"/>
                  <a:pt x="7715" y="10160"/>
                </a:cubicBezTo>
                <a:cubicBezTo>
                  <a:pt x="7710" y="10253"/>
                  <a:pt x="7675" y="10356"/>
                  <a:pt x="7652" y="10446"/>
                </a:cubicBezTo>
                <a:cubicBezTo>
                  <a:pt x="7620" y="10573"/>
                  <a:pt x="7594" y="10696"/>
                  <a:pt x="7588" y="10827"/>
                </a:cubicBezTo>
                <a:cubicBezTo>
                  <a:pt x="7587" y="10847"/>
                  <a:pt x="7573" y="11097"/>
                  <a:pt x="7620" y="11081"/>
                </a:cubicBezTo>
                <a:cubicBezTo>
                  <a:pt x="7620" y="11049"/>
                  <a:pt x="7620" y="11038"/>
                  <a:pt x="7620" y="11017"/>
                </a:cubicBezTo>
              </a:path>
              <a:path w="20670" h="10733">
                <a:moveTo>
                  <a:pt x="7239" y="9970"/>
                </a:moveTo>
                <a:cubicBezTo>
                  <a:pt x="7328" y="9970"/>
                  <a:pt x="7373" y="9951"/>
                  <a:pt x="7461" y="9938"/>
                </a:cubicBezTo>
                <a:cubicBezTo>
                  <a:pt x="7619" y="9914"/>
                  <a:pt x="7790" y="9946"/>
                  <a:pt x="7938" y="9970"/>
                </a:cubicBezTo>
                <a:cubicBezTo>
                  <a:pt x="8016" y="9982"/>
                  <a:pt x="8034" y="9955"/>
                  <a:pt x="8096" y="10001"/>
                </a:cubicBezTo>
              </a:path>
              <a:path w="20670" h="10733">
                <a:moveTo>
                  <a:pt x="7302" y="11081"/>
                </a:moveTo>
                <a:cubicBezTo>
                  <a:pt x="7343" y="11050"/>
                  <a:pt x="7417" y="11026"/>
                  <a:pt x="7461" y="11017"/>
                </a:cubicBezTo>
                <a:cubicBezTo>
                  <a:pt x="7560" y="10997"/>
                  <a:pt x="7651" y="11044"/>
                  <a:pt x="7747" y="11049"/>
                </a:cubicBezTo>
                <a:cubicBezTo>
                  <a:pt x="7837" y="11054"/>
                  <a:pt x="7907" y="11081"/>
                  <a:pt x="8001" y="11081"/>
                </a:cubicBezTo>
              </a:path>
              <a:path w="20670" h="10733">
                <a:moveTo>
                  <a:pt x="8985" y="10192"/>
                </a:moveTo>
                <a:cubicBezTo>
                  <a:pt x="8968" y="10139"/>
                  <a:pt x="8960" y="10134"/>
                  <a:pt x="8890" y="10128"/>
                </a:cubicBezTo>
                <a:cubicBezTo>
                  <a:pt x="8800" y="10120"/>
                  <a:pt x="8747" y="10152"/>
                  <a:pt x="8668" y="10192"/>
                </a:cubicBezTo>
                <a:cubicBezTo>
                  <a:pt x="8609" y="10221"/>
                  <a:pt x="8515" y="10303"/>
                  <a:pt x="8541" y="10382"/>
                </a:cubicBezTo>
                <a:cubicBezTo>
                  <a:pt x="8559" y="10438"/>
                  <a:pt x="8606" y="10489"/>
                  <a:pt x="8668" y="10509"/>
                </a:cubicBezTo>
                <a:cubicBezTo>
                  <a:pt x="8711" y="10523"/>
                  <a:pt x="8753" y="10530"/>
                  <a:pt x="8795" y="10541"/>
                </a:cubicBezTo>
                <a:cubicBezTo>
                  <a:pt x="8779" y="10493"/>
                  <a:pt x="8757" y="10509"/>
                  <a:pt x="8700" y="10509"/>
                </a:cubicBezTo>
                <a:cubicBezTo>
                  <a:pt x="8656" y="10509"/>
                  <a:pt x="8605" y="10544"/>
                  <a:pt x="8572" y="10573"/>
                </a:cubicBezTo>
                <a:cubicBezTo>
                  <a:pt x="8524" y="10615"/>
                  <a:pt x="8492" y="10702"/>
                  <a:pt x="8477" y="10763"/>
                </a:cubicBezTo>
                <a:cubicBezTo>
                  <a:pt x="8457" y="10841"/>
                  <a:pt x="8492" y="10872"/>
                  <a:pt x="8541" y="10922"/>
                </a:cubicBezTo>
                <a:cubicBezTo>
                  <a:pt x="8599" y="10981"/>
                  <a:pt x="8615" y="10986"/>
                  <a:pt x="8700" y="10986"/>
                </a:cubicBezTo>
                <a:cubicBezTo>
                  <a:pt x="8776" y="10986"/>
                  <a:pt x="8772" y="10995"/>
                  <a:pt x="8826" y="10954"/>
                </a:cubicBezTo>
              </a:path>
              <a:path w="20670" h="10733">
                <a:moveTo>
                  <a:pt x="8858" y="9557"/>
                </a:moveTo>
                <a:cubicBezTo>
                  <a:pt x="8858" y="9642"/>
                  <a:pt x="8858" y="9726"/>
                  <a:pt x="8858" y="9811"/>
                </a:cubicBezTo>
              </a:path>
              <a:path w="20670" h="10733">
                <a:moveTo>
                  <a:pt x="8572" y="11430"/>
                </a:moveTo>
                <a:cubicBezTo>
                  <a:pt x="8572" y="11530"/>
                  <a:pt x="8598" y="11669"/>
                  <a:pt x="8541" y="11748"/>
                </a:cubicBezTo>
              </a:path>
              <a:path w="20670" h="10733">
                <a:moveTo>
                  <a:pt x="9684" y="10096"/>
                </a:moveTo>
                <a:cubicBezTo>
                  <a:pt x="9650" y="10142"/>
                  <a:pt x="9628" y="10229"/>
                  <a:pt x="9620" y="10287"/>
                </a:cubicBezTo>
                <a:cubicBezTo>
                  <a:pt x="9605" y="10403"/>
                  <a:pt x="9606" y="10518"/>
                  <a:pt x="9588" y="10636"/>
                </a:cubicBezTo>
                <a:cubicBezTo>
                  <a:pt x="9563" y="10799"/>
                  <a:pt x="9557" y="10946"/>
                  <a:pt x="9557" y="11112"/>
                </a:cubicBezTo>
                <a:cubicBezTo>
                  <a:pt x="9557" y="11229"/>
                  <a:pt x="9557" y="11345"/>
                  <a:pt x="9557" y="11462"/>
                </a:cubicBezTo>
              </a:path>
              <a:path w="20670" h="10733">
                <a:moveTo>
                  <a:pt x="10033" y="10224"/>
                </a:moveTo>
                <a:cubicBezTo>
                  <a:pt x="10033" y="10539"/>
                  <a:pt x="9910" y="11173"/>
                  <a:pt x="10065" y="11430"/>
                </a:cubicBezTo>
              </a:path>
              <a:path w="20670" h="10733">
                <a:moveTo>
                  <a:pt x="9366" y="10192"/>
                </a:moveTo>
                <a:cubicBezTo>
                  <a:pt x="9307" y="10133"/>
                  <a:pt x="9374" y="10192"/>
                  <a:pt x="9430" y="10192"/>
                </a:cubicBezTo>
                <a:cubicBezTo>
                  <a:pt x="9615" y="10192"/>
                  <a:pt x="9788" y="10178"/>
                  <a:pt x="9970" y="10160"/>
                </a:cubicBezTo>
                <a:cubicBezTo>
                  <a:pt x="10104" y="10147"/>
                  <a:pt x="10220" y="10186"/>
                  <a:pt x="10350" y="10192"/>
                </a:cubicBezTo>
                <a:cubicBezTo>
                  <a:pt x="10430" y="10196"/>
                  <a:pt x="10479" y="10177"/>
                  <a:pt x="10541" y="10224"/>
                </a:cubicBezTo>
              </a:path>
              <a:path w="20670" h="10733">
                <a:moveTo>
                  <a:pt x="9271" y="11430"/>
                </a:moveTo>
                <a:cubicBezTo>
                  <a:pt x="9584" y="11430"/>
                  <a:pt x="10223" y="11309"/>
                  <a:pt x="10478" y="11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Ink 4"/>
          <p:cNvSpPr/>
          <p:nvPr/>
        </p:nvSpPr>
        <p:spPr>
          <a:xfrm>
            <a:off x="4525920" y="2079720"/>
            <a:ext cx="1041480" cy="1006560"/>
          </a:xfrm>
          <a:custGeom>
            <a:avLst/>
            <a:gdLst/>
            <a:ahLst/>
            <a:rect l="l" t="t" r="r" b="b"/>
            <a:pathLst>
              <a:path w="2890" h="2795">
                <a:moveTo>
                  <a:pt x="13589" y="5778"/>
                </a:moveTo>
                <a:cubicBezTo>
                  <a:pt x="13589" y="5902"/>
                  <a:pt x="13608" y="6009"/>
                  <a:pt x="13621" y="6128"/>
                </a:cubicBezTo>
                <a:cubicBezTo>
                  <a:pt x="13640" y="6296"/>
                  <a:pt x="13672" y="6467"/>
                  <a:pt x="13684" y="6636"/>
                </a:cubicBezTo>
                <a:cubicBezTo>
                  <a:pt x="13699" y="6847"/>
                  <a:pt x="13711" y="7060"/>
                  <a:pt x="13716" y="7271"/>
                </a:cubicBezTo>
                <a:cubicBezTo>
                  <a:pt x="13721" y="7487"/>
                  <a:pt x="13732" y="7693"/>
                  <a:pt x="13748" y="7906"/>
                </a:cubicBezTo>
                <a:cubicBezTo>
                  <a:pt x="13764" y="8115"/>
                  <a:pt x="13748" y="8331"/>
                  <a:pt x="13748" y="8541"/>
                </a:cubicBezTo>
              </a:path>
              <a:path w="2890" h="2795">
                <a:moveTo>
                  <a:pt x="14160" y="5778"/>
                </a:moveTo>
                <a:cubicBezTo>
                  <a:pt x="14200" y="5858"/>
                  <a:pt x="14173" y="5905"/>
                  <a:pt x="14192" y="6001"/>
                </a:cubicBezTo>
                <a:cubicBezTo>
                  <a:pt x="14225" y="6172"/>
                  <a:pt x="14224" y="6332"/>
                  <a:pt x="14224" y="6509"/>
                </a:cubicBezTo>
                <a:cubicBezTo>
                  <a:pt x="14224" y="6702"/>
                  <a:pt x="14234" y="6919"/>
                  <a:pt x="14256" y="7112"/>
                </a:cubicBezTo>
                <a:cubicBezTo>
                  <a:pt x="14285" y="7375"/>
                  <a:pt x="14313" y="7641"/>
                  <a:pt x="14319" y="7906"/>
                </a:cubicBezTo>
                <a:cubicBezTo>
                  <a:pt x="14323" y="8078"/>
                  <a:pt x="14351" y="8241"/>
                  <a:pt x="14351" y="8414"/>
                </a:cubicBezTo>
                <a:cubicBezTo>
                  <a:pt x="14351" y="8474"/>
                  <a:pt x="14334" y="8517"/>
                  <a:pt x="14319" y="8572"/>
                </a:cubicBezTo>
              </a:path>
              <a:path w="2890" h="2795">
                <a:moveTo>
                  <a:pt x="12573" y="6001"/>
                </a:moveTo>
                <a:cubicBezTo>
                  <a:pt x="12662" y="5934"/>
                  <a:pt x="12670" y="5937"/>
                  <a:pt x="12795" y="5937"/>
                </a:cubicBezTo>
                <a:cubicBezTo>
                  <a:pt x="12929" y="5937"/>
                  <a:pt x="13045" y="5956"/>
                  <a:pt x="13176" y="5969"/>
                </a:cubicBezTo>
                <a:cubicBezTo>
                  <a:pt x="13335" y="5985"/>
                  <a:pt x="13494" y="6019"/>
                  <a:pt x="13652" y="6032"/>
                </a:cubicBezTo>
                <a:cubicBezTo>
                  <a:pt x="13894" y="6052"/>
                  <a:pt x="14144" y="6047"/>
                  <a:pt x="14383" y="6064"/>
                </a:cubicBezTo>
                <a:cubicBezTo>
                  <a:pt x="14589" y="6079"/>
                  <a:pt x="14782" y="6106"/>
                  <a:pt x="14986" y="6128"/>
                </a:cubicBezTo>
                <a:cubicBezTo>
                  <a:pt x="15148" y="6146"/>
                  <a:pt x="15310" y="6172"/>
                  <a:pt x="15462" y="6223"/>
                </a:cubicBezTo>
              </a:path>
              <a:path w="2890" h="2795">
                <a:moveTo>
                  <a:pt x="13240" y="8572"/>
                </a:moveTo>
                <a:cubicBezTo>
                  <a:pt x="13288" y="8544"/>
                  <a:pt x="13333" y="8523"/>
                  <a:pt x="13398" y="8541"/>
                </a:cubicBezTo>
                <a:cubicBezTo>
                  <a:pt x="13507" y="8571"/>
                  <a:pt x="13599" y="8572"/>
                  <a:pt x="13716" y="8572"/>
                </a:cubicBezTo>
                <a:cubicBezTo>
                  <a:pt x="13868" y="8572"/>
                  <a:pt x="14010" y="8522"/>
                  <a:pt x="14160" y="8509"/>
                </a:cubicBezTo>
                <a:cubicBezTo>
                  <a:pt x="14330" y="8494"/>
                  <a:pt x="14500" y="8504"/>
                  <a:pt x="14668" y="8477"/>
                </a:cubicBezTo>
                <a:cubicBezTo>
                  <a:pt x="14822" y="8452"/>
                  <a:pt x="14996" y="8479"/>
                  <a:pt x="15145" y="8446"/>
                </a:cubicBezTo>
                <a:cubicBezTo>
                  <a:pt x="15253" y="8422"/>
                  <a:pt x="15288" y="8432"/>
                  <a:pt x="15399" y="8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Ink 5"/>
          <p:cNvSpPr/>
          <p:nvPr/>
        </p:nvSpPr>
        <p:spPr>
          <a:xfrm>
            <a:off x="6343560" y="2149560"/>
            <a:ext cx="743040" cy="833400"/>
          </a:xfrm>
          <a:custGeom>
            <a:avLst/>
            <a:gdLst/>
            <a:ahLst/>
            <a:rect l="l" t="t" r="r" b="b"/>
            <a:pathLst>
              <a:path w="2065" h="2319">
                <a:moveTo>
                  <a:pt x="18637" y="6064"/>
                </a:moveTo>
                <a:cubicBezTo>
                  <a:pt x="18629" y="6142"/>
                  <a:pt x="18609" y="6209"/>
                  <a:pt x="18606" y="6286"/>
                </a:cubicBezTo>
                <a:cubicBezTo>
                  <a:pt x="18600" y="6427"/>
                  <a:pt x="18586" y="6563"/>
                  <a:pt x="18574" y="6699"/>
                </a:cubicBezTo>
                <a:cubicBezTo>
                  <a:pt x="18558" y="6877"/>
                  <a:pt x="18547" y="7061"/>
                  <a:pt x="18542" y="7239"/>
                </a:cubicBezTo>
                <a:cubicBezTo>
                  <a:pt x="18535" y="7477"/>
                  <a:pt x="18542" y="7706"/>
                  <a:pt x="18510" y="7938"/>
                </a:cubicBezTo>
                <a:cubicBezTo>
                  <a:pt x="18500" y="8010"/>
                  <a:pt x="18513" y="8069"/>
                  <a:pt x="18478" y="8128"/>
                </a:cubicBezTo>
                <a:cubicBezTo>
                  <a:pt x="18468" y="8139"/>
                  <a:pt x="18457" y="8149"/>
                  <a:pt x="18447" y="8160"/>
                </a:cubicBezTo>
              </a:path>
              <a:path w="2065" h="2319">
                <a:moveTo>
                  <a:pt x="17748" y="6032"/>
                </a:moveTo>
                <a:cubicBezTo>
                  <a:pt x="17683" y="6040"/>
                  <a:pt x="17677" y="6030"/>
                  <a:pt x="17621" y="6064"/>
                </a:cubicBezTo>
                <a:cubicBezTo>
                  <a:pt x="17689" y="6073"/>
                  <a:pt x="17743" y="6092"/>
                  <a:pt x="17812" y="6096"/>
                </a:cubicBezTo>
                <a:cubicBezTo>
                  <a:pt x="17925" y="6102"/>
                  <a:pt x="18022" y="6074"/>
                  <a:pt x="18129" y="6064"/>
                </a:cubicBezTo>
                <a:cubicBezTo>
                  <a:pt x="18285" y="6049"/>
                  <a:pt x="18451" y="6043"/>
                  <a:pt x="18606" y="6032"/>
                </a:cubicBezTo>
                <a:cubicBezTo>
                  <a:pt x="18772" y="6020"/>
                  <a:pt x="18949" y="6025"/>
                  <a:pt x="19114" y="6001"/>
                </a:cubicBezTo>
                <a:cubicBezTo>
                  <a:pt x="19246" y="5982"/>
                  <a:pt x="19359" y="5969"/>
                  <a:pt x="19494" y="5969"/>
                </a:cubicBezTo>
                <a:cubicBezTo>
                  <a:pt x="19547" y="5969"/>
                  <a:pt x="19600" y="5969"/>
                  <a:pt x="19653" y="5969"/>
                </a:cubicBezTo>
                <a:cubicBezTo>
                  <a:pt x="19691" y="6062"/>
                  <a:pt x="19653" y="5927"/>
                  <a:pt x="19653" y="6064"/>
                </a:cubicBezTo>
              </a:path>
              <a:path w="2065" h="2319">
                <a:moveTo>
                  <a:pt x="17875" y="8287"/>
                </a:moveTo>
                <a:cubicBezTo>
                  <a:pt x="17803" y="8250"/>
                  <a:pt x="17936" y="8235"/>
                  <a:pt x="17970" y="8223"/>
                </a:cubicBezTo>
                <a:cubicBezTo>
                  <a:pt x="18069" y="8189"/>
                  <a:pt x="18156" y="8183"/>
                  <a:pt x="18256" y="8160"/>
                </a:cubicBezTo>
                <a:cubicBezTo>
                  <a:pt x="18381" y="8131"/>
                  <a:pt x="18538" y="8077"/>
                  <a:pt x="18669" y="8096"/>
                </a:cubicBezTo>
                <a:cubicBezTo>
                  <a:pt x="18802" y="8115"/>
                  <a:pt x="18949" y="8106"/>
                  <a:pt x="19082" y="8128"/>
                </a:cubicBezTo>
                <a:cubicBezTo>
                  <a:pt x="19216" y="8151"/>
                  <a:pt x="19273" y="8149"/>
                  <a:pt x="19399" y="8128"/>
                </a:cubicBezTo>
                <a:cubicBezTo>
                  <a:pt x="19459" y="8118"/>
                  <a:pt x="19529" y="8128"/>
                  <a:pt x="19590" y="8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ing Systems by 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y = -4x + 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x + 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ing Systems by 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 + 3y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6x -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Ink 4"/>
          <p:cNvSpPr/>
          <p:nvPr/>
        </p:nvSpPr>
        <p:spPr>
          <a:xfrm>
            <a:off x="1131840" y="1325520"/>
            <a:ext cx="4525920" cy="1749600"/>
          </a:xfrm>
          <a:custGeom>
            <a:avLst/>
            <a:gdLst/>
            <a:ahLst/>
            <a:rect l="l" t="t" r="r" b="b"/>
            <a:pathLst>
              <a:path w="12574" h="4859">
                <a:moveTo>
                  <a:pt x="3397" y="6445"/>
                </a:moveTo>
                <a:cubicBezTo>
                  <a:pt x="3427" y="6486"/>
                  <a:pt x="3633" y="6584"/>
                  <a:pt x="3810" y="6604"/>
                </a:cubicBezTo>
                <a:cubicBezTo>
                  <a:pt x="3878" y="6612"/>
                  <a:pt x="3977" y="6600"/>
                  <a:pt x="4032" y="6572"/>
                </a:cubicBezTo>
                <a:cubicBezTo>
                  <a:pt x="4096" y="6540"/>
                  <a:pt x="4158" y="6525"/>
                  <a:pt x="4223" y="6477"/>
                </a:cubicBezTo>
                <a:cubicBezTo>
                  <a:pt x="4300" y="6420"/>
                  <a:pt x="4372" y="6328"/>
                  <a:pt x="4413" y="6255"/>
                </a:cubicBezTo>
                <a:cubicBezTo>
                  <a:pt x="4454" y="6182"/>
                  <a:pt x="4497" y="6116"/>
                  <a:pt x="4508" y="6032"/>
                </a:cubicBezTo>
                <a:cubicBezTo>
                  <a:pt x="4528" y="5878"/>
                  <a:pt x="4536" y="5634"/>
                  <a:pt x="4477" y="5493"/>
                </a:cubicBezTo>
                <a:cubicBezTo>
                  <a:pt x="4454" y="5439"/>
                  <a:pt x="4454" y="5382"/>
                  <a:pt x="4413" y="5334"/>
                </a:cubicBezTo>
                <a:cubicBezTo>
                  <a:pt x="4349" y="5260"/>
                  <a:pt x="4276" y="5189"/>
                  <a:pt x="4191" y="5144"/>
                </a:cubicBezTo>
                <a:cubicBezTo>
                  <a:pt x="4132" y="5113"/>
                  <a:pt x="4074" y="5112"/>
                  <a:pt x="4000" y="5112"/>
                </a:cubicBezTo>
                <a:cubicBezTo>
                  <a:pt x="3913" y="5112"/>
                  <a:pt x="3857" y="5109"/>
                  <a:pt x="3778" y="5144"/>
                </a:cubicBezTo>
                <a:cubicBezTo>
                  <a:pt x="3695" y="5180"/>
                  <a:pt x="3630" y="5214"/>
                  <a:pt x="3556" y="5270"/>
                </a:cubicBezTo>
                <a:cubicBezTo>
                  <a:pt x="3476" y="5331"/>
                  <a:pt x="3429" y="5385"/>
                  <a:pt x="3366" y="5461"/>
                </a:cubicBezTo>
                <a:cubicBezTo>
                  <a:pt x="3325" y="5510"/>
                  <a:pt x="3242" y="5570"/>
                  <a:pt x="3207" y="5652"/>
                </a:cubicBezTo>
                <a:cubicBezTo>
                  <a:pt x="3171" y="5734"/>
                  <a:pt x="3147" y="5850"/>
                  <a:pt x="3143" y="5937"/>
                </a:cubicBezTo>
                <a:cubicBezTo>
                  <a:pt x="3137" y="6064"/>
                  <a:pt x="3155" y="6169"/>
                  <a:pt x="3175" y="6286"/>
                </a:cubicBezTo>
                <a:cubicBezTo>
                  <a:pt x="3189" y="6368"/>
                  <a:pt x="3193" y="6467"/>
                  <a:pt x="3238" y="6540"/>
                </a:cubicBezTo>
                <a:cubicBezTo>
                  <a:pt x="3276" y="6601"/>
                  <a:pt x="3365" y="6673"/>
                  <a:pt x="3429" y="6699"/>
                </a:cubicBezTo>
                <a:cubicBezTo>
                  <a:pt x="3478" y="6719"/>
                  <a:pt x="3566" y="6752"/>
                  <a:pt x="3620" y="6763"/>
                </a:cubicBezTo>
                <a:cubicBezTo>
                  <a:pt x="3719" y="6784"/>
                  <a:pt x="3825" y="6751"/>
                  <a:pt x="3905" y="6731"/>
                </a:cubicBezTo>
              </a:path>
              <a:path w="12574" h="4859">
                <a:moveTo>
                  <a:pt x="5207" y="5239"/>
                </a:moveTo>
                <a:cubicBezTo>
                  <a:pt x="5207" y="5476"/>
                  <a:pt x="5199" y="5707"/>
                  <a:pt x="5175" y="5937"/>
                </a:cubicBezTo>
                <a:cubicBezTo>
                  <a:pt x="5162" y="6058"/>
                  <a:pt x="5162" y="6168"/>
                  <a:pt x="5144" y="6286"/>
                </a:cubicBezTo>
                <a:cubicBezTo>
                  <a:pt x="5131" y="6370"/>
                  <a:pt x="5090" y="6471"/>
                  <a:pt x="5080" y="6540"/>
                </a:cubicBezTo>
                <a:cubicBezTo>
                  <a:pt x="5074" y="6582"/>
                  <a:pt x="5084" y="6626"/>
                  <a:pt x="5080" y="6668"/>
                </a:cubicBezTo>
                <a:cubicBezTo>
                  <a:pt x="5135" y="6640"/>
                  <a:pt x="5181" y="6624"/>
                  <a:pt x="5239" y="6604"/>
                </a:cubicBezTo>
                <a:cubicBezTo>
                  <a:pt x="5321" y="6575"/>
                  <a:pt x="5342" y="6575"/>
                  <a:pt x="5429" y="6572"/>
                </a:cubicBezTo>
                <a:cubicBezTo>
                  <a:pt x="5821" y="6557"/>
                  <a:pt x="6224" y="6575"/>
                  <a:pt x="6604" y="6604"/>
                </a:cubicBezTo>
                <a:cubicBezTo>
                  <a:pt x="6792" y="6619"/>
                  <a:pt x="6996" y="6624"/>
                  <a:pt x="7176" y="6636"/>
                </a:cubicBezTo>
                <a:cubicBezTo>
                  <a:pt x="7272" y="6643"/>
                  <a:pt x="7374" y="6661"/>
                  <a:pt x="7461" y="6668"/>
                </a:cubicBezTo>
                <a:cubicBezTo>
                  <a:pt x="7558" y="6675"/>
                  <a:pt x="7657" y="6690"/>
                  <a:pt x="7747" y="6699"/>
                </a:cubicBezTo>
                <a:cubicBezTo>
                  <a:pt x="7861" y="6710"/>
                  <a:pt x="7981" y="6699"/>
                  <a:pt x="8096" y="6699"/>
                </a:cubicBezTo>
                <a:cubicBezTo>
                  <a:pt x="8096" y="6599"/>
                  <a:pt x="8120" y="6496"/>
                  <a:pt x="8128" y="6414"/>
                </a:cubicBezTo>
                <a:cubicBezTo>
                  <a:pt x="8137" y="6316"/>
                  <a:pt x="8151" y="6225"/>
                  <a:pt x="8160" y="6128"/>
                </a:cubicBezTo>
                <a:cubicBezTo>
                  <a:pt x="8171" y="6007"/>
                  <a:pt x="8188" y="5901"/>
                  <a:pt x="8192" y="5778"/>
                </a:cubicBezTo>
                <a:cubicBezTo>
                  <a:pt x="8197" y="5643"/>
                  <a:pt x="8174" y="5521"/>
                  <a:pt x="8160" y="5398"/>
                </a:cubicBezTo>
                <a:cubicBezTo>
                  <a:pt x="8149" y="5302"/>
                  <a:pt x="8136" y="5231"/>
                  <a:pt x="8128" y="5144"/>
                </a:cubicBezTo>
                <a:cubicBezTo>
                  <a:pt x="8128" y="5080"/>
                  <a:pt x="8128" y="5059"/>
                  <a:pt x="8128" y="5016"/>
                </a:cubicBezTo>
                <a:cubicBezTo>
                  <a:pt x="8114" y="5028"/>
                  <a:pt x="8073" y="5099"/>
                  <a:pt x="8033" y="5112"/>
                </a:cubicBezTo>
                <a:cubicBezTo>
                  <a:pt x="8004" y="5121"/>
                  <a:pt x="7897" y="5142"/>
                  <a:pt x="7874" y="5144"/>
                </a:cubicBezTo>
                <a:cubicBezTo>
                  <a:pt x="7675" y="5165"/>
                  <a:pt x="7468" y="5155"/>
                  <a:pt x="7271" y="5175"/>
                </a:cubicBezTo>
                <a:cubicBezTo>
                  <a:pt x="7049" y="5197"/>
                  <a:pt x="6822" y="5182"/>
                  <a:pt x="6604" y="5207"/>
                </a:cubicBezTo>
                <a:cubicBezTo>
                  <a:pt x="6458" y="5223"/>
                  <a:pt x="6306" y="5224"/>
                  <a:pt x="6160" y="5239"/>
                </a:cubicBezTo>
                <a:cubicBezTo>
                  <a:pt x="5970" y="5258"/>
                  <a:pt x="5663" y="5282"/>
                  <a:pt x="5493" y="5270"/>
                </a:cubicBezTo>
                <a:cubicBezTo>
                  <a:pt x="5466" y="5268"/>
                  <a:pt x="5402" y="5244"/>
                  <a:pt x="5366" y="5239"/>
                </a:cubicBezTo>
              </a:path>
              <a:path w="12574" h="4859">
                <a:moveTo>
                  <a:pt x="6604" y="3683"/>
                </a:moveTo>
                <a:cubicBezTo>
                  <a:pt x="6604" y="3769"/>
                  <a:pt x="6622" y="3834"/>
                  <a:pt x="6636" y="3905"/>
                </a:cubicBezTo>
                <a:cubicBezTo>
                  <a:pt x="6667" y="4057"/>
                  <a:pt x="6628" y="4240"/>
                  <a:pt x="6604" y="4382"/>
                </a:cubicBezTo>
                <a:cubicBezTo>
                  <a:pt x="6584" y="4503"/>
                  <a:pt x="6602" y="4614"/>
                  <a:pt x="6572" y="4731"/>
                </a:cubicBezTo>
                <a:cubicBezTo>
                  <a:pt x="6560" y="4778"/>
                  <a:pt x="6572" y="4842"/>
                  <a:pt x="6572" y="4890"/>
                </a:cubicBezTo>
                <a:cubicBezTo>
                  <a:pt x="6644" y="4890"/>
                  <a:pt x="6615" y="4865"/>
                  <a:pt x="6668" y="4858"/>
                </a:cubicBezTo>
                <a:cubicBezTo>
                  <a:pt x="6732" y="4850"/>
                  <a:pt x="6749" y="4826"/>
                  <a:pt x="6826" y="4826"/>
                </a:cubicBezTo>
                <a:cubicBezTo>
                  <a:pt x="6974" y="4826"/>
                  <a:pt x="7123" y="4826"/>
                  <a:pt x="7271" y="4826"/>
                </a:cubicBezTo>
                <a:cubicBezTo>
                  <a:pt x="7271" y="4690"/>
                  <a:pt x="7280" y="4572"/>
                  <a:pt x="7302" y="4445"/>
                </a:cubicBezTo>
                <a:cubicBezTo>
                  <a:pt x="7316" y="4362"/>
                  <a:pt x="7320" y="4271"/>
                  <a:pt x="7334" y="4191"/>
                </a:cubicBezTo>
                <a:cubicBezTo>
                  <a:pt x="7348" y="4109"/>
                  <a:pt x="7362" y="4018"/>
                  <a:pt x="7366" y="3937"/>
                </a:cubicBezTo>
                <a:cubicBezTo>
                  <a:pt x="7370" y="3839"/>
                  <a:pt x="7380" y="3850"/>
                  <a:pt x="7398" y="3778"/>
                </a:cubicBezTo>
                <a:cubicBezTo>
                  <a:pt x="7318" y="3751"/>
                  <a:pt x="7414" y="3768"/>
                  <a:pt x="7334" y="3778"/>
                </a:cubicBezTo>
                <a:cubicBezTo>
                  <a:pt x="7098" y="3807"/>
                  <a:pt x="6842" y="3778"/>
                  <a:pt x="6604" y="3778"/>
                </a:cubicBezTo>
              </a:path>
              <a:path w="12574" h="4859">
                <a:moveTo>
                  <a:pt x="8318" y="5906"/>
                </a:moveTo>
                <a:cubicBezTo>
                  <a:pt x="9044" y="5906"/>
                  <a:pt x="9762" y="5938"/>
                  <a:pt x="10478" y="5969"/>
                </a:cubicBezTo>
                <a:cubicBezTo>
                  <a:pt x="10657" y="5977"/>
                  <a:pt x="10842" y="5994"/>
                  <a:pt x="11017" y="6001"/>
                </a:cubicBezTo>
                <a:cubicBezTo>
                  <a:pt x="11211" y="6008"/>
                  <a:pt x="11397" y="6015"/>
                  <a:pt x="11589" y="6032"/>
                </a:cubicBezTo>
                <a:cubicBezTo>
                  <a:pt x="11768" y="6048"/>
                  <a:pt x="11953" y="6076"/>
                  <a:pt x="12128" y="6128"/>
                </a:cubicBezTo>
                <a:cubicBezTo>
                  <a:pt x="12359" y="6196"/>
                  <a:pt x="12580" y="6273"/>
                  <a:pt x="12795" y="6382"/>
                </a:cubicBezTo>
                <a:cubicBezTo>
                  <a:pt x="12995" y="6483"/>
                  <a:pt x="13183" y="6604"/>
                  <a:pt x="13367" y="6731"/>
                </a:cubicBezTo>
                <a:cubicBezTo>
                  <a:pt x="13521" y="6837"/>
                  <a:pt x="13646" y="6951"/>
                  <a:pt x="13780" y="7080"/>
                </a:cubicBezTo>
                <a:cubicBezTo>
                  <a:pt x="13970" y="7263"/>
                  <a:pt x="14149" y="7453"/>
                  <a:pt x="14319" y="7652"/>
                </a:cubicBezTo>
                <a:cubicBezTo>
                  <a:pt x="14425" y="7777"/>
                  <a:pt x="14527" y="7913"/>
                  <a:pt x="14637" y="8033"/>
                </a:cubicBezTo>
                <a:cubicBezTo>
                  <a:pt x="14735" y="8139"/>
                  <a:pt x="14844" y="8227"/>
                  <a:pt x="14954" y="8318"/>
                </a:cubicBezTo>
                <a:cubicBezTo>
                  <a:pt x="15068" y="8412"/>
                  <a:pt x="15187" y="8511"/>
                  <a:pt x="15335" y="8541"/>
                </a:cubicBezTo>
                <a:cubicBezTo>
                  <a:pt x="15451" y="8564"/>
                  <a:pt x="15596" y="8541"/>
                  <a:pt x="15716" y="8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Ink 5"/>
          <p:cNvSpPr/>
          <p:nvPr/>
        </p:nvSpPr>
        <p:spPr>
          <a:xfrm>
            <a:off x="5554800" y="1200240"/>
            <a:ext cx="1109520" cy="1395360"/>
          </a:xfrm>
          <a:custGeom>
            <a:avLst/>
            <a:gdLst/>
            <a:ahLst/>
            <a:rect l="l" t="t" r="r" b="b"/>
            <a:pathLst>
              <a:path w="3081" h="3874">
                <a:moveTo>
                  <a:pt x="16256" y="3334"/>
                </a:moveTo>
                <a:cubicBezTo>
                  <a:pt x="16197" y="3341"/>
                  <a:pt x="16175" y="3320"/>
                  <a:pt x="16129" y="3366"/>
                </a:cubicBezTo>
                <a:cubicBezTo>
                  <a:pt x="16069" y="3426"/>
                  <a:pt x="15992" y="3496"/>
                  <a:pt x="15938" y="3556"/>
                </a:cubicBezTo>
                <a:cubicBezTo>
                  <a:pt x="15848" y="3656"/>
                  <a:pt x="15773" y="3788"/>
                  <a:pt x="15716" y="3905"/>
                </a:cubicBezTo>
                <a:cubicBezTo>
                  <a:pt x="15626" y="4092"/>
                  <a:pt x="15573" y="4243"/>
                  <a:pt x="15526" y="4445"/>
                </a:cubicBezTo>
                <a:cubicBezTo>
                  <a:pt x="15486" y="4620"/>
                  <a:pt x="15422" y="4837"/>
                  <a:pt x="15430" y="5016"/>
                </a:cubicBezTo>
                <a:cubicBezTo>
                  <a:pt x="15438" y="5187"/>
                  <a:pt x="15464" y="5388"/>
                  <a:pt x="15494" y="5556"/>
                </a:cubicBezTo>
                <a:cubicBezTo>
                  <a:pt x="15522" y="5711"/>
                  <a:pt x="15591" y="5858"/>
                  <a:pt x="15653" y="6001"/>
                </a:cubicBezTo>
                <a:cubicBezTo>
                  <a:pt x="15684" y="6064"/>
                  <a:pt x="15695" y="6086"/>
                  <a:pt x="15716" y="6128"/>
                </a:cubicBezTo>
              </a:path>
              <a:path w="3081" h="3874">
                <a:moveTo>
                  <a:pt x="18320" y="5715"/>
                </a:moveTo>
                <a:cubicBezTo>
                  <a:pt x="18349" y="5629"/>
                  <a:pt x="18394" y="5699"/>
                  <a:pt x="18415" y="5747"/>
                </a:cubicBezTo>
                <a:cubicBezTo>
                  <a:pt x="18466" y="5863"/>
                  <a:pt x="18499" y="5967"/>
                  <a:pt x="18510" y="6096"/>
                </a:cubicBezTo>
                <a:cubicBezTo>
                  <a:pt x="18526" y="6275"/>
                  <a:pt x="18490" y="6432"/>
                  <a:pt x="18447" y="6604"/>
                </a:cubicBezTo>
                <a:cubicBezTo>
                  <a:pt x="18402" y="6784"/>
                  <a:pt x="18311" y="6920"/>
                  <a:pt x="18224" y="7080"/>
                </a:cubicBezTo>
                <a:cubicBezTo>
                  <a:pt x="18203" y="7122"/>
                  <a:pt x="18182" y="7165"/>
                  <a:pt x="18161" y="7207"/>
                </a:cubicBezTo>
              </a:path>
              <a:path w="3081" h="3874">
                <a:moveTo>
                  <a:pt x="16256" y="3969"/>
                </a:moveTo>
                <a:cubicBezTo>
                  <a:pt x="16315" y="4124"/>
                  <a:pt x="16306" y="4311"/>
                  <a:pt x="16320" y="4477"/>
                </a:cubicBezTo>
                <a:cubicBezTo>
                  <a:pt x="16335" y="4652"/>
                  <a:pt x="16301" y="4814"/>
                  <a:pt x="16288" y="4985"/>
                </a:cubicBezTo>
                <a:cubicBezTo>
                  <a:pt x="16273" y="5181"/>
                  <a:pt x="16303" y="5370"/>
                  <a:pt x="16256" y="5556"/>
                </a:cubicBezTo>
                <a:cubicBezTo>
                  <a:pt x="16256" y="5588"/>
                  <a:pt x="16256" y="5599"/>
                  <a:pt x="16256" y="5556"/>
                </a:cubicBezTo>
              </a:path>
              <a:path w="3081" h="3874">
                <a:moveTo>
                  <a:pt x="16669" y="5366"/>
                </a:moveTo>
                <a:cubicBezTo>
                  <a:pt x="16626" y="5431"/>
                  <a:pt x="16658" y="5399"/>
                  <a:pt x="16669" y="5366"/>
                </a:cubicBezTo>
              </a:path>
              <a:path w="3081" h="3874">
                <a:moveTo>
                  <a:pt x="16891" y="4604"/>
                </a:moveTo>
                <a:cubicBezTo>
                  <a:pt x="16906" y="4530"/>
                  <a:pt x="16948" y="4417"/>
                  <a:pt x="16986" y="4350"/>
                </a:cubicBezTo>
                <a:cubicBezTo>
                  <a:pt x="17016" y="4296"/>
                  <a:pt x="17148" y="4235"/>
                  <a:pt x="17208" y="4254"/>
                </a:cubicBezTo>
                <a:cubicBezTo>
                  <a:pt x="17270" y="4273"/>
                  <a:pt x="17270" y="4489"/>
                  <a:pt x="17272" y="4540"/>
                </a:cubicBezTo>
                <a:cubicBezTo>
                  <a:pt x="17278" y="4694"/>
                  <a:pt x="17241" y="4866"/>
                  <a:pt x="17208" y="5016"/>
                </a:cubicBezTo>
                <a:cubicBezTo>
                  <a:pt x="17179" y="5148"/>
                  <a:pt x="17150" y="5303"/>
                  <a:pt x="17113" y="5429"/>
                </a:cubicBezTo>
                <a:cubicBezTo>
                  <a:pt x="17104" y="5458"/>
                  <a:pt x="17061" y="5575"/>
                  <a:pt x="17082" y="5524"/>
                </a:cubicBezTo>
                <a:cubicBezTo>
                  <a:pt x="17101" y="5479"/>
                  <a:pt x="17118" y="5493"/>
                  <a:pt x="17177" y="5493"/>
                </a:cubicBezTo>
                <a:cubicBezTo>
                  <a:pt x="17222" y="5493"/>
                  <a:pt x="17270" y="5502"/>
                  <a:pt x="17304" y="5524"/>
                </a:cubicBezTo>
                <a:cubicBezTo>
                  <a:pt x="17372" y="5569"/>
                  <a:pt x="17355" y="5613"/>
                  <a:pt x="17431" y="5556"/>
                </a:cubicBezTo>
              </a:path>
              <a:path w="3081" h="3874">
                <a:moveTo>
                  <a:pt x="17875" y="4350"/>
                </a:moveTo>
                <a:cubicBezTo>
                  <a:pt x="17911" y="4350"/>
                  <a:pt x="17925" y="4347"/>
                  <a:pt x="17939" y="4318"/>
                </a:cubicBezTo>
                <a:cubicBezTo>
                  <a:pt x="17895" y="4329"/>
                  <a:pt x="17818" y="4359"/>
                  <a:pt x="17780" y="4382"/>
                </a:cubicBezTo>
                <a:cubicBezTo>
                  <a:pt x="17727" y="4413"/>
                  <a:pt x="17657" y="4438"/>
                  <a:pt x="17590" y="4445"/>
                </a:cubicBezTo>
                <a:cubicBezTo>
                  <a:pt x="17559" y="4448"/>
                  <a:pt x="17525" y="4445"/>
                  <a:pt x="17494" y="4445"/>
                </a:cubicBezTo>
                <a:cubicBezTo>
                  <a:pt x="17516" y="4534"/>
                  <a:pt x="17510" y="4538"/>
                  <a:pt x="17494" y="4636"/>
                </a:cubicBezTo>
                <a:cubicBezTo>
                  <a:pt x="17477" y="4736"/>
                  <a:pt x="17494" y="4851"/>
                  <a:pt x="17494" y="4953"/>
                </a:cubicBezTo>
                <a:cubicBezTo>
                  <a:pt x="17554" y="4894"/>
                  <a:pt x="17545" y="4863"/>
                  <a:pt x="17590" y="4794"/>
                </a:cubicBezTo>
                <a:cubicBezTo>
                  <a:pt x="17641" y="4715"/>
                  <a:pt x="17654" y="4675"/>
                  <a:pt x="17748" y="4667"/>
                </a:cubicBezTo>
                <a:cubicBezTo>
                  <a:pt x="17811" y="4662"/>
                  <a:pt x="17855" y="4744"/>
                  <a:pt x="17875" y="4794"/>
                </a:cubicBezTo>
                <a:cubicBezTo>
                  <a:pt x="17915" y="4891"/>
                  <a:pt x="17929" y="5039"/>
                  <a:pt x="17907" y="5144"/>
                </a:cubicBezTo>
                <a:cubicBezTo>
                  <a:pt x="17880" y="5271"/>
                  <a:pt x="17874" y="5320"/>
                  <a:pt x="17780" y="5398"/>
                </a:cubicBezTo>
                <a:cubicBezTo>
                  <a:pt x="17759" y="5415"/>
                  <a:pt x="17654" y="5503"/>
                  <a:pt x="17621" y="5461"/>
                </a:cubicBezTo>
                <a:cubicBezTo>
                  <a:pt x="17621" y="5425"/>
                  <a:pt x="17618" y="5412"/>
                  <a:pt x="17590" y="5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Ink 6"/>
          <p:cNvSpPr/>
          <p:nvPr/>
        </p:nvSpPr>
        <p:spPr>
          <a:xfrm>
            <a:off x="6892920" y="1908000"/>
            <a:ext cx="33480" cy="59040"/>
          </a:xfrm>
          <a:custGeom>
            <a:avLst/>
            <a:gdLst/>
            <a:ahLst/>
            <a:rect l="l" t="t" r="r" b="b"/>
            <a:pathLst>
              <a:path w="96" h="160">
                <a:moveTo>
                  <a:pt x="19145" y="5302"/>
                </a:moveTo>
                <a:cubicBezTo>
                  <a:pt x="19145" y="5355"/>
                  <a:pt x="19145" y="5408"/>
                  <a:pt x="19145" y="5461"/>
                </a:cubicBezTo>
                <a:cubicBezTo>
                  <a:pt x="19202" y="5461"/>
                  <a:pt x="19235" y="5464"/>
                  <a:pt x="19240" y="5398"/>
                </a:cubicBezTo>
                <a:cubicBezTo>
                  <a:pt x="19245" y="5329"/>
                  <a:pt x="19256" y="5318"/>
                  <a:pt x="19209" y="5302"/>
                </a:cubicBezTo>
                <a:cubicBezTo>
                  <a:pt x="19195" y="5358"/>
                  <a:pt x="19177" y="5518"/>
                  <a:pt x="19177" y="5461"/>
                </a:cubicBezTo>
                <a:cubicBezTo>
                  <a:pt x="19177" y="5450"/>
                  <a:pt x="19177" y="5440"/>
                  <a:pt x="19177" y="54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Ink 7"/>
          <p:cNvSpPr/>
          <p:nvPr/>
        </p:nvSpPr>
        <p:spPr>
          <a:xfrm>
            <a:off x="7108920" y="1222200"/>
            <a:ext cx="880920" cy="777960"/>
          </a:xfrm>
          <a:custGeom>
            <a:avLst/>
            <a:gdLst/>
            <a:ahLst/>
            <a:rect l="l" t="t" r="r" b="b"/>
            <a:pathLst>
              <a:path w="2446" h="2160">
                <a:moveTo>
                  <a:pt x="21304" y="3397"/>
                </a:moveTo>
                <a:cubicBezTo>
                  <a:pt x="21323" y="3484"/>
                  <a:pt x="21332" y="3570"/>
                  <a:pt x="21368" y="3651"/>
                </a:cubicBezTo>
                <a:cubicBezTo>
                  <a:pt x="21411" y="3746"/>
                  <a:pt x="21459" y="3839"/>
                  <a:pt x="21495" y="3937"/>
                </a:cubicBezTo>
                <a:cubicBezTo>
                  <a:pt x="21545" y="4072"/>
                  <a:pt x="21603" y="4239"/>
                  <a:pt x="21622" y="4382"/>
                </a:cubicBezTo>
                <a:cubicBezTo>
                  <a:pt x="21650" y="4589"/>
                  <a:pt x="21640" y="4848"/>
                  <a:pt x="21590" y="5048"/>
                </a:cubicBezTo>
                <a:cubicBezTo>
                  <a:pt x="21559" y="5173"/>
                  <a:pt x="21481" y="5295"/>
                  <a:pt x="21400" y="5398"/>
                </a:cubicBezTo>
                <a:cubicBezTo>
                  <a:pt x="21342" y="5471"/>
                  <a:pt x="21229" y="5504"/>
                  <a:pt x="21146" y="5556"/>
                </a:cubicBezTo>
              </a:path>
              <a:path w="2446" h="2160">
                <a:moveTo>
                  <a:pt x="20288" y="4000"/>
                </a:moveTo>
                <a:cubicBezTo>
                  <a:pt x="20299" y="3990"/>
                  <a:pt x="20309" y="3979"/>
                  <a:pt x="20320" y="3969"/>
                </a:cubicBezTo>
              </a:path>
              <a:path w="2446" h="2160">
                <a:moveTo>
                  <a:pt x="20288" y="4000"/>
                </a:moveTo>
                <a:cubicBezTo>
                  <a:pt x="20320" y="4000"/>
                  <a:pt x="20352" y="4000"/>
                  <a:pt x="20384" y="4000"/>
                </a:cubicBezTo>
              </a:path>
              <a:path w="2446" h="2160">
                <a:moveTo>
                  <a:pt x="20384" y="4000"/>
                </a:moveTo>
                <a:cubicBezTo>
                  <a:pt x="20324" y="4015"/>
                  <a:pt x="20280" y="4063"/>
                  <a:pt x="20225" y="4096"/>
                </a:cubicBezTo>
                <a:cubicBezTo>
                  <a:pt x="20157" y="4137"/>
                  <a:pt x="20047" y="4172"/>
                  <a:pt x="19971" y="4191"/>
                </a:cubicBezTo>
                <a:cubicBezTo>
                  <a:pt x="19926" y="4202"/>
                  <a:pt x="19886" y="4218"/>
                  <a:pt x="19844" y="4223"/>
                </a:cubicBezTo>
                <a:cubicBezTo>
                  <a:pt x="19789" y="4229"/>
                  <a:pt x="19769" y="4224"/>
                  <a:pt x="19748" y="4286"/>
                </a:cubicBezTo>
                <a:cubicBezTo>
                  <a:pt x="19718" y="4376"/>
                  <a:pt x="19758" y="4499"/>
                  <a:pt x="19780" y="4572"/>
                </a:cubicBezTo>
                <a:cubicBezTo>
                  <a:pt x="19798" y="4633"/>
                  <a:pt x="19770" y="4643"/>
                  <a:pt x="19812" y="4699"/>
                </a:cubicBezTo>
                <a:cubicBezTo>
                  <a:pt x="19860" y="4675"/>
                  <a:pt x="19892" y="4619"/>
                  <a:pt x="19939" y="4572"/>
                </a:cubicBezTo>
                <a:cubicBezTo>
                  <a:pt x="19973" y="4537"/>
                  <a:pt x="20047" y="4522"/>
                  <a:pt x="20098" y="4540"/>
                </a:cubicBezTo>
                <a:cubicBezTo>
                  <a:pt x="20180" y="4570"/>
                  <a:pt x="20217" y="4627"/>
                  <a:pt x="20256" y="4699"/>
                </a:cubicBezTo>
                <a:cubicBezTo>
                  <a:pt x="20297" y="4776"/>
                  <a:pt x="20341" y="4870"/>
                  <a:pt x="20352" y="4953"/>
                </a:cubicBezTo>
                <a:cubicBezTo>
                  <a:pt x="20365" y="5050"/>
                  <a:pt x="20359" y="5153"/>
                  <a:pt x="20320" y="5239"/>
                </a:cubicBezTo>
                <a:cubicBezTo>
                  <a:pt x="20295" y="5294"/>
                  <a:pt x="20246" y="5364"/>
                  <a:pt x="20193" y="5398"/>
                </a:cubicBezTo>
                <a:cubicBezTo>
                  <a:pt x="20123" y="5443"/>
                  <a:pt x="20050" y="5429"/>
                  <a:pt x="19971" y="5429"/>
                </a:cubicBezTo>
                <a:cubicBezTo>
                  <a:pt x="19888" y="5429"/>
                  <a:pt x="19834" y="5452"/>
                  <a:pt x="19812" y="5366"/>
                </a:cubicBezTo>
              </a:path>
              <a:path w="2446" h="2160">
                <a:moveTo>
                  <a:pt x="21876" y="4159"/>
                </a:moveTo>
                <a:cubicBezTo>
                  <a:pt x="21806" y="4143"/>
                  <a:pt x="21782" y="4221"/>
                  <a:pt x="21812" y="4318"/>
                </a:cubicBezTo>
                <a:cubicBezTo>
                  <a:pt x="21824" y="4358"/>
                  <a:pt x="21869" y="4489"/>
                  <a:pt x="21908" y="4508"/>
                </a:cubicBezTo>
                <a:cubicBezTo>
                  <a:pt x="21960" y="4534"/>
                  <a:pt x="22001" y="4491"/>
                  <a:pt x="22003" y="4445"/>
                </a:cubicBezTo>
                <a:cubicBezTo>
                  <a:pt x="22006" y="4392"/>
                  <a:pt x="21999" y="4253"/>
                  <a:pt x="21939" y="4223"/>
                </a:cubicBezTo>
                <a:cubicBezTo>
                  <a:pt x="21910" y="4208"/>
                  <a:pt x="21855" y="4228"/>
                  <a:pt x="21908" y="4254"/>
                </a:cubicBezTo>
              </a:path>
              <a:path w="2446" h="2160">
                <a:moveTo>
                  <a:pt x="22003" y="4064"/>
                </a:moveTo>
                <a:cubicBezTo>
                  <a:pt x="22050" y="4097"/>
                  <a:pt x="22057" y="4213"/>
                  <a:pt x="22098" y="4286"/>
                </a:cubicBezTo>
                <a:cubicBezTo>
                  <a:pt x="22133" y="4347"/>
                  <a:pt x="22171" y="4341"/>
                  <a:pt x="22130" y="4382"/>
                </a:cubicBezTo>
                <a:cubicBezTo>
                  <a:pt x="22130" y="4297"/>
                  <a:pt x="22122" y="4218"/>
                  <a:pt x="22130" y="4159"/>
                </a:cubicBezTo>
                <a:cubicBezTo>
                  <a:pt x="22140" y="4084"/>
                  <a:pt x="22146" y="4060"/>
                  <a:pt x="22193" y="40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Ink 8"/>
          <p:cNvSpPr/>
          <p:nvPr/>
        </p:nvSpPr>
        <p:spPr>
          <a:xfrm>
            <a:off x="8194680" y="846000"/>
            <a:ext cx="777960" cy="765360"/>
          </a:xfrm>
          <a:custGeom>
            <a:avLst/>
            <a:gdLst/>
            <a:ahLst/>
            <a:rect l="l" t="t" r="r" b="b"/>
            <a:pathLst>
              <a:path w="2160" h="2128">
                <a:moveTo>
                  <a:pt x="23178" y="2730"/>
                </a:moveTo>
                <a:cubicBezTo>
                  <a:pt x="23108" y="2800"/>
                  <a:pt x="23045" y="2874"/>
                  <a:pt x="22987" y="2953"/>
                </a:cubicBezTo>
                <a:cubicBezTo>
                  <a:pt x="22901" y="3070"/>
                  <a:pt x="22870" y="3198"/>
                  <a:pt x="22828" y="3334"/>
                </a:cubicBezTo>
                <a:cubicBezTo>
                  <a:pt x="22787" y="3465"/>
                  <a:pt x="22771" y="3608"/>
                  <a:pt x="22765" y="3746"/>
                </a:cubicBezTo>
                <a:cubicBezTo>
                  <a:pt x="22760" y="3857"/>
                  <a:pt x="22797" y="3900"/>
                  <a:pt x="22828" y="4000"/>
                </a:cubicBezTo>
                <a:cubicBezTo>
                  <a:pt x="22853" y="4082"/>
                  <a:pt x="22865" y="4089"/>
                  <a:pt x="22924" y="4128"/>
                </a:cubicBezTo>
                <a:cubicBezTo>
                  <a:pt x="22944" y="4141"/>
                  <a:pt x="23010" y="4203"/>
                  <a:pt x="23019" y="4191"/>
                </a:cubicBezTo>
                <a:cubicBezTo>
                  <a:pt x="23019" y="4180"/>
                  <a:pt x="23019" y="4170"/>
                  <a:pt x="23019" y="4159"/>
                </a:cubicBezTo>
              </a:path>
              <a:path w="2160" h="2128">
                <a:moveTo>
                  <a:pt x="23527" y="2921"/>
                </a:moveTo>
                <a:cubicBezTo>
                  <a:pt x="23468" y="2921"/>
                  <a:pt x="23452" y="2947"/>
                  <a:pt x="23400" y="2953"/>
                </a:cubicBezTo>
                <a:cubicBezTo>
                  <a:pt x="23355" y="2958"/>
                  <a:pt x="23307" y="2977"/>
                  <a:pt x="23304" y="3016"/>
                </a:cubicBezTo>
                <a:cubicBezTo>
                  <a:pt x="23298" y="3097"/>
                  <a:pt x="23289" y="3177"/>
                  <a:pt x="23336" y="3238"/>
                </a:cubicBezTo>
                <a:cubicBezTo>
                  <a:pt x="23358" y="3200"/>
                  <a:pt x="23395" y="3105"/>
                  <a:pt x="23463" y="3143"/>
                </a:cubicBezTo>
                <a:cubicBezTo>
                  <a:pt x="23510" y="3170"/>
                  <a:pt x="23524" y="3256"/>
                  <a:pt x="23527" y="3302"/>
                </a:cubicBezTo>
                <a:cubicBezTo>
                  <a:pt x="23531" y="3368"/>
                  <a:pt x="23500" y="3462"/>
                  <a:pt x="23432" y="3492"/>
                </a:cubicBezTo>
                <a:cubicBezTo>
                  <a:pt x="23411" y="3501"/>
                  <a:pt x="23359" y="3492"/>
                  <a:pt x="23336" y="3492"/>
                </a:cubicBezTo>
              </a:path>
              <a:path w="2160" h="2128">
                <a:moveTo>
                  <a:pt x="23241" y="3715"/>
                </a:moveTo>
                <a:cubicBezTo>
                  <a:pt x="23230" y="3715"/>
                  <a:pt x="23220" y="3715"/>
                  <a:pt x="23209" y="3715"/>
                </a:cubicBezTo>
                <a:cubicBezTo>
                  <a:pt x="23252" y="3704"/>
                  <a:pt x="23329" y="3670"/>
                  <a:pt x="23368" y="3651"/>
                </a:cubicBezTo>
                <a:cubicBezTo>
                  <a:pt x="23432" y="3620"/>
                  <a:pt x="23485" y="3574"/>
                  <a:pt x="23558" y="3556"/>
                </a:cubicBezTo>
                <a:cubicBezTo>
                  <a:pt x="23613" y="3542"/>
                  <a:pt x="23658" y="3524"/>
                  <a:pt x="23717" y="3524"/>
                </a:cubicBezTo>
              </a:path>
              <a:path w="2160" h="2128">
                <a:moveTo>
                  <a:pt x="23273" y="3874"/>
                </a:moveTo>
                <a:cubicBezTo>
                  <a:pt x="23348" y="3899"/>
                  <a:pt x="23283" y="3968"/>
                  <a:pt x="23273" y="4032"/>
                </a:cubicBezTo>
                <a:cubicBezTo>
                  <a:pt x="23262" y="4099"/>
                  <a:pt x="23270" y="4113"/>
                  <a:pt x="23304" y="4159"/>
                </a:cubicBezTo>
                <a:cubicBezTo>
                  <a:pt x="23353" y="4124"/>
                  <a:pt x="23371" y="4128"/>
                  <a:pt x="23432" y="4128"/>
                </a:cubicBezTo>
                <a:cubicBezTo>
                  <a:pt x="23492" y="4128"/>
                  <a:pt x="23542" y="4147"/>
                  <a:pt x="23558" y="4096"/>
                </a:cubicBezTo>
              </a:path>
              <a:path w="2160" h="2128">
                <a:moveTo>
                  <a:pt x="23495" y="3715"/>
                </a:moveTo>
                <a:cubicBezTo>
                  <a:pt x="23495" y="3797"/>
                  <a:pt x="23517" y="3862"/>
                  <a:pt x="23527" y="3937"/>
                </a:cubicBezTo>
                <a:cubicBezTo>
                  <a:pt x="23541" y="4043"/>
                  <a:pt x="23495" y="4145"/>
                  <a:pt x="23495" y="4254"/>
                </a:cubicBezTo>
                <a:cubicBezTo>
                  <a:pt x="23495" y="4328"/>
                  <a:pt x="23495" y="4403"/>
                  <a:pt x="23495" y="4477"/>
                </a:cubicBezTo>
              </a:path>
              <a:path w="2160" h="2128">
                <a:moveTo>
                  <a:pt x="23971" y="4128"/>
                </a:moveTo>
                <a:cubicBezTo>
                  <a:pt x="23971" y="4244"/>
                  <a:pt x="23971" y="4361"/>
                  <a:pt x="23971" y="4477"/>
                </a:cubicBezTo>
              </a:path>
              <a:path w="2160" h="2128">
                <a:moveTo>
                  <a:pt x="24352" y="2635"/>
                </a:moveTo>
                <a:cubicBezTo>
                  <a:pt x="24352" y="2782"/>
                  <a:pt x="24342" y="2911"/>
                  <a:pt x="24320" y="3048"/>
                </a:cubicBezTo>
                <a:cubicBezTo>
                  <a:pt x="24307" y="3128"/>
                  <a:pt x="24335" y="3173"/>
                  <a:pt x="24352" y="3238"/>
                </a:cubicBezTo>
              </a:path>
              <a:path w="2160" h="2128">
                <a:moveTo>
                  <a:pt x="24194" y="3366"/>
                </a:moveTo>
                <a:cubicBezTo>
                  <a:pt x="24204" y="3366"/>
                  <a:pt x="24215" y="3366"/>
                  <a:pt x="24225" y="3366"/>
                </a:cubicBezTo>
                <a:cubicBezTo>
                  <a:pt x="24240" y="3343"/>
                  <a:pt x="24329" y="3288"/>
                  <a:pt x="24384" y="3270"/>
                </a:cubicBezTo>
                <a:cubicBezTo>
                  <a:pt x="24448" y="3249"/>
                  <a:pt x="24504" y="3238"/>
                  <a:pt x="24574" y="3238"/>
                </a:cubicBezTo>
                <a:cubicBezTo>
                  <a:pt x="24585" y="3238"/>
                  <a:pt x="24595" y="3238"/>
                  <a:pt x="24606" y="3238"/>
                </a:cubicBezTo>
              </a:path>
              <a:path w="2160" h="2128">
                <a:moveTo>
                  <a:pt x="24257" y="3620"/>
                </a:moveTo>
                <a:cubicBezTo>
                  <a:pt x="24303" y="3620"/>
                  <a:pt x="24350" y="3611"/>
                  <a:pt x="24384" y="3588"/>
                </a:cubicBezTo>
                <a:cubicBezTo>
                  <a:pt x="24395" y="3577"/>
                  <a:pt x="24405" y="3567"/>
                  <a:pt x="24416" y="3556"/>
                </a:cubicBezTo>
                <a:cubicBezTo>
                  <a:pt x="24459" y="3589"/>
                  <a:pt x="24507" y="3589"/>
                  <a:pt x="24511" y="3651"/>
                </a:cubicBezTo>
                <a:cubicBezTo>
                  <a:pt x="24516" y="3721"/>
                  <a:pt x="24502" y="3754"/>
                  <a:pt x="24479" y="3810"/>
                </a:cubicBezTo>
                <a:cubicBezTo>
                  <a:pt x="24445" y="3892"/>
                  <a:pt x="24428" y="3884"/>
                  <a:pt x="24416" y="3969"/>
                </a:cubicBezTo>
                <a:cubicBezTo>
                  <a:pt x="24488" y="3969"/>
                  <a:pt x="24516" y="3957"/>
                  <a:pt x="24574" y="3937"/>
                </a:cubicBezTo>
                <a:cubicBezTo>
                  <a:pt x="24644" y="3913"/>
                  <a:pt x="24626" y="3923"/>
                  <a:pt x="24638" y="3842"/>
                </a:cubicBezTo>
              </a:path>
              <a:path w="2160" h="2128">
                <a:moveTo>
                  <a:pt x="24416" y="2350"/>
                </a:moveTo>
                <a:cubicBezTo>
                  <a:pt x="24510" y="2396"/>
                  <a:pt x="24564" y="2434"/>
                  <a:pt x="24638" y="2508"/>
                </a:cubicBezTo>
                <a:cubicBezTo>
                  <a:pt x="24729" y="2599"/>
                  <a:pt x="24784" y="2706"/>
                  <a:pt x="24828" y="2826"/>
                </a:cubicBezTo>
                <a:cubicBezTo>
                  <a:pt x="24883" y="2976"/>
                  <a:pt x="24920" y="3110"/>
                  <a:pt x="24924" y="3270"/>
                </a:cubicBezTo>
                <a:cubicBezTo>
                  <a:pt x="24929" y="3436"/>
                  <a:pt x="24909" y="3587"/>
                  <a:pt x="24892" y="3746"/>
                </a:cubicBezTo>
                <a:cubicBezTo>
                  <a:pt x="24881" y="3849"/>
                  <a:pt x="24883" y="4003"/>
                  <a:pt x="24828" y="4096"/>
                </a:cubicBezTo>
                <a:cubicBezTo>
                  <a:pt x="24759" y="4165"/>
                  <a:pt x="24734" y="4193"/>
                  <a:pt x="24702" y="42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Ink 9"/>
          <p:cNvSpPr/>
          <p:nvPr/>
        </p:nvSpPr>
        <p:spPr>
          <a:xfrm>
            <a:off x="925560" y="2629080"/>
            <a:ext cx="3898800" cy="857160"/>
          </a:xfrm>
          <a:custGeom>
            <a:avLst/>
            <a:gdLst/>
            <a:ahLst/>
            <a:rect l="l" t="t" r="r" b="b"/>
            <a:pathLst>
              <a:path w="10827" h="2383">
                <a:moveTo>
                  <a:pt x="2572" y="7874"/>
                </a:moveTo>
                <a:lnTo>
                  <a:pt x="2572" y="7906"/>
                </a:lnTo>
                <a:lnTo>
                  <a:pt x="2572" y="7874"/>
                </a:lnTo>
                <a:lnTo>
                  <a:pt x="2572" y="7906"/>
                </a:lnTo>
                <a:lnTo>
                  <a:pt x="2572" y="7874"/>
                </a:lnTo>
                <a:lnTo>
                  <a:pt x="2604" y="7874"/>
                </a:lnTo>
                <a:lnTo>
                  <a:pt x="2604" y="7842"/>
                </a:lnTo>
                <a:lnTo>
                  <a:pt x="2635" y="7810"/>
                </a:lnTo>
                <a:lnTo>
                  <a:pt x="2667" y="7779"/>
                </a:lnTo>
                <a:lnTo>
                  <a:pt x="2699" y="7747"/>
                </a:lnTo>
                <a:lnTo>
                  <a:pt x="2730" y="7715"/>
                </a:lnTo>
                <a:lnTo>
                  <a:pt x="2762" y="7684"/>
                </a:lnTo>
                <a:lnTo>
                  <a:pt x="2794" y="7684"/>
                </a:lnTo>
                <a:lnTo>
                  <a:pt x="2826" y="7652"/>
                </a:lnTo>
                <a:lnTo>
                  <a:pt x="2858" y="7652"/>
                </a:lnTo>
                <a:lnTo>
                  <a:pt x="2889" y="7652"/>
                </a:lnTo>
                <a:lnTo>
                  <a:pt x="2921" y="7652"/>
                </a:lnTo>
                <a:lnTo>
                  <a:pt x="2953" y="7684"/>
                </a:lnTo>
                <a:lnTo>
                  <a:pt x="2984" y="7715"/>
                </a:lnTo>
                <a:lnTo>
                  <a:pt x="2984" y="7747"/>
                </a:lnTo>
                <a:lnTo>
                  <a:pt x="3016" y="7810"/>
                </a:lnTo>
                <a:lnTo>
                  <a:pt x="3016" y="7874"/>
                </a:lnTo>
                <a:lnTo>
                  <a:pt x="3048" y="7938"/>
                </a:lnTo>
                <a:lnTo>
                  <a:pt x="3048" y="8033"/>
                </a:lnTo>
                <a:lnTo>
                  <a:pt x="3016" y="8096"/>
                </a:lnTo>
                <a:lnTo>
                  <a:pt x="3016" y="8192"/>
                </a:lnTo>
                <a:lnTo>
                  <a:pt x="2984" y="8287"/>
                </a:lnTo>
                <a:lnTo>
                  <a:pt x="2953" y="8382"/>
                </a:lnTo>
                <a:lnTo>
                  <a:pt x="2921" y="8446"/>
                </a:lnTo>
                <a:lnTo>
                  <a:pt x="2858" y="8541"/>
                </a:lnTo>
                <a:lnTo>
                  <a:pt x="2826" y="8604"/>
                </a:lnTo>
                <a:lnTo>
                  <a:pt x="2762" y="8668"/>
                </a:lnTo>
                <a:lnTo>
                  <a:pt x="2730" y="8731"/>
                </a:lnTo>
                <a:lnTo>
                  <a:pt x="2699" y="8763"/>
                </a:lnTo>
                <a:lnTo>
                  <a:pt x="2667" y="8826"/>
                </a:lnTo>
                <a:lnTo>
                  <a:pt x="2635" y="8858"/>
                </a:lnTo>
                <a:lnTo>
                  <a:pt x="2604" y="8890"/>
                </a:lnTo>
                <a:lnTo>
                  <a:pt x="2572" y="8890"/>
                </a:lnTo>
                <a:lnTo>
                  <a:pt x="2572" y="8922"/>
                </a:lnTo>
                <a:lnTo>
                  <a:pt x="2604" y="8922"/>
                </a:lnTo>
                <a:lnTo>
                  <a:pt x="2604" y="8890"/>
                </a:lnTo>
                <a:lnTo>
                  <a:pt x="2635" y="8858"/>
                </a:lnTo>
                <a:lnTo>
                  <a:pt x="2667" y="8826"/>
                </a:lnTo>
                <a:lnTo>
                  <a:pt x="2699" y="8826"/>
                </a:lnTo>
                <a:lnTo>
                  <a:pt x="2730" y="8795"/>
                </a:lnTo>
                <a:lnTo>
                  <a:pt x="2762" y="8795"/>
                </a:lnTo>
                <a:lnTo>
                  <a:pt x="2794" y="8795"/>
                </a:lnTo>
                <a:lnTo>
                  <a:pt x="2826" y="8795"/>
                </a:lnTo>
                <a:lnTo>
                  <a:pt x="2858" y="8795"/>
                </a:lnTo>
                <a:lnTo>
                  <a:pt x="2889" y="8826"/>
                </a:lnTo>
                <a:lnTo>
                  <a:pt x="2921" y="8826"/>
                </a:lnTo>
                <a:lnTo>
                  <a:pt x="2953" y="8858"/>
                </a:lnTo>
                <a:lnTo>
                  <a:pt x="2953" y="8890"/>
                </a:lnTo>
                <a:lnTo>
                  <a:pt x="2984" y="8890"/>
                </a:lnTo>
                <a:lnTo>
                  <a:pt x="3016" y="8922"/>
                </a:lnTo>
                <a:lnTo>
                  <a:pt x="3048" y="8954"/>
                </a:lnTo>
                <a:lnTo>
                  <a:pt x="3080" y="8985"/>
                </a:lnTo>
                <a:lnTo>
                  <a:pt x="3143" y="8985"/>
                </a:lnTo>
                <a:lnTo>
                  <a:pt x="3175" y="9017"/>
                </a:lnTo>
                <a:lnTo>
                  <a:pt x="3238" y="9017"/>
                </a:lnTo>
                <a:lnTo>
                  <a:pt x="3270" y="9017"/>
                </a:lnTo>
                <a:lnTo>
                  <a:pt x="3302" y="9017"/>
                </a:lnTo>
                <a:lnTo>
                  <a:pt x="3366" y="9017"/>
                </a:lnTo>
                <a:lnTo>
                  <a:pt x="3397" y="9017"/>
                </a:lnTo>
                <a:lnTo>
                  <a:pt x="3429" y="9017"/>
                </a:lnTo>
                <a:lnTo>
                  <a:pt x="3429" y="8985"/>
                </a:lnTo>
                <a:lnTo>
                  <a:pt x="3461" y="8954"/>
                </a:lnTo>
                <a:lnTo>
                  <a:pt x="3461" y="8922"/>
                </a:lnTo>
                <a:lnTo>
                  <a:pt x="3492" y="8890"/>
                </a:lnTo>
              </a:path>
              <a:path w="10827" h="2383">
                <a:moveTo>
                  <a:pt x="3588" y="8223"/>
                </a:moveTo>
                <a:cubicBezTo>
                  <a:pt x="3605" y="8173"/>
                  <a:pt x="3619" y="8199"/>
                  <a:pt x="3651" y="8223"/>
                </a:cubicBezTo>
                <a:cubicBezTo>
                  <a:pt x="3715" y="8271"/>
                  <a:pt x="3743" y="8377"/>
                  <a:pt x="3778" y="8446"/>
                </a:cubicBezTo>
                <a:cubicBezTo>
                  <a:pt x="3831" y="8551"/>
                  <a:pt x="3886" y="8617"/>
                  <a:pt x="3969" y="8700"/>
                </a:cubicBezTo>
                <a:cubicBezTo>
                  <a:pt x="4015" y="8746"/>
                  <a:pt x="4100" y="8834"/>
                  <a:pt x="4128" y="8890"/>
                </a:cubicBezTo>
                <a:cubicBezTo>
                  <a:pt x="4146" y="8926"/>
                  <a:pt x="4131" y="8981"/>
                  <a:pt x="4159" y="8922"/>
                </a:cubicBezTo>
              </a:path>
              <a:path w="10827" h="2383">
                <a:moveTo>
                  <a:pt x="4128" y="8192"/>
                </a:moveTo>
                <a:cubicBezTo>
                  <a:pt x="4110" y="8264"/>
                  <a:pt x="4048" y="8288"/>
                  <a:pt x="4000" y="8350"/>
                </a:cubicBezTo>
                <a:cubicBezTo>
                  <a:pt x="3911" y="8465"/>
                  <a:pt x="3843" y="8590"/>
                  <a:pt x="3746" y="8700"/>
                </a:cubicBezTo>
                <a:cubicBezTo>
                  <a:pt x="3630" y="8831"/>
                  <a:pt x="3546" y="8989"/>
                  <a:pt x="3397" y="9080"/>
                </a:cubicBezTo>
              </a:path>
              <a:path w="10827" h="2383">
                <a:moveTo>
                  <a:pt x="4921" y="8160"/>
                </a:moveTo>
                <a:cubicBezTo>
                  <a:pt x="4921" y="8229"/>
                  <a:pt x="4906" y="8251"/>
                  <a:pt x="4890" y="8318"/>
                </a:cubicBezTo>
                <a:cubicBezTo>
                  <a:pt x="4846" y="8500"/>
                  <a:pt x="4900" y="8708"/>
                  <a:pt x="4858" y="8890"/>
                </a:cubicBezTo>
                <a:cubicBezTo>
                  <a:pt x="4855" y="8903"/>
                  <a:pt x="4858" y="9038"/>
                  <a:pt x="4858" y="8954"/>
                </a:cubicBezTo>
              </a:path>
              <a:path w="10827" h="2383">
                <a:moveTo>
                  <a:pt x="4604" y="8604"/>
                </a:moveTo>
                <a:cubicBezTo>
                  <a:pt x="4773" y="8604"/>
                  <a:pt x="4943" y="8604"/>
                  <a:pt x="5112" y="8604"/>
                </a:cubicBezTo>
              </a:path>
              <a:path w="10827" h="2383">
                <a:moveTo>
                  <a:pt x="5461" y="7779"/>
                </a:moveTo>
                <a:cubicBezTo>
                  <a:pt x="5480" y="7768"/>
                  <a:pt x="5519" y="7765"/>
                  <a:pt x="5556" y="7747"/>
                </a:cubicBezTo>
                <a:cubicBezTo>
                  <a:pt x="5612" y="7719"/>
                  <a:pt x="5679" y="7695"/>
                  <a:pt x="5747" y="7684"/>
                </a:cubicBezTo>
                <a:cubicBezTo>
                  <a:pt x="5867" y="7664"/>
                  <a:pt x="6006" y="7684"/>
                  <a:pt x="6128" y="7684"/>
                </a:cubicBezTo>
                <a:cubicBezTo>
                  <a:pt x="6103" y="7714"/>
                  <a:pt x="6106" y="7738"/>
                  <a:pt x="6064" y="7779"/>
                </a:cubicBezTo>
                <a:cubicBezTo>
                  <a:pt x="5991" y="7851"/>
                  <a:pt x="5922" y="7909"/>
                  <a:pt x="5842" y="7969"/>
                </a:cubicBezTo>
                <a:cubicBezTo>
                  <a:pt x="5781" y="8015"/>
                  <a:pt x="5747" y="8079"/>
                  <a:pt x="5683" y="8128"/>
                </a:cubicBezTo>
                <a:cubicBezTo>
                  <a:pt x="5632" y="8167"/>
                  <a:pt x="5621" y="8177"/>
                  <a:pt x="5588" y="8223"/>
                </a:cubicBezTo>
                <a:cubicBezTo>
                  <a:pt x="5569" y="8249"/>
                  <a:pt x="5585" y="8213"/>
                  <a:pt x="5620" y="8192"/>
                </a:cubicBezTo>
                <a:cubicBezTo>
                  <a:pt x="5640" y="8180"/>
                  <a:pt x="5724" y="8133"/>
                  <a:pt x="5747" y="8128"/>
                </a:cubicBezTo>
                <a:cubicBezTo>
                  <a:pt x="5824" y="8112"/>
                  <a:pt x="5869" y="8137"/>
                  <a:pt x="5937" y="8160"/>
                </a:cubicBezTo>
                <a:cubicBezTo>
                  <a:pt x="6006" y="8183"/>
                  <a:pt x="6042" y="8201"/>
                  <a:pt x="6096" y="8255"/>
                </a:cubicBezTo>
                <a:cubicBezTo>
                  <a:pt x="6150" y="8309"/>
                  <a:pt x="6182" y="8404"/>
                  <a:pt x="6191" y="8477"/>
                </a:cubicBezTo>
                <a:cubicBezTo>
                  <a:pt x="6206" y="8593"/>
                  <a:pt x="6179" y="8663"/>
                  <a:pt x="6128" y="8763"/>
                </a:cubicBezTo>
                <a:cubicBezTo>
                  <a:pt x="6097" y="8824"/>
                  <a:pt x="6053" y="8940"/>
                  <a:pt x="6001" y="8985"/>
                </a:cubicBezTo>
                <a:cubicBezTo>
                  <a:pt x="5955" y="9024"/>
                  <a:pt x="5806" y="9082"/>
                  <a:pt x="5747" y="9080"/>
                </a:cubicBezTo>
                <a:cubicBezTo>
                  <a:pt x="5670" y="9078"/>
                  <a:pt x="5593" y="9048"/>
                  <a:pt x="5524" y="9017"/>
                </a:cubicBezTo>
                <a:cubicBezTo>
                  <a:pt x="5452" y="8984"/>
                  <a:pt x="5422" y="8978"/>
                  <a:pt x="5366" y="8922"/>
                </a:cubicBezTo>
                <a:cubicBezTo>
                  <a:pt x="5366" y="8890"/>
                  <a:pt x="5366" y="8879"/>
                  <a:pt x="5366" y="8922"/>
                </a:cubicBezTo>
              </a:path>
              <a:path w="10827" h="2383">
                <a:moveTo>
                  <a:pt x="7461" y="7302"/>
                </a:moveTo>
                <a:cubicBezTo>
                  <a:pt x="7394" y="7302"/>
                  <a:pt x="7358" y="7313"/>
                  <a:pt x="7302" y="7334"/>
                </a:cubicBezTo>
                <a:cubicBezTo>
                  <a:pt x="7225" y="7364"/>
                  <a:pt x="7143" y="7465"/>
                  <a:pt x="7080" y="7525"/>
                </a:cubicBezTo>
                <a:cubicBezTo>
                  <a:pt x="6948" y="7651"/>
                  <a:pt x="6909" y="7750"/>
                  <a:pt x="6826" y="7906"/>
                </a:cubicBezTo>
                <a:cubicBezTo>
                  <a:pt x="6752" y="8044"/>
                  <a:pt x="6670" y="8229"/>
                  <a:pt x="6636" y="8382"/>
                </a:cubicBezTo>
                <a:cubicBezTo>
                  <a:pt x="6604" y="8524"/>
                  <a:pt x="6604" y="8679"/>
                  <a:pt x="6604" y="8826"/>
                </a:cubicBezTo>
                <a:cubicBezTo>
                  <a:pt x="6604" y="8942"/>
                  <a:pt x="6605" y="9068"/>
                  <a:pt x="6636" y="9176"/>
                </a:cubicBezTo>
                <a:cubicBezTo>
                  <a:pt x="6653" y="9235"/>
                  <a:pt x="6720" y="9325"/>
                  <a:pt x="6763" y="9366"/>
                </a:cubicBezTo>
                <a:cubicBezTo>
                  <a:pt x="6791" y="9392"/>
                  <a:pt x="6865" y="9439"/>
                  <a:pt x="6890" y="9462"/>
                </a:cubicBezTo>
                <a:cubicBezTo>
                  <a:pt x="6901" y="9472"/>
                  <a:pt x="6911" y="9483"/>
                  <a:pt x="6922" y="9493"/>
                </a:cubicBezTo>
              </a:path>
              <a:path w="10827" h="2383">
                <a:moveTo>
                  <a:pt x="7874" y="8255"/>
                </a:moveTo>
                <a:cubicBezTo>
                  <a:pt x="7909" y="8264"/>
                  <a:pt x="7988" y="8305"/>
                  <a:pt x="8001" y="8350"/>
                </a:cubicBezTo>
                <a:cubicBezTo>
                  <a:pt x="8028" y="8445"/>
                  <a:pt x="8059" y="8539"/>
                  <a:pt x="8096" y="8636"/>
                </a:cubicBezTo>
                <a:cubicBezTo>
                  <a:pt x="8137" y="8744"/>
                  <a:pt x="8182" y="8834"/>
                  <a:pt x="8255" y="8922"/>
                </a:cubicBezTo>
                <a:cubicBezTo>
                  <a:pt x="8297" y="8972"/>
                  <a:pt x="8394" y="9088"/>
                  <a:pt x="8414" y="9049"/>
                </a:cubicBezTo>
              </a:path>
              <a:path w="10827" h="2383">
                <a:moveTo>
                  <a:pt x="8350" y="8287"/>
                </a:moveTo>
                <a:cubicBezTo>
                  <a:pt x="8333" y="8368"/>
                  <a:pt x="8278" y="8444"/>
                  <a:pt x="8223" y="8509"/>
                </a:cubicBezTo>
                <a:cubicBezTo>
                  <a:pt x="8141" y="8606"/>
                  <a:pt x="8056" y="8703"/>
                  <a:pt x="7969" y="8795"/>
                </a:cubicBezTo>
                <a:cubicBezTo>
                  <a:pt x="7917" y="8850"/>
                  <a:pt x="7841" y="8983"/>
                  <a:pt x="7779" y="9017"/>
                </a:cubicBezTo>
                <a:cubicBezTo>
                  <a:pt x="7743" y="9017"/>
                  <a:pt x="7729" y="9020"/>
                  <a:pt x="7715" y="9049"/>
                </a:cubicBezTo>
              </a:path>
              <a:path w="10827" h="2383">
                <a:moveTo>
                  <a:pt x="8700" y="8636"/>
                </a:moveTo>
                <a:cubicBezTo>
                  <a:pt x="8760" y="8636"/>
                  <a:pt x="8800" y="8608"/>
                  <a:pt x="8858" y="8604"/>
                </a:cubicBezTo>
                <a:cubicBezTo>
                  <a:pt x="8963" y="8597"/>
                  <a:pt x="9071" y="8604"/>
                  <a:pt x="9176" y="8604"/>
                </a:cubicBezTo>
              </a:path>
              <a:path w="10827" h="2383">
                <a:moveTo>
                  <a:pt x="9493" y="8033"/>
                </a:moveTo>
                <a:cubicBezTo>
                  <a:pt x="9493" y="8127"/>
                  <a:pt x="9482" y="8199"/>
                  <a:pt x="9462" y="8287"/>
                </a:cubicBezTo>
                <a:cubicBezTo>
                  <a:pt x="9462" y="8318"/>
                  <a:pt x="9462" y="8329"/>
                  <a:pt x="9462" y="8350"/>
                </a:cubicBezTo>
                <a:cubicBezTo>
                  <a:pt x="9517" y="8331"/>
                  <a:pt x="9493" y="8259"/>
                  <a:pt x="9493" y="8192"/>
                </a:cubicBezTo>
                <a:cubicBezTo>
                  <a:pt x="9493" y="8093"/>
                  <a:pt x="9518" y="8026"/>
                  <a:pt x="9525" y="7938"/>
                </a:cubicBezTo>
                <a:cubicBezTo>
                  <a:pt x="9528" y="7897"/>
                  <a:pt x="9533" y="7854"/>
                  <a:pt x="9557" y="7842"/>
                </a:cubicBezTo>
                <a:cubicBezTo>
                  <a:pt x="9580" y="7830"/>
                  <a:pt x="9645" y="7874"/>
                  <a:pt x="9684" y="7874"/>
                </a:cubicBezTo>
                <a:cubicBezTo>
                  <a:pt x="9757" y="7874"/>
                  <a:pt x="9825" y="7906"/>
                  <a:pt x="9906" y="7906"/>
                </a:cubicBezTo>
                <a:cubicBezTo>
                  <a:pt x="9998" y="7906"/>
                  <a:pt x="10045" y="7931"/>
                  <a:pt x="10128" y="7938"/>
                </a:cubicBezTo>
                <a:cubicBezTo>
                  <a:pt x="10195" y="7944"/>
                  <a:pt x="10192" y="7975"/>
                  <a:pt x="10192" y="8033"/>
                </a:cubicBezTo>
                <a:cubicBezTo>
                  <a:pt x="10192" y="8109"/>
                  <a:pt x="10138" y="8182"/>
                  <a:pt x="10128" y="8255"/>
                </a:cubicBezTo>
                <a:cubicBezTo>
                  <a:pt x="10114" y="8359"/>
                  <a:pt x="10117" y="8469"/>
                  <a:pt x="10096" y="8572"/>
                </a:cubicBezTo>
                <a:cubicBezTo>
                  <a:pt x="10073" y="8688"/>
                  <a:pt x="10050" y="8806"/>
                  <a:pt x="10033" y="8922"/>
                </a:cubicBezTo>
                <a:cubicBezTo>
                  <a:pt x="10024" y="8982"/>
                  <a:pt x="10039" y="9099"/>
                  <a:pt x="10001" y="9144"/>
                </a:cubicBezTo>
                <a:cubicBezTo>
                  <a:pt x="9959" y="9144"/>
                  <a:pt x="9949" y="9133"/>
                  <a:pt x="9970" y="9080"/>
                </a:cubicBezTo>
              </a:path>
              <a:path w="10827" h="2383">
                <a:moveTo>
                  <a:pt x="10287" y="7334"/>
                </a:moveTo>
                <a:cubicBezTo>
                  <a:pt x="10354" y="7373"/>
                  <a:pt x="10360" y="7395"/>
                  <a:pt x="10414" y="7461"/>
                </a:cubicBezTo>
                <a:cubicBezTo>
                  <a:pt x="10514" y="7582"/>
                  <a:pt x="10515" y="7698"/>
                  <a:pt x="10573" y="7842"/>
                </a:cubicBezTo>
                <a:cubicBezTo>
                  <a:pt x="10643" y="8017"/>
                  <a:pt x="10712" y="8191"/>
                  <a:pt x="10732" y="8382"/>
                </a:cubicBezTo>
                <a:cubicBezTo>
                  <a:pt x="10749" y="8546"/>
                  <a:pt x="10742" y="8702"/>
                  <a:pt x="10732" y="8858"/>
                </a:cubicBezTo>
                <a:cubicBezTo>
                  <a:pt x="10724" y="8984"/>
                  <a:pt x="10712" y="9120"/>
                  <a:pt x="10668" y="9239"/>
                </a:cubicBezTo>
                <a:cubicBezTo>
                  <a:pt x="10636" y="9325"/>
                  <a:pt x="10533" y="9446"/>
                  <a:pt x="10478" y="9525"/>
                </a:cubicBezTo>
                <a:cubicBezTo>
                  <a:pt x="10450" y="9565"/>
                  <a:pt x="10406" y="9621"/>
                  <a:pt x="10382" y="9652"/>
                </a:cubicBezTo>
                <a:cubicBezTo>
                  <a:pt x="10353" y="9681"/>
                  <a:pt x="10342" y="9696"/>
                  <a:pt x="10350" y="9652"/>
                </a:cubicBezTo>
              </a:path>
              <a:path w="10827" h="2383">
                <a:moveTo>
                  <a:pt x="11335" y="8287"/>
                </a:moveTo>
                <a:cubicBezTo>
                  <a:pt x="11396" y="8274"/>
                  <a:pt x="11463" y="8269"/>
                  <a:pt x="11525" y="8255"/>
                </a:cubicBezTo>
                <a:cubicBezTo>
                  <a:pt x="11640" y="8229"/>
                  <a:pt x="11723" y="8223"/>
                  <a:pt x="11843" y="8223"/>
                </a:cubicBezTo>
                <a:cubicBezTo>
                  <a:pt x="11896" y="8223"/>
                  <a:pt x="11949" y="8223"/>
                  <a:pt x="12002" y="8223"/>
                </a:cubicBezTo>
              </a:path>
              <a:path w="10827" h="2383">
                <a:moveTo>
                  <a:pt x="11335" y="8795"/>
                </a:moveTo>
                <a:cubicBezTo>
                  <a:pt x="11403" y="8795"/>
                  <a:pt x="11424" y="8767"/>
                  <a:pt x="11494" y="8763"/>
                </a:cubicBezTo>
                <a:cubicBezTo>
                  <a:pt x="11584" y="8758"/>
                  <a:pt x="11653" y="8731"/>
                  <a:pt x="11748" y="8731"/>
                </a:cubicBezTo>
                <a:cubicBezTo>
                  <a:pt x="11801" y="8731"/>
                  <a:pt x="11853" y="8731"/>
                  <a:pt x="11906" y="8731"/>
                </a:cubicBezTo>
              </a:path>
              <a:path w="10827" h="2383">
                <a:moveTo>
                  <a:pt x="12700" y="7588"/>
                </a:moveTo>
                <a:cubicBezTo>
                  <a:pt x="12700" y="7671"/>
                  <a:pt x="12681" y="7743"/>
                  <a:pt x="12668" y="7810"/>
                </a:cubicBezTo>
                <a:cubicBezTo>
                  <a:pt x="12650" y="7898"/>
                  <a:pt x="12640" y="8008"/>
                  <a:pt x="12636" y="8096"/>
                </a:cubicBezTo>
                <a:cubicBezTo>
                  <a:pt x="12631" y="8205"/>
                  <a:pt x="12597" y="8280"/>
                  <a:pt x="12573" y="8382"/>
                </a:cubicBezTo>
                <a:cubicBezTo>
                  <a:pt x="12559" y="8444"/>
                  <a:pt x="12559" y="8488"/>
                  <a:pt x="12541" y="8541"/>
                </a:cubicBezTo>
                <a:cubicBezTo>
                  <a:pt x="12541" y="8551"/>
                  <a:pt x="12541" y="8562"/>
                  <a:pt x="12541" y="8572"/>
                </a:cubicBezTo>
                <a:cubicBezTo>
                  <a:pt x="12591" y="8536"/>
                  <a:pt x="12623" y="8566"/>
                  <a:pt x="12668" y="8541"/>
                </a:cubicBezTo>
                <a:cubicBezTo>
                  <a:pt x="12745" y="8498"/>
                  <a:pt x="12747" y="8517"/>
                  <a:pt x="12827" y="8541"/>
                </a:cubicBezTo>
                <a:cubicBezTo>
                  <a:pt x="12883" y="8558"/>
                  <a:pt x="12934" y="8550"/>
                  <a:pt x="12986" y="8572"/>
                </a:cubicBezTo>
                <a:cubicBezTo>
                  <a:pt x="13060" y="8604"/>
                  <a:pt x="13094" y="8604"/>
                  <a:pt x="13176" y="8604"/>
                </a:cubicBezTo>
                <a:cubicBezTo>
                  <a:pt x="13251" y="8604"/>
                  <a:pt x="13269" y="8578"/>
                  <a:pt x="13335" y="8541"/>
                </a:cubicBezTo>
              </a:path>
              <a:path w="10827" h="2383">
                <a:moveTo>
                  <a:pt x="13398" y="7652"/>
                </a:moveTo>
                <a:cubicBezTo>
                  <a:pt x="13378" y="7706"/>
                  <a:pt x="13343" y="7780"/>
                  <a:pt x="13335" y="7842"/>
                </a:cubicBezTo>
                <a:cubicBezTo>
                  <a:pt x="13317" y="7980"/>
                  <a:pt x="13326" y="8118"/>
                  <a:pt x="13303" y="8255"/>
                </a:cubicBezTo>
                <a:cubicBezTo>
                  <a:pt x="13274" y="8426"/>
                  <a:pt x="13222" y="8591"/>
                  <a:pt x="13208" y="8763"/>
                </a:cubicBezTo>
                <a:cubicBezTo>
                  <a:pt x="13193" y="8938"/>
                  <a:pt x="13202" y="9129"/>
                  <a:pt x="13176" y="9303"/>
                </a:cubicBezTo>
                <a:cubicBezTo>
                  <a:pt x="13138" y="9417"/>
                  <a:pt x="13127" y="9468"/>
                  <a:pt x="13144" y="9557"/>
                </a:cubicBezTo>
              </a:path>
              <a:path w="10827" h="2383">
                <a:moveTo>
                  <a:pt x="7302" y="7684"/>
                </a:moveTo>
                <a:cubicBezTo>
                  <a:pt x="7349" y="7649"/>
                  <a:pt x="7352" y="7663"/>
                  <a:pt x="7366" y="7620"/>
                </a:cubicBezTo>
                <a:cubicBezTo>
                  <a:pt x="7366" y="7676"/>
                  <a:pt x="7354" y="7730"/>
                  <a:pt x="7334" y="7779"/>
                </a:cubicBezTo>
                <a:cubicBezTo>
                  <a:pt x="7286" y="7899"/>
                  <a:pt x="7218" y="8005"/>
                  <a:pt x="7176" y="8128"/>
                </a:cubicBezTo>
                <a:cubicBezTo>
                  <a:pt x="7131" y="8258"/>
                  <a:pt x="7109" y="8380"/>
                  <a:pt x="7080" y="8509"/>
                </a:cubicBezTo>
                <a:cubicBezTo>
                  <a:pt x="7053" y="8631"/>
                  <a:pt x="7048" y="8732"/>
                  <a:pt x="7048" y="8858"/>
                </a:cubicBezTo>
                <a:cubicBezTo>
                  <a:pt x="7048" y="8956"/>
                  <a:pt x="7097" y="9002"/>
                  <a:pt x="7144" y="9080"/>
                </a:cubicBezTo>
                <a:cubicBezTo>
                  <a:pt x="7199" y="9171"/>
                  <a:pt x="7194" y="9176"/>
                  <a:pt x="7302" y="9176"/>
                </a:cubicBezTo>
                <a:cubicBezTo>
                  <a:pt x="7411" y="9176"/>
                  <a:pt x="7416" y="9106"/>
                  <a:pt x="7461" y="9017"/>
                </a:cubicBezTo>
                <a:cubicBezTo>
                  <a:pt x="7501" y="8938"/>
                  <a:pt x="7551" y="8857"/>
                  <a:pt x="7525" y="8763"/>
                </a:cubicBezTo>
                <a:cubicBezTo>
                  <a:pt x="7509" y="8706"/>
                  <a:pt x="7456" y="8640"/>
                  <a:pt x="7398" y="8636"/>
                </a:cubicBezTo>
                <a:cubicBezTo>
                  <a:pt x="7297" y="8629"/>
                  <a:pt x="7270" y="8684"/>
                  <a:pt x="7207" y="8731"/>
                </a:cubicBezTo>
                <a:cubicBezTo>
                  <a:pt x="7107" y="8804"/>
                  <a:pt x="7097" y="8869"/>
                  <a:pt x="7048" y="8985"/>
                </a:cubicBezTo>
                <a:cubicBezTo>
                  <a:pt x="7038" y="9006"/>
                  <a:pt x="7027" y="9028"/>
                  <a:pt x="7017" y="9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nk 10"/>
          <p:cNvSpPr/>
          <p:nvPr/>
        </p:nvSpPr>
        <p:spPr>
          <a:xfrm>
            <a:off x="1096920" y="3589200"/>
            <a:ext cx="2927520" cy="560520"/>
          </a:xfrm>
          <a:custGeom>
            <a:avLst/>
            <a:gdLst/>
            <a:ahLst/>
            <a:rect l="l" t="t" r="r" b="b"/>
            <a:pathLst>
              <a:path w="8129" h="1556">
                <a:moveTo>
                  <a:pt x="3048" y="10096"/>
                </a:moveTo>
                <a:cubicBezTo>
                  <a:pt x="3078" y="10086"/>
                  <a:pt x="3108" y="10085"/>
                  <a:pt x="3143" y="10065"/>
                </a:cubicBezTo>
                <a:cubicBezTo>
                  <a:pt x="3208" y="10028"/>
                  <a:pt x="3221" y="9990"/>
                  <a:pt x="3302" y="9970"/>
                </a:cubicBezTo>
                <a:cubicBezTo>
                  <a:pt x="3345" y="9959"/>
                  <a:pt x="3499" y="9951"/>
                  <a:pt x="3524" y="10001"/>
                </a:cubicBezTo>
                <a:cubicBezTo>
                  <a:pt x="3556" y="10064"/>
                  <a:pt x="3511" y="10168"/>
                  <a:pt x="3492" y="10224"/>
                </a:cubicBezTo>
                <a:cubicBezTo>
                  <a:pt x="3453" y="10338"/>
                  <a:pt x="3388" y="10453"/>
                  <a:pt x="3366" y="10573"/>
                </a:cubicBezTo>
                <a:cubicBezTo>
                  <a:pt x="3350" y="10662"/>
                  <a:pt x="3325" y="10749"/>
                  <a:pt x="3270" y="10827"/>
                </a:cubicBezTo>
                <a:cubicBezTo>
                  <a:pt x="3241" y="10869"/>
                  <a:pt x="3206" y="10912"/>
                  <a:pt x="3175" y="10922"/>
                </a:cubicBezTo>
                <a:cubicBezTo>
                  <a:pt x="3229" y="10868"/>
                  <a:pt x="3250" y="10886"/>
                  <a:pt x="3302" y="10858"/>
                </a:cubicBezTo>
                <a:cubicBezTo>
                  <a:pt x="3390" y="10810"/>
                  <a:pt x="3399" y="10835"/>
                  <a:pt x="3492" y="10858"/>
                </a:cubicBezTo>
                <a:cubicBezTo>
                  <a:pt x="3543" y="10871"/>
                  <a:pt x="3573" y="10906"/>
                  <a:pt x="3620" y="10922"/>
                </a:cubicBezTo>
                <a:cubicBezTo>
                  <a:pt x="3667" y="10938"/>
                  <a:pt x="3691" y="10954"/>
                  <a:pt x="3746" y="10954"/>
                </a:cubicBezTo>
                <a:cubicBezTo>
                  <a:pt x="3803" y="10954"/>
                  <a:pt x="3824" y="10935"/>
                  <a:pt x="3874" y="10922"/>
                </a:cubicBezTo>
              </a:path>
              <a:path w="8129" h="1556">
                <a:moveTo>
                  <a:pt x="4000" y="10319"/>
                </a:moveTo>
                <a:cubicBezTo>
                  <a:pt x="4015" y="10377"/>
                  <a:pt x="4065" y="10420"/>
                  <a:pt x="4096" y="10478"/>
                </a:cubicBezTo>
                <a:cubicBezTo>
                  <a:pt x="4146" y="10571"/>
                  <a:pt x="4179" y="10668"/>
                  <a:pt x="4223" y="10763"/>
                </a:cubicBezTo>
                <a:cubicBezTo>
                  <a:pt x="4260" y="10843"/>
                  <a:pt x="4321" y="10892"/>
                  <a:pt x="4382" y="10954"/>
                </a:cubicBezTo>
                <a:cubicBezTo>
                  <a:pt x="4413" y="10986"/>
                  <a:pt x="4424" y="10997"/>
                  <a:pt x="4445" y="10954"/>
                </a:cubicBezTo>
              </a:path>
              <a:path w="8129" h="1556">
                <a:moveTo>
                  <a:pt x="4445" y="10382"/>
                </a:moveTo>
                <a:cubicBezTo>
                  <a:pt x="4388" y="10439"/>
                  <a:pt x="4330" y="10508"/>
                  <a:pt x="4286" y="10573"/>
                </a:cubicBezTo>
                <a:cubicBezTo>
                  <a:pt x="4227" y="10661"/>
                  <a:pt x="4154" y="10740"/>
                  <a:pt x="4096" y="10827"/>
                </a:cubicBezTo>
                <a:cubicBezTo>
                  <a:pt x="4053" y="10892"/>
                  <a:pt x="4010" y="10951"/>
                  <a:pt x="3969" y="11017"/>
                </a:cubicBezTo>
              </a:path>
              <a:path w="8129" h="1556">
                <a:moveTo>
                  <a:pt x="5144" y="10287"/>
                </a:moveTo>
                <a:cubicBezTo>
                  <a:pt x="5144" y="10499"/>
                  <a:pt x="5144" y="10710"/>
                  <a:pt x="5144" y="10922"/>
                </a:cubicBezTo>
              </a:path>
              <a:path w="8129" h="1556">
                <a:moveTo>
                  <a:pt x="4953" y="10573"/>
                </a:moveTo>
                <a:cubicBezTo>
                  <a:pt x="5009" y="10584"/>
                  <a:pt x="5052" y="10604"/>
                  <a:pt x="5112" y="10604"/>
                </a:cubicBezTo>
                <a:cubicBezTo>
                  <a:pt x="5202" y="10604"/>
                  <a:pt x="5252" y="10584"/>
                  <a:pt x="5334" y="10573"/>
                </a:cubicBezTo>
              </a:path>
              <a:path w="8129" h="1556">
                <a:moveTo>
                  <a:pt x="5747" y="10033"/>
                </a:moveTo>
                <a:cubicBezTo>
                  <a:pt x="5788" y="10047"/>
                  <a:pt x="5797" y="10103"/>
                  <a:pt x="5778" y="10160"/>
                </a:cubicBezTo>
                <a:cubicBezTo>
                  <a:pt x="5747" y="10256"/>
                  <a:pt x="5727" y="10376"/>
                  <a:pt x="5715" y="10478"/>
                </a:cubicBezTo>
                <a:cubicBezTo>
                  <a:pt x="5701" y="10597"/>
                  <a:pt x="5683" y="10705"/>
                  <a:pt x="5683" y="10827"/>
                </a:cubicBezTo>
                <a:cubicBezTo>
                  <a:pt x="5683" y="10869"/>
                  <a:pt x="5683" y="10912"/>
                  <a:pt x="5683" y="10954"/>
                </a:cubicBezTo>
              </a:path>
              <a:path w="8129" h="1556">
                <a:moveTo>
                  <a:pt x="6255" y="10192"/>
                </a:moveTo>
                <a:cubicBezTo>
                  <a:pt x="6266" y="10112"/>
                  <a:pt x="6287" y="10108"/>
                  <a:pt x="6255" y="10065"/>
                </a:cubicBezTo>
                <a:cubicBezTo>
                  <a:pt x="6244" y="10054"/>
                  <a:pt x="6234" y="10044"/>
                  <a:pt x="6223" y="10033"/>
                </a:cubicBezTo>
                <a:cubicBezTo>
                  <a:pt x="6159" y="10033"/>
                  <a:pt x="6118" y="10056"/>
                  <a:pt x="6064" y="10096"/>
                </a:cubicBezTo>
                <a:cubicBezTo>
                  <a:pt x="5998" y="10145"/>
                  <a:pt x="5924" y="10236"/>
                  <a:pt x="5906" y="10319"/>
                </a:cubicBezTo>
                <a:cubicBezTo>
                  <a:pt x="5891" y="10386"/>
                  <a:pt x="5911" y="10441"/>
                  <a:pt x="5969" y="10478"/>
                </a:cubicBezTo>
                <a:cubicBezTo>
                  <a:pt x="6068" y="10541"/>
                  <a:pt x="6145" y="10462"/>
                  <a:pt x="6223" y="10414"/>
                </a:cubicBezTo>
                <a:cubicBezTo>
                  <a:pt x="6289" y="10373"/>
                  <a:pt x="6379" y="10286"/>
                  <a:pt x="6350" y="10192"/>
                </a:cubicBezTo>
                <a:cubicBezTo>
                  <a:pt x="6332" y="10135"/>
                  <a:pt x="6270" y="10128"/>
                  <a:pt x="6223" y="10128"/>
                </a:cubicBezTo>
                <a:cubicBezTo>
                  <a:pt x="6187" y="10128"/>
                  <a:pt x="6173" y="10131"/>
                  <a:pt x="6160" y="10160"/>
                </a:cubicBezTo>
              </a:path>
              <a:path w="8129" h="1556">
                <a:moveTo>
                  <a:pt x="6128" y="10509"/>
                </a:moveTo>
                <a:cubicBezTo>
                  <a:pt x="6061" y="10526"/>
                  <a:pt x="6074" y="10556"/>
                  <a:pt x="6032" y="10604"/>
                </a:cubicBezTo>
                <a:cubicBezTo>
                  <a:pt x="5985" y="10657"/>
                  <a:pt x="5975" y="10755"/>
                  <a:pt x="5969" y="10827"/>
                </a:cubicBezTo>
                <a:cubicBezTo>
                  <a:pt x="5965" y="10875"/>
                  <a:pt x="5949" y="10959"/>
                  <a:pt x="6001" y="10986"/>
                </a:cubicBezTo>
                <a:cubicBezTo>
                  <a:pt x="6067" y="11020"/>
                  <a:pt x="6147" y="10963"/>
                  <a:pt x="6191" y="10922"/>
                </a:cubicBezTo>
                <a:cubicBezTo>
                  <a:pt x="6254" y="10863"/>
                  <a:pt x="6330" y="10789"/>
                  <a:pt x="6350" y="10700"/>
                </a:cubicBezTo>
                <a:cubicBezTo>
                  <a:pt x="6365" y="10631"/>
                  <a:pt x="6299" y="10557"/>
                  <a:pt x="6255" y="10509"/>
                </a:cubicBezTo>
                <a:cubicBezTo>
                  <a:pt x="6242" y="10495"/>
                  <a:pt x="6145" y="10429"/>
                  <a:pt x="6128" y="10446"/>
                </a:cubicBezTo>
                <a:cubicBezTo>
                  <a:pt x="6128" y="10457"/>
                  <a:pt x="6128" y="10467"/>
                  <a:pt x="6128" y="10478"/>
                </a:cubicBezTo>
              </a:path>
              <a:path w="8129" h="1556">
                <a:moveTo>
                  <a:pt x="6636" y="10192"/>
                </a:moveTo>
                <a:cubicBezTo>
                  <a:pt x="6652" y="10254"/>
                  <a:pt x="6670" y="10316"/>
                  <a:pt x="6699" y="10382"/>
                </a:cubicBezTo>
                <a:cubicBezTo>
                  <a:pt x="6744" y="10485"/>
                  <a:pt x="6812" y="10561"/>
                  <a:pt x="6858" y="10668"/>
                </a:cubicBezTo>
                <a:cubicBezTo>
                  <a:pt x="6895" y="10754"/>
                  <a:pt x="6971" y="10811"/>
                  <a:pt x="7017" y="10890"/>
                </a:cubicBezTo>
                <a:cubicBezTo>
                  <a:pt x="7060" y="10963"/>
                  <a:pt x="7063" y="10934"/>
                  <a:pt x="7080" y="10986"/>
                </a:cubicBezTo>
              </a:path>
              <a:path w="8129" h="1556">
                <a:moveTo>
                  <a:pt x="7080" y="10478"/>
                </a:moveTo>
                <a:cubicBezTo>
                  <a:pt x="7032" y="10537"/>
                  <a:pt x="7001" y="10609"/>
                  <a:pt x="6953" y="10668"/>
                </a:cubicBezTo>
                <a:cubicBezTo>
                  <a:pt x="6894" y="10741"/>
                  <a:pt x="6830" y="10863"/>
                  <a:pt x="6763" y="10922"/>
                </a:cubicBezTo>
                <a:cubicBezTo>
                  <a:pt x="6742" y="10933"/>
                  <a:pt x="6720" y="10943"/>
                  <a:pt x="6699" y="10954"/>
                </a:cubicBezTo>
              </a:path>
              <a:path w="8129" h="1556">
                <a:moveTo>
                  <a:pt x="7525" y="10604"/>
                </a:moveTo>
                <a:cubicBezTo>
                  <a:pt x="7493" y="10604"/>
                  <a:pt x="7482" y="10604"/>
                  <a:pt x="7493" y="10636"/>
                </a:cubicBezTo>
                <a:cubicBezTo>
                  <a:pt x="7541" y="10636"/>
                  <a:pt x="7583" y="10679"/>
                  <a:pt x="7620" y="10668"/>
                </a:cubicBezTo>
                <a:cubicBezTo>
                  <a:pt x="7709" y="10643"/>
                  <a:pt x="7814" y="10610"/>
                  <a:pt x="7906" y="10604"/>
                </a:cubicBezTo>
                <a:cubicBezTo>
                  <a:pt x="7977" y="10599"/>
                  <a:pt x="7994" y="10583"/>
                  <a:pt x="8064" y="10573"/>
                </a:cubicBezTo>
              </a:path>
              <a:path w="8129" h="1556">
                <a:moveTo>
                  <a:pt x="8255" y="10255"/>
                </a:moveTo>
                <a:cubicBezTo>
                  <a:pt x="8255" y="10199"/>
                  <a:pt x="8252" y="10165"/>
                  <a:pt x="8318" y="10160"/>
                </a:cubicBezTo>
                <a:cubicBezTo>
                  <a:pt x="8406" y="10154"/>
                  <a:pt x="8470" y="10178"/>
                  <a:pt x="8541" y="10192"/>
                </a:cubicBezTo>
                <a:cubicBezTo>
                  <a:pt x="8602" y="10204"/>
                  <a:pt x="8667" y="10252"/>
                  <a:pt x="8636" y="10350"/>
                </a:cubicBezTo>
                <a:cubicBezTo>
                  <a:pt x="8609" y="10437"/>
                  <a:pt x="8542" y="10535"/>
                  <a:pt x="8477" y="10604"/>
                </a:cubicBezTo>
                <a:cubicBezTo>
                  <a:pt x="8407" y="10678"/>
                  <a:pt x="8341" y="10772"/>
                  <a:pt x="8287" y="10858"/>
                </a:cubicBezTo>
                <a:cubicBezTo>
                  <a:pt x="8258" y="10905"/>
                  <a:pt x="8198" y="10966"/>
                  <a:pt x="8192" y="11017"/>
                </a:cubicBezTo>
                <a:cubicBezTo>
                  <a:pt x="8192" y="11028"/>
                  <a:pt x="8192" y="11038"/>
                  <a:pt x="8192" y="11049"/>
                </a:cubicBezTo>
                <a:cubicBezTo>
                  <a:pt x="8222" y="11039"/>
                  <a:pt x="8250" y="11037"/>
                  <a:pt x="8287" y="11017"/>
                </a:cubicBezTo>
                <a:cubicBezTo>
                  <a:pt x="8337" y="10989"/>
                  <a:pt x="8369" y="11017"/>
                  <a:pt x="8446" y="11017"/>
                </a:cubicBezTo>
                <a:cubicBezTo>
                  <a:pt x="8514" y="11017"/>
                  <a:pt x="8551" y="11063"/>
                  <a:pt x="8604" y="11081"/>
                </a:cubicBezTo>
                <a:cubicBezTo>
                  <a:pt x="8664" y="11101"/>
                  <a:pt x="8720" y="11082"/>
                  <a:pt x="8763" y="11049"/>
                </a:cubicBezTo>
              </a:path>
              <a:path w="8129" h="1556">
                <a:moveTo>
                  <a:pt x="9049" y="10224"/>
                </a:moveTo>
                <a:cubicBezTo>
                  <a:pt x="9049" y="10573"/>
                  <a:pt x="9049" y="10922"/>
                  <a:pt x="9049" y="11271"/>
                </a:cubicBezTo>
              </a:path>
              <a:path w="8129" h="1556">
                <a:moveTo>
                  <a:pt x="9652" y="10668"/>
                </a:moveTo>
                <a:cubicBezTo>
                  <a:pt x="9710" y="10654"/>
                  <a:pt x="9742" y="10636"/>
                  <a:pt x="9811" y="10636"/>
                </a:cubicBezTo>
                <a:cubicBezTo>
                  <a:pt x="9885" y="10636"/>
                  <a:pt x="9959" y="10636"/>
                  <a:pt x="10033" y="10636"/>
                </a:cubicBezTo>
              </a:path>
              <a:path w="8129" h="1556">
                <a:moveTo>
                  <a:pt x="9716" y="11017"/>
                </a:moveTo>
                <a:cubicBezTo>
                  <a:pt x="9864" y="11017"/>
                  <a:pt x="10023" y="11036"/>
                  <a:pt x="10160" y="10986"/>
                </a:cubicBezTo>
              </a:path>
              <a:path w="8129" h="1556">
                <a:moveTo>
                  <a:pt x="10668" y="10319"/>
                </a:moveTo>
                <a:cubicBezTo>
                  <a:pt x="10652" y="10380"/>
                  <a:pt x="10615" y="10441"/>
                  <a:pt x="10604" y="10509"/>
                </a:cubicBezTo>
                <a:cubicBezTo>
                  <a:pt x="10592" y="10581"/>
                  <a:pt x="10573" y="10622"/>
                  <a:pt x="10573" y="10700"/>
                </a:cubicBezTo>
                <a:cubicBezTo>
                  <a:pt x="10573" y="10732"/>
                  <a:pt x="10573" y="10742"/>
                  <a:pt x="10573" y="10763"/>
                </a:cubicBezTo>
                <a:cubicBezTo>
                  <a:pt x="10643" y="10711"/>
                  <a:pt x="10632" y="10741"/>
                  <a:pt x="10700" y="10763"/>
                </a:cubicBezTo>
                <a:cubicBezTo>
                  <a:pt x="10752" y="10780"/>
                  <a:pt x="10835" y="10781"/>
                  <a:pt x="10890" y="10795"/>
                </a:cubicBezTo>
                <a:cubicBezTo>
                  <a:pt x="10971" y="10816"/>
                  <a:pt x="11113" y="10810"/>
                  <a:pt x="11176" y="10763"/>
                </a:cubicBezTo>
              </a:path>
              <a:path w="8129" h="1556">
                <a:moveTo>
                  <a:pt x="11112" y="10065"/>
                </a:moveTo>
                <a:cubicBezTo>
                  <a:pt x="11061" y="10133"/>
                  <a:pt x="11053" y="10196"/>
                  <a:pt x="11049" y="10287"/>
                </a:cubicBezTo>
                <a:cubicBezTo>
                  <a:pt x="11042" y="10459"/>
                  <a:pt x="11017" y="10620"/>
                  <a:pt x="11017" y="10795"/>
                </a:cubicBezTo>
                <a:cubicBezTo>
                  <a:pt x="11017" y="11000"/>
                  <a:pt x="10991" y="11195"/>
                  <a:pt x="10986" y="11398"/>
                </a:cubicBezTo>
                <a:cubicBezTo>
                  <a:pt x="10986" y="11440"/>
                  <a:pt x="10986" y="11483"/>
                  <a:pt x="10986" y="11525"/>
                </a:cubicBezTo>
              </a:path>
              <a:path w="8129" h="1556">
                <a:moveTo>
                  <a:pt x="3143" y="11144"/>
                </a:moveTo>
                <a:cubicBezTo>
                  <a:pt x="3359" y="11144"/>
                  <a:pt x="3572" y="11143"/>
                  <a:pt x="3778" y="11176"/>
                </a:cubicBezTo>
                <a:cubicBezTo>
                  <a:pt x="4048" y="11219"/>
                  <a:pt x="4376" y="11178"/>
                  <a:pt x="4636" y="11144"/>
                </a:cubicBezTo>
                <a:cubicBezTo>
                  <a:pt x="4730" y="11132"/>
                  <a:pt x="4832" y="11124"/>
                  <a:pt x="4921" y="11112"/>
                </a:cubicBezTo>
                <a:cubicBezTo>
                  <a:pt x="5058" y="11094"/>
                  <a:pt x="5198" y="11100"/>
                  <a:pt x="5334" y="11081"/>
                </a:cubicBezTo>
                <a:cubicBezTo>
                  <a:pt x="5505" y="11057"/>
                  <a:pt x="5678" y="11094"/>
                  <a:pt x="5842" y="11112"/>
                </a:cubicBezTo>
                <a:cubicBezTo>
                  <a:pt x="6024" y="11132"/>
                  <a:pt x="6206" y="11114"/>
                  <a:pt x="6382" y="11144"/>
                </a:cubicBezTo>
                <a:cubicBezTo>
                  <a:pt x="6556" y="11173"/>
                  <a:pt x="6761" y="11149"/>
                  <a:pt x="6922" y="11176"/>
                </a:cubicBezTo>
                <a:cubicBezTo>
                  <a:pt x="6953" y="11176"/>
                  <a:pt x="6964" y="11176"/>
                  <a:pt x="6985" y="11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Ink 11"/>
          <p:cNvSpPr/>
          <p:nvPr/>
        </p:nvSpPr>
        <p:spPr>
          <a:xfrm>
            <a:off x="5578560" y="2719440"/>
            <a:ext cx="2743200" cy="1258920"/>
          </a:xfrm>
          <a:custGeom>
            <a:avLst/>
            <a:gdLst/>
            <a:ahLst/>
            <a:rect l="l" t="t" r="r" b="b"/>
            <a:pathLst>
              <a:path w="7621" h="3494">
                <a:moveTo>
                  <a:pt x="15494" y="8096"/>
                </a:moveTo>
                <a:cubicBezTo>
                  <a:pt x="15508" y="8152"/>
                  <a:pt x="15546" y="8180"/>
                  <a:pt x="15589" y="8223"/>
                </a:cubicBezTo>
                <a:cubicBezTo>
                  <a:pt x="15640" y="8274"/>
                  <a:pt x="15696" y="8303"/>
                  <a:pt x="15748" y="8350"/>
                </a:cubicBezTo>
                <a:cubicBezTo>
                  <a:pt x="15777" y="8376"/>
                  <a:pt x="15839" y="8430"/>
                  <a:pt x="15875" y="8446"/>
                </a:cubicBezTo>
                <a:cubicBezTo>
                  <a:pt x="15911" y="8462"/>
                  <a:pt x="15932" y="8486"/>
                  <a:pt x="15938" y="8541"/>
                </a:cubicBezTo>
                <a:cubicBezTo>
                  <a:pt x="15943" y="8587"/>
                  <a:pt x="15865" y="8658"/>
                  <a:pt x="15843" y="8700"/>
                </a:cubicBezTo>
                <a:cubicBezTo>
                  <a:pt x="15781" y="8818"/>
                  <a:pt x="15672" y="8882"/>
                  <a:pt x="15589" y="8985"/>
                </a:cubicBezTo>
                <a:cubicBezTo>
                  <a:pt x="15568" y="9017"/>
                  <a:pt x="15547" y="9048"/>
                  <a:pt x="15526" y="9080"/>
                </a:cubicBezTo>
              </a:path>
              <a:path w="7621" h="3494">
                <a:moveTo>
                  <a:pt x="16256" y="8668"/>
                </a:moveTo>
                <a:cubicBezTo>
                  <a:pt x="16256" y="8657"/>
                  <a:pt x="16256" y="8647"/>
                  <a:pt x="16256" y="8636"/>
                </a:cubicBezTo>
              </a:path>
              <a:path w="7621" h="3494">
                <a:moveTo>
                  <a:pt x="16256" y="8668"/>
                </a:moveTo>
                <a:lnTo>
                  <a:pt x="16256" y="8668"/>
                </a:lnTo>
                <a:lnTo>
                  <a:pt x="16256" y="8668"/>
                </a:lnTo>
              </a:path>
              <a:path w="7621" h="3494">
                <a:moveTo>
                  <a:pt x="16256" y="8668"/>
                </a:moveTo>
                <a:cubicBezTo>
                  <a:pt x="16256" y="8949"/>
                  <a:pt x="16175" y="9367"/>
                  <a:pt x="16288" y="9620"/>
                </a:cubicBezTo>
                <a:cubicBezTo>
                  <a:pt x="16288" y="9656"/>
                  <a:pt x="16291" y="9670"/>
                  <a:pt x="16320" y="9684"/>
                </a:cubicBezTo>
                <a:cubicBezTo>
                  <a:pt x="16378" y="9671"/>
                  <a:pt x="16429" y="9672"/>
                  <a:pt x="16478" y="9620"/>
                </a:cubicBezTo>
                <a:cubicBezTo>
                  <a:pt x="16551" y="9542"/>
                  <a:pt x="16572" y="9370"/>
                  <a:pt x="16605" y="9271"/>
                </a:cubicBezTo>
                <a:cubicBezTo>
                  <a:pt x="16650" y="9136"/>
                  <a:pt x="16640" y="9022"/>
                  <a:pt x="16669" y="8890"/>
                </a:cubicBezTo>
                <a:cubicBezTo>
                  <a:pt x="16690" y="8795"/>
                  <a:pt x="16689" y="8843"/>
                  <a:pt x="16669" y="8763"/>
                </a:cubicBezTo>
                <a:cubicBezTo>
                  <a:pt x="16646" y="8824"/>
                  <a:pt x="16619" y="8872"/>
                  <a:pt x="16637" y="8954"/>
                </a:cubicBezTo>
                <a:cubicBezTo>
                  <a:pt x="16666" y="9087"/>
                  <a:pt x="16687" y="9229"/>
                  <a:pt x="16700" y="9366"/>
                </a:cubicBezTo>
                <a:cubicBezTo>
                  <a:pt x="16715" y="9524"/>
                  <a:pt x="16752" y="9684"/>
                  <a:pt x="16764" y="9842"/>
                </a:cubicBezTo>
                <a:cubicBezTo>
                  <a:pt x="16779" y="10050"/>
                  <a:pt x="16745" y="10244"/>
                  <a:pt x="16700" y="10446"/>
                </a:cubicBezTo>
                <a:cubicBezTo>
                  <a:pt x="16666" y="10601"/>
                  <a:pt x="16604" y="10795"/>
                  <a:pt x="16510" y="10922"/>
                </a:cubicBezTo>
                <a:cubicBezTo>
                  <a:pt x="16466" y="10981"/>
                  <a:pt x="16364" y="11061"/>
                  <a:pt x="16288" y="11049"/>
                </a:cubicBezTo>
                <a:cubicBezTo>
                  <a:pt x="16181" y="11032"/>
                  <a:pt x="16157" y="10909"/>
                  <a:pt x="16129" y="10827"/>
                </a:cubicBezTo>
                <a:cubicBezTo>
                  <a:pt x="16097" y="10732"/>
                  <a:pt x="16086" y="10700"/>
                  <a:pt x="16066" y="10636"/>
                </a:cubicBezTo>
              </a:path>
              <a:path w="7621" h="3494">
                <a:moveTo>
                  <a:pt x="17113" y="8922"/>
                </a:moveTo>
                <a:cubicBezTo>
                  <a:pt x="17210" y="8922"/>
                  <a:pt x="17285" y="8915"/>
                  <a:pt x="17367" y="8890"/>
                </a:cubicBezTo>
                <a:cubicBezTo>
                  <a:pt x="17426" y="8872"/>
                  <a:pt x="17511" y="8878"/>
                  <a:pt x="17526" y="8922"/>
                </a:cubicBezTo>
              </a:path>
              <a:path w="7621" h="3494">
                <a:moveTo>
                  <a:pt x="17050" y="9366"/>
                </a:moveTo>
                <a:cubicBezTo>
                  <a:pt x="17209" y="9366"/>
                  <a:pt x="17367" y="9366"/>
                  <a:pt x="17526" y="9366"/>
                </a:cubicBezTo>
              </a:path>
              <a:path w="7621" h="3494">
                <a:moveTo>
                  <a:pt x="18256" y="8128"/>
                </a:moveTo>
                <a:cubicBezTo>
                  <a:pt x="18246" y="8201"/>
                  <a:pt x="18217" y="8278"/>
                  <a:pt x="18193" y="8350"/>
                </a:cubicBezTo>
                <a:cubicBezTo>
                  <a:pt x="18156" y="8460"/>
                  <a:pt x="18111" y="8549"/>
                  <a:pt x="18098" y="8668"/>
                </a:cubicBezTo>
                <a:cubicBezTo>
                  <a:pt x="18083" y="8806"/>
                  <a:pt x="18049" y="8943"/>
                  <a:pt x="18034" y="9080"/>
                </a:cubicBezTo>
                <a:cubicBezTo>
                  <a:pt x="18022" y="9193"/>
                  <a:pt x="18085" y="9305"/>
                  <a:pt x="18098" y="9398"/>
                </a:cubicBezTo>
                <a:cubicBezTo>
                  <a:pt x="18110" y="9481"/>
                  <a:pt x="18113" y="9595"/>
                  <a:pt x="18224" y="9620"/>
                </a:cubicBezTo>
                <a:cubicBezTo>
                  <a:pt x="18301" y="9637"/>
                  <a:pt x="18387" y="9620"/>
                  <a:pt x="18447" y="9588"/>
                </a:cubicBezTo>
                <a:cubicBezTo>
                  <a:pt x="18559" y="9529"/>
                  <a:pt x="18571" y="9498"/>
                  <a:pt x="18637" y="9398"/>
                </a:cubicBezTo>
                <a:cubicBezTo>
                  <a:pt x="18659" y="9366"/>
                  <a:pt x="18682" y="9335"/>
                  <a:pt x="18669" y="9271"/>
                </a:cubicBezTo>
                <a:cubicBezTo>
                  <a:pt x="18663" y="9243"/>
                  <a:pt x="18601" y="9090"/>
                  <a:pt x="18574" y="9080"/>
                </a:cubicBezTo>
                <a:cubicBezTo>
                  <a:pt x="18475" y="9043"/>
                  <a:pt x="18432" y="9089"/>
                  <a:pt x="18383" y="9144"/>
                </a:cubicBezTo>
                <a:cubicBezTo>
                  <a:pt x="18318" y="9217"/>
                  <a:pt x="18323" y="9290"/>
                  <a:pt x="18288" y="9366"/>
                </a:cubicBezTo>
                <a:cubicBezTo>
                  <a:pt x="18250" y="9447"/>
                  <a:pt x="18288" y="9538"/>
                  <a:pt x="18256" y="9620"/>
                </a:cubicBezTo>
                <a:cubicBezTo>
                  <a:pt x="18223" y="9705"/>
                  <a:pt x="18235" y="9664"/>
                  <a:pt x="18256" y="9716"/>
                </a:cubicBezTo>
              </a:path>
              <a:path w="7621" h="3494">
                <a:moveTo>
                  <a:pt x="19209" y="7779"/>
                </a:moveTo>
                <a:cubicBezTo>
                  <a:pt x="19189" y="7784"/>
                  <a:pt x="19174" y="7800"/>
                  <a:pt x="19114" y="7874"/>
                </a:cubicBezTo>
                <a:cubicBezTo>
                  <a:pt x="19032" y="7975"/>
                  <a:pt x="18963" y="8095"/>
                  <a:pt x="18923" y="8223"/>
                </a:cubicBezTo>
                <a:cubicBezTo>
                  <a:pt x="18866" y="8403"/>
                  <a:pt x="18829" y="8581"/>
                  <a:pt x="18796" y="8763"/>
                </a:cubicBezTo>
                <a:cubicBezTo>
                  <a:pt x="18766" y="8928"/>
                  <a:pt x="18752" y="9042"/>
                  <a:pt x="18796" y="9208"/>
                </a:cubicBezTo>
                <a:cubicBezTo>
                  <a:pt x="18823" y="9310"/>
                  <a:pt x="18863" y="9400"/>
                  <a:pt x="18891" y="9493"/>
                </a:cubicBezTo>
                <a:cubicBezTo>
                  <a:pt x="18911" y="9560"/>
                  <a:pt x="18970" y="9604"/>
                  <a:pt x="19018" y="9652"/>
                </a:cubicBezTo>
                <a:cubicBezTo>
                  <a:pt x="19029" y="9663"/>
                  <a:pt x="19039" y="9673"/>
                  <a:pt x="19050" y="9684"/>
                </a:cubicBezTo>
                <a:cubicBezTo>
                  <a:pt x="19090" y="9644"/>
                  <a:pt x="19102" y="9642"/>
                  <a:pt x="19114" y="9557"/>
                </a:cubicBezTo>
              </a:path>
              <a:path w="7621" h="3494">
                <a:moveTo>
                  <a:pt x="19272" y="8223"/>
                </a:moveTo>
                <a:cubicBezTo>
                  <a:pt x="19272" y="8481"/>
                  <a:pt x="19270" y="8734"/>
                  <a:pt x="19304" y="8985"/>
                </a:cubicBezTo>
                <a:cubicBezTo>
                  <a:pt x="19321" y="9107"/>
                  <a:pt x="19304" y="9243"/>
                  <a:pt x="19304" y="9366"/>
                </a:cubicBezTo>
              </a:path>
              <a:path w="7621" h="3494">
                <a:moveTo>
                  <a:pt x="19590" y="8985"/>
                </a:moveTo>
                <a:cubicBezTo>
                  <a:pt x="19547" y="9042"/>
                  <a:pt x="19537" y="9070"/>
                  <a:pt x="19526" y="9144"/>
                </a:cubicBezTo>
              </a:path>
              <a:path w="7621" h="3494">
                <a:moveTo>
                  <a:pt x="19876" y="8350"/>
                </a:moveTo>
                <a:cubicBezTo>
                  <a:pt x="19876" y="8296"/>
                  <a:pt x="19854" y="8225"/>
                  <a:pt x="19907" y="8192"/>
                </a:cubicBezTo>
                <a:cubicBezTo>
                  <a:pt x="19935" y="8175"/>
                  <a:pt x="19966" y="8152"/>
                  <a:pt x="20002" y="8128"/>
                </a:cubicBezTo>
                <a:cubicBezTo>
                  <a:pt x="20036" y="8105"/>
                  <a:pt x="20138" y="8076"/>
                  <a:pt x="20161" y="8128"/>
                </a:cubicBezTo>
                <a:cubicBezTo>
                  <a:pt x="20191" y="8195"/>
                  <a:pt x="20208" y="8338"/>
                  <a:pt x="20193" y="8414"/>
                </a:cubicBezTo>
                <a:cubicBezTo>
                  <a:pt x="20164" y="8566"/>
                  <a:pt x="20081" y="8712"/>
                  <a:pt x="20034" y="8858"/>
                </a:cubicBezTo>
                <a:cubicBezTo>
                  <a:pt x="20000" y="8964"/>
                  <a:pt x="19932" y="9082"/>
                  <a:pt x="19876" y="9176"/>
                </a:cubicBezTo>
                <a:cubicBezTo>
                  <a:pt x="19847" y="9205"/>
                  <a:pt x="19837" y="9211"/>
                  <a:pt x="19844" y="9239"/>
                </a:cubicBezTo>
                <a:cubicBezTo>
                  <a:pt x="19892" y="9223"/>
                  <a:pt x="19871" y="9208"/>
                  <a:pt x="19939" y="9208"/>
                </a:cubicBezTo>
                <a:cubicBezTo>
                  <a:pt x="20021" y="9208"/>
                  <a:pt x="19985" y="9181"/>
                  <a:pt x="20066" y="9208"/>
                </a:cubicBezTo>
                <a:cubicBezTo>
                  <a:pt x="20114" y="9224"/>
                  <a:pt x="20153" y="9235"/>
                  <a:pt x="20193" y="9271"/>
                </a:cubicBezTo>
                <a:cubicBezTo>
                  <a:pt x="20222" y="9300"/>
                  <a:pt x="20228" y="9310"/>
                  <a:pt x="20256" y="9303"/>
                </a:cubicBezTo>
              </a:path>
              <a:path w="7621" h="3494">
                <a:moveTo>
                  <a:pt x="20860" y="8033"/>
                </a:moveTo>
                <a:cubicBezTo>
                  <a:pt x="20802" y="8090"/>
                  <a:pt x="20758" y="8082"/>
                  <a:pt x="20701" y="8128"/>
                </a:cubicBezTo>
                <a:cubicBezTo>
                  <a:pt x="20654" y="8166"/>
                  <a:pt x="20635" y="8160"/>
                  <a:pt x="20574" y="8160"/>
                </a:cubicBezTo>
                <a:cubicBezTo>
                  <a:pt x="20532" y="8160"/>
                  <a:pt x="20506" y="8159"/>
                  <a:pt x="20479" y="8192"/>
                </a:cubicBezTo>
                <a:cubicBezTo>
                  <a:pt x="20466" y="8209"/>
                  <a:pt x="20450" y="8396"/>
                  <a:pt x="20447" y="8414"/>
                </a:cubicBezTo>
                <a:cubicBezTo>
                  <a:pt x="20434" y="8491"/>
                  <a:pt x="20415" y="8555"/>
                  <a:pt x="20415" y="8636"/>
                </a:cubicBezTo>
                <a:cubicBezTo>
                  <a:pt x="20415" y="8706"/>
                  <a:pt x="20423" y="8707"/>
                  <a:pt x="20447" y="8636"/>
                </a:cubicBezTo>
                <a:cubicBezTo>
                  <a:pt x="20464" y="8586"/>
                  <a:pt x="20507" y="8524"/>
                  <a:pt x="20542" y="8477"/>
                </a:cubicBezTo>
                <a:cubicBezTo>
                  <a:pt x="20564" y="8449"/>
                  <a:pt x="20633" y="8426"/>
                  <a:pt x="20669" y="8446"/>
                </a:cubicBezTo>
                <a:cubicBezTo>
                  <a:pt x="20751" y="8491"/>
                  <a:pt x="20740" y="8565"/>
                  <a:pt x="20764" y="8636"/>
                </a:cubicBezTo>
                <a:cubicBezTo>
                  <a:pt x="20793" y="8724"/>
                  <a:pt x="20845" y="8800"/>
                  <a:pt x="20860" y="8890"/>
                </a:cubicBezTo>
                <a:cubicBezTo>
                  <a:pt x="20873" y="8966"/>
                  <a:pt x="20852" y="9020"/>
                  <a:pt x="20828" y="9080"/>
                </a:cubicBezTo>
                <a:cubicBezTo>
                  <a:pt x="20777" y="9207"/>
                  <a:pt x="20769" y="9195"/>
                  <a:pt x="20669" y="9271"/>
                </a:cubicBezTo>
                <a:cubicBezTo>
                  <a:pt x="20593" y="9329"/>
                  <a:pt x="20531" y="9316"/>
                  <a:pt x="20447" y="9303"/>
                </a:cubicBezTo>
                <a:cubicBezTo>
                  <a:pt x="20436" y="9303"/>
                  <a:pt x="20426" y="9303"/>
                  <a:pt x="20415" y="9303"/>
                </a:cubicBezTo>
              </a:path>
              <a:path w="7621" h="3494">
                <a:moveTo>
                  <a:pt x="20796" y="7556"/>
                </a:moveTo>
                <a:cubicBezTo>
                  <a:pt x="20853" y="7588"/>
                  <a:pt x="20909" y="7619"/>
                  <a:pt x="20955" y="7684"/>
                </a:cubicBezTo>
                <a:cubicBezTo>
                  <a:pt x="21032" y="7792"/>
                  <a:pt x="21106" y="7887"/>
                  <a:pt x="21177" y="8001"/>
                </a:cubicBezTo>
                <a:cubicBezTo>
                  <a:pt x="21294" y="8188"/>
                  <a:pt x="21331" y="8318"/>
                  <a:pt x="21336" y="8541"/>
                </a:cubicBezTo>
                <a:cubicBezTo>
                  <a:pt x="21341" y="8754"/>
                  <a:pt x="21322" y="8937"/>
                  <a:pt x="21272" y="9144"/>
                </a:cubicBezTo>
                <a:cubicBezTo>
                  <a:pt x="21239" y="9279"/>
                  <a:pt x="21174" y="9399"/>
                  <a:pt x="21114" y="9525"/>
                </a:cubicBezTo>
                <a:cubicBezTo>
                  <a:pt x="21052" y="9655"/>
                  <a:pt x="21062" y="9560"/>
                  <a:pt x="21018" y="9525"/>
                </a:cubicBezTo>
              </a:path>
              <a:path w="7621" h="3494">
                <a:moveTo>
                  <a:pt x="21654" y="8700"/>
                </a:moveTo>
                <a:cubicBezTo>
                  <a:pt x="21654" y="8710"/>
                  <a:pt x="21654" y="8721"/>
                  <a:pt x="21654" y="8731"/>
                </a:cubicBezTo>
                <a:cubicBezTo>
                  <a:pt x="21834" y="8731"/>
                  <a:pt x="22013" y="8731"/>
                  <a:pt x="22193" y="8731"/>
                </a:cubicBezTo>
              </a:path>
              <a:path w="7621" h="3494">
                <a:moveTo>
                  <a:pt x="22447" y="8128"/>
                </a:moveTo>
                <a:cubicBezTo>
                  <a:pt x="22492" y="8188"/>
                  <a:pt x="22479" y="8239"/>
                  <a:pt x="22479" y="8318"/>
                </a:cubicBezTo>
                <a:cubicBezTo>
                  <a:pt x="22479" y="8361"/>
                  <a:pt x="22504" y="8474"/>
                  <a:pt x="22479" y="8414"/>
                </a:cubicBezTo>
                <a:cubicBezTo>
                  <a:pt x="22446" y="8336"/>
                  <a:pt x="22447" y="8308"/>
                  <a:pt x="22447" y="8223"/>
                </a:cubicBezTo>
                <a:cubicBezTo>
                  <a:pt x="22447" y="8160"/>
                  <a:pt x="22447" y="8096"/>
                  <a:pt x="22447" y="8033"/>
                </a:cubicBezTo>
                <a:cubicBezTo>
                  <a:pt x="22505" y="8033"/>
                  <a:pt x="22522" y="8058"/>
                  <a:pt x="22574" y="8064"/>
                </a:cubicBezTo>
                <a:cubicBezTo>
                  <a:pt x="22643" y="8071"/>
                  <a:pt x="22692" y="8092"/>
                  <a:pt x="22765" y="8096"/>
                </a:cubicBezTo>
                <a:cubicBezTo>
                  <a:pt x="22868" y="8101"/>
                  <a:pt x="23002" y="8064"/>
                  <a:pt x="23082" y="8128"/>
                </a:cubicBezTo>
                <a:cubicBezTo>
                  <a:pt x="23127" y="8164"/>
                  <a:pt x="23127" y="8297"/>
                  <a:pt x="23114" y="8350"/>
                </a:cubicBezTo>
                <a:cubicBezTo>
                  <a:pt x="23085" y="8466"/>
                  <a:pt x="23078" y="8585"/>
                  <a:pt x="23050" y="8700"/>
                </a:cubicBezTo>
                <a:cubicBezTo>
                  <a:pt x="23022" y="8813"/>
                  <a:pt x="23013" y="8934"/>
                  <a:pt x="22987" y="9049"/>
                </a:cubicBezTo>
                <a:cubicBezTo>
                  <a:pt x="22963" y="9157"/>
                  <a:pt x="22947" y="9261"/>
                  <a:pt x="22924" y="9366"/>
                </a:cubicBezTo>
                <a:cubicBezTo>
                  <a:pt x="22913" y="9408"/>
                  <a:pt x="22903" y="9451"/>
                  <a:pt x="22892" y="94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Ink 12"/>
          <p:cNvSpPr/>
          <p:nvPr/>
        </p:nvSpPr>
        <p:spPr>
          <a:xfrm>
            <a:off x="1736640" y="4240080"/>
            <a:ext cx="1978200" cy="927360"/>
          </a:xfrm>
          <a:custGeom>
            <a:avLst/>
            <a:gdLst/>
            <a:ahLst/>
            <a:rect l="l" t="t" r="r" b="b"/>
            <a:pathLst>
              <a:path w="5494" h="2573">
                <a:moveTo>
                  <a:pt x="4890" y="12002"/>
                </a:moveTo>
                <a:cubicBezTo>
                  <a:pt x="4890" y="11936"/>
                  <a:pt x="4884" y="11934"/>
                  <a:pt x="4921" y="11906"/>
                </a:cubicBezTo>
                <a:cubicBezTo>
                  <a:pt x="4960" y="11877"/>
                  <a:pt x="5003" y="11821"/>
                  <a:pt x="5048" y="11811"/>
                </a:cubicBezTo>
                <a:cubicBezTo>
                  <a:pt x="5124" y="11795"/>
                  <a:pt x="5190" y="11779"/>
                  <a:pt x="5270" y="11779"/>
                </a:cubicBezTo>
                <a:cubicBezTo>
                  <a:pt x="5314" y="11779"/>
                  <a:pt x="5406" y="11797"/>
                  <a:pt x="5429" y="11843"/>
                </a:cubicBezTo>
                <a:cubicBezTo>
                  <a:pt x="5457" y="11900"/>
                  <a:pt x="5454" y="11937"/>
                  <a:pt x="5429" y="12002"/>
                </a:cubicBezTo>
                <a:cubicBezTo>
                  <a:pt x="5387" y="12109"/>
                  <a:pt x="5368" y="12158"/>
                  <a:pt x="5302" y="12256"/>
                </a:cubicBezTo>
                <a:cubicBezTo>
                  <a:pt x="5242" y="12345"/>
                  <a:pt x="5186" y="12432"/>
                  <a:pt x="5112" y="12510"/>
                </a:cubicBezTo>
                <a:cubicBezTo>
                  <a:pt x="5043" y="12583"/>
                  <a:pt x="4993" y="12634"/>
                  <a:pt x="4921" y="12700"/>
                </a:cubicBezTo>
                <a:cubicBezTo>
                  <a:pt x="4881" y="12736"/>
                  <a:pt x="4807" y="12764"/>
                  <a:pt x="4858" y="12764"/>
                </a:cubicBezTo>
                <a:cubicBezTo>
                  <a:pt x="4914" y="12764"/>
                  <a:pt x="4947" y="12709"/>
                  <a:pt x="5016" y="12732"/>
                </a:cubicBezTo>
                <a:cubicBezTo>
                  <a:pt x="5078" y="12753"/>
                  <a:pt x="5160" y="12757"/>
                  <a:pt x="5207" y="12795"/>
                </a:cubicBezTo>
                <a:cubicBezTo>
                  <a:pt x="5249" y="12828"/>
                  <a:pt x="5314" y="12853"/>
                  <a:pt x="5366" y="12859"/>
                </a:cubicBezTo>
                <a:cubicBezTo>
                  <a:pt x="5377" y="12859"/>
                  <a:pt x="5387" y="12859"/>
                  <a:pt x="5398" y="12859"/>
                </a:cubicBezTo>
              </a:path>
              <a:path w="5494" h="2573">
                <a:moveTo>
                  <a:pt x="5937" y="11874"/>
                </a:moveTo>
                <a:cubicBezTo>
                  <a:pt x="5872" y="11891"/>
                  <a:pt x="5838" y="11935"/>
                  <a:pt x="5810" y="12002"/>
                </a:cubicBezTo>
                <a:cubicBezTo>
                  <a:pt x="5761" y="12121"/>
                  <a:pt x="5700" y="12254"/>
                  <a:pt x="5683" y="12382"/>
                </a:cubicBezTo>
                <a:cubicBezTo>
                  <a:pt x="5665" y="12518"/>
                  <a:pt x="5640" y="12635"/>
                  <a:pt x="5683" y="12764"/>
                </a:cubicBezTo>
                <a:cubicBezTo>
                  <a:pt x="5714" y="12858"/>
                  <a:pt x="5701" y="12915"/>
                  <a:pt x="5810" y="12922"/>
                </a:cubicBezTo>
                <a:cubicBezTo>
                  <a:pt x="5931" y="12930"/>
                  <a:pt x="5957" y="12825"/>
                  <a:pt x="6001" y="12732"/>
                </a:cubicBezTo>
                <a:cubicBezTo>
                  <a:pt x="6060" y="12607"/>
                  <a:pt x="6091" y="12489"/>
                  <a:pt x="6096" y="12351"/>
                </a:cubicBezTo>
                <a:cubicBezTo>
                  <a:pt x="6100" y="12252"/>
                  <a:pt x="6067" y="12140"/>
                  <a:pt x="6001" y="12065"/>
                </a:cubicBezTo>
                <a:cubicBezTo>
                  <a:pt x="5993" y="12056"/>
                  <a:pt x="5912" y="11923"/>
                  <a:pt x="5874" y="11970"/>
                </a:cubicBezTo>
                <a:cubicBezTo>
                  <a:pt x="5874" y="11981"/>
                  <a:pt x="5874" y="11991"/>
                  <a:pt x="5874" y="12002"/>
                </a:cubicBezTo>
              </a:path>
              <a:path w="5494" h="2573">
                <a:moveTo>
                  <a:pt x="6286" y="12128"/>
                </a:moveTo>
                <a:cubicBezTo>
                  <a:pt x="6286" y="12190"/>
                  <a:pt x="6299" y="12264"/>
                  <a:pt x="6318" y="12319"/>
                </a:cubicBezTo>
                <a:cubicBezTo>
                  <a:pt x="6358" y="12439"/>
                  <a:pt x="6433" y="12521"/>
                  <a:pt x="6477" y="12636"/>
                </a:cubicBezTo>
                <a:cubicBezTo>
                  <a:pt x="6513" y="12730"/>
                  <a:pt x="6545" y="12838"/>
                  <a:pt x="6604" y="12922"/>
                </a:cubicBezTo>
                <a:cubicBezTo>
                  <a:pt x="6635" y="12966"/>
                  <a:pt x="6646" y="13020"/>
                  <a:pt x="6668" y="12954"/>
                </a:cubicBezTo>
              </a:path>
              <a:path w="5494" h="2573">
                <a:moveTo>
                  <a:pt x="6668" y="12224"/>
                </a:moveTo>
                <a:cubicBezTo>
                  <a:pt x="6630" y="12274"/>
                  <a:pt x="6613" y="12327"/>
                  <a:pt x="6572" y="12382"/>
                </a:cubicBezTo>
                <a:cubicBezTo>
                  <a:pt x="6509" y="12465"/>
                  <a:pt x="6447" y="12555"/>
                  <a:pt x="6382" y="12636"/>
                </a:cubicBezTo>
                <a:cubicBezTo>
                  <a:pt x="6323" y="12709"/>
                  <a:pt x="6259" y="12831"/>
                  <a:pt x="6191" y="12890"/>
                </a:cubicBezTo>
                <a:cubicBezTo>
                  <a:pt x="6132" y="12942"/>
                  <a:pt x="6114" y="12913"/>
                  <a:pt x="6096" y="12986"/>
                </a:cubicBezTo>
              </a:path>
              <a:path w="5494" h="2573">
                <a:moveTo>
                  <a:pt x="7048" y="12382"/>
                </a:moveTo>
                <a:cubicBezTo>
                  <a:pt x="6987" y="12382"/>
                  <a:pt x="7075" y="12412"/>
                  <a:pt x="7112" y="12414"/>
                </a:cubicBezTo>
                <a:cubicBezTo>
                  <a:pt x="7211" y="12420"/>
                  <a:pt x="7302" y="12463"/>
                  <a:pt x="7398" y="12478"/>
                </a:cubicBezTo>
                <a:cubicBezTo>
                  <a:pt x="7419" y="12478"/>
                  <a:pt x="7440" y="12478"/>
                  <a:pt x="7461" y="12478"/>
                </a:cubicBezTo>
              </a:path>
              <a:path w="5494" h="2573">
                <a:moveTo>
                  <a:pt x="7684" y="12160"/>
                </a:moveTo>
                <a:cubicBezTo>
                  <a:pt x="7684" y="12075"/>
                  <a:pt x="7688" y="12036"/>
                  <a:pt x="7747" y="11970"/>
                </a:cubicBezTo>
                <a:cubicBezTo>
                  <a:pt x="7794" y="11918"/>
                  <a:pt x="7834" y="11881"/>
                  <a:pt x="7906" y="11874"/>
                </a:cubicBezTo>
                <a:cubicBezTo>
                  <a:pt x="7938" y="11874"/>
                  <a:pt x="7948" y="11874"/>
                  <a:pt x="7969" y="11874"/>
                </a:cubicBezTo>
                <a:cubicBezTo>
                  <a:pt x="7969" y="11967"/>
                  <a:pt x="7976" y="12043"/>
                  <a:pt x="7938" y="12128"/>
                </a:cubicBezTo>
                <a:cubicBezTo>
                  <a:pt x="7896" y="12224"/>
                  <a:pt x="7867" y="12359"/>
                  <a:pt x="7810" y="12446"/>
                </a:cubicBezTo>
                <a:cubicBezTo>
                  <a:pt x="7746" y="12542"/>
                  <a:pt x="7685" y="12636"/>
                  <a:pt x="7620" y="12732"/>
                </a:cubicBezTo>
                <a:cubicBezTo>
                  <a:pt x="7574" y="12801"/>
                  <a:pt x="7553" y="12862"/>
                  <a:pt x="7493" y="12922"/>
                </a:cubicBezTo>
                <a:cubicBezTo>
                  <a:pt x="7550" y="12908"/>
                  <a:pt x="7583" y="12890"/>
                  <a:pt x="7652" y="12890"/>
                </a:cubicBezTo>
                <a:cubicBezTo>
                  <a:pt x="7717" y="12890"/>
                  <a:pt x="7762" y="12926"/>
                  <a:pt x="7810" y="12954"/>
                </a:cubicBezTo>
                <a:cubicBezTo>
                  <a:pt x="7861" y="12984"/>
                  <a:pt x="7943" y="13014"/>
                  <a:pt x="8001" y="13018"/>
                </a:cubicBezTo>
                <a:cubicBezTo>
                  <a:pt x="8054" y="13018"/>
                  <a:pt x="8064" y="13018"/>
                  <a:pt x="8096" y="13018"/>
                </a:cubicBezTo>
              </a:path>
              <a:path w="5494" h="2573">
                <a:moveTo>
                  <a:pt x="8446" y="11874"/>
                </a:moveTo>
                <a:cubicBezTo>
                  <a:pt x="8446" y="11957"/>
                  <a:pt x="8418" y="12016"/>
                  <a:pt x="8414" y="12097"/>
                </a:cubicBezTo>
                <a:cubicBezTo>
                  <a:pt x="8408" y="12239"/>
                  <a:pt x="8382" y="12364"/>
                  <a:pt x="8382" y="12510"/>
                </a:cubicBezTo>
                <a:cubicBezTo>
                  <a:pt x="8382" y="12660"/>
                  <a:pt x="8350" y="12801"/>
                  <a:pt x="8350" y="12954"/>
                </a:cubicBezTo>
                <a:cubicBezTo>
                  <a:pt x="8350" y="13023"/>
                  <a:pt x="8324" y="13125"/>
                  <a:pt x="8382" y="13144"/>
                </a:cubicBezTo>
              </a:path>
              <a:path w="5494" h="2573">
                <a:moveTo>
                  <a:pt x="8763" y="12478"/>
                </a:moveTo>
                <a:cubicBezTo>
                  <a:pt x="8774" y="12478"/>
                  <a:pt x="8784" y="12478"/>
                  <a:pt x="8795" y="12478"/>
                </a:cubicBezTo>
                <a:cubicBezTo>
                  <a:pt x="8816" y="12435"/>
                  <a:pt x="8863" y="12386"/>
                  <a:pt x="8922" y="12382"/>
                </a:cubicBezTo>
                <a:cubicBezTo>
                  <a:pt x="9000" y="12376"/>
                  <a:pt x="9051" y="12402"/>
                  <a:pt x="9112" y="12414"/>
                </a:cubicBezTo>
                <a:cubicBezTo>
                  <a:pt x="9133" y="12414"/>
                  <a:pt x="9155" y="12414"/>
                  <a:pt x="9176" y="12414"/>
                </a:cubicBezTo>
              </a:path>
              <a:path w="5494" h="2573">
                <a:moveTo>
                  <a:pt x="8890" y="12700"/>
                </a:moveTo>
                <a:cubicBezTo>
                  <a:pt x="9036" y="12700"/>
                  <a:pt x="9201" y="12726"/>
                  <a:pt x="9334" y="12668"/>
                </a:cubicBezTo>
              </a:path>
              <a:path w="5494" h="2573">
                <a:moveTo>
                  <a:pt x="9811" y="12033"/>
                </a:moveTo>
                <a:cubicBezTo>
                  <a:pt x="9800" y="12089"/>
                  <a:pt x="9795" y="12169"/>
                  <a:pt x="9779" y="12224"/>
                </a:cubicBezTo>
                <a:cubicBezTo>
                  <a:pt x="9750" y="12323"/>
                  <a:pt x="9747" y="12402"/>
                  <a:pt x="9747" y="12510"/>
                </a:cubicBezTo>
                <a:cubicBezTo>
                  <a:pt x="9747" y="12573"/>
                  <a:pt x="9747" y="12637"/>
                  <a:pt x="9747" y="12700"/>
                </a:cubicBezTo>
                <a:cubicBezTo>
                  <a:pt x="9797" y="12688"/>
                  <a:pt x="9817" y="12668"/>
                  <a:pt x="9874" y="12668"/>
                </a:cubicBezTo>
                <a:cubicBezTo>
                  <a:pt x="9927" y="12668"/>
                  <a:pt x="9988" y="12708"/>
                  <a:pt x="10033" y="12732"/>
                </a:cubicBezTo>
                <a:cubicBezTo>
                  <a:pt x="10112" y="12775"/>
                  <a:pt x="10133" y="12795"/>
                  <a:pt x="10224" y="12795"/>
                </a:cubicBezTo>
                <a:cubicBezTo>
                  <a:pt x="10268" y="12795"/>
                  <a:pt x="10291" y="12789"/>
                  <a:pt x="10319" y="12764"/>
                </a:cubicBezTo>
              </a:path>
              <a:path w="5494" h="2573">
                <a:moveTo>
                  <a:pt x="10224" y="12065"/>
                </a:moveTo>
                <a:cubicBezTo>
                  <a:pt x="10152" y="12101"/>
                  <a:pt x="10136" y="12230"/>
                  <a:pt x="10128" y="12319"/>
                </a:cubicBezTo>
                <a:cubicBezTo>
                  <a:pt x="10110" y="12507"/>
                  <a:pt x="10100" y="12702"/>
                  <a:pt x="10096" y="12890"/>
                </a:cubicBezTo>
                <a:cubicBezTo>
                  <a:pt x="10092" y="13076"/>
                  <a:pt x="10064" y="13247"/>
                  <a:pt x="10033" y="13430"/>
                </a:cubicBezTo>
              </a:path>
              <a:path w="5494" h="2573">
                <a:moveTo>
                  <a:pt x="7112" y="13303"/>
                </a:moveTo>
                <a:cubicBezTo>
                  <a:pt x="7112" y="13398"/>
                  <a:pt x="7123" y="13469"/>
                  <a:pt x="7144" y="13557"/>
                </a:cubicBezTo>
                <a:cubicBezTo>
                  <a:pt x="7175" y="13690"/>
                  <a:pt x="7144" y="13864"/>
                  <a:pt x="7144" y="14002"/>
                </a:cubicBezTo>
              </a:path>
              <a:path w="5494" h="2573">
                <a:moveTo>
                  <a:pt x="6985" y="13494"/>
                </a:moveTo>
                <a:cubicBezTo>
                  <a:pt x="6974" y="13494"/>
                  <a:pt x="6964" y="13494"/>
                  <a:pt x="6953" y="13494"/>
                </a:cubicBezTo>
                <a:cubicBezTo>
                  <a:pt x="7017" y="13510"/>
                  <a:pt x="7043" y="13566"/>
                  <a:pt x="7112" y="13589"/>
                </a:cubicBezTo>
                <a:cubicBezTo>
                  <a:pt x="7178" y="13611"/>
                  <a:pt x="7230" y="13621"/>
                  <a:pt x="7302" y="13621"/>
                </a:cubicBezTo>
              </a:path>
              <a:path w="5494" h="2573">
                <a:moveTo>
                  <a:pt x="7493" y="13367"/>
                </a:moveTo>
                <a:cubicBezTo>
                  <a:pt x="7493" y="13290"/>
                  <a:pt x="7505" y="13306"/>
                  <a:pt x="7556" y="13272"/>
                </a:cubicBezTo>
                <a:cubicBezTo>
                  <a:pt x="7618" y="13231"/>
                  <a:pt x="7618" y="13228"/>
                  <a:pt x="7652" y="13272"/>
                </a:cubicBezTo>
                <a:cubicBezTo>
                  <a:pt x="7688" y="13319"/>
                  <a:pt x="7706" y="13396"/>
                  <a:pt x="7684" y="13462"/>
                </a:cubicBezTo>
                <a:cubicBezTo>
                  <a:pt x="7662" y="13529"/>
                  <a:pt x="7619" y="13615"/>
                  <a:pt x="7588" y="13684"/>
                </a:cubicBezTo>
                <a:cubicBezTo>
                  <a:pt x="7563" y="13739"/>
                  <a:pt x="7521" y="13829"/>
                  <a:pt x="7493" y="13875"/>
                </a:cubicBezTo>
                <a:cubicBezTo>
                  <a:pt x="7461" y="13927"/>
                  <a:pt x="7416" y="13975"/>
                  <a:pt x="7398" y="13938"/>
                </a:cubicBezTo>
                <a:cubicBezTo>
                  <a:pt x="7487" y="13938"/>
                  <a:pt x="7428" y="13922"/>
                  <a:pt x="7493" y="13938"/>
                </a:cubicBezTo>
                <a:cubicBezTo>
                  <a:pt x="7538" y="13949"/>
                  <a:pt x="7578" y="13965"/>
                  <a:pt x="7620" y="13970"/>
                </a:cubicBezTo>
                <a:cubicBezTo>
                  <a:pt x="7665" y="13975"/>
                  <a:pt x="7703" y="13993"/>
                  <a:pt x="7747" y="14002"/>
                </a:cubicBezTo>
              </a:path>
              <a:path w="5494" h="2573">
                <a:moveTo>
                  <a:pt x="7969" y="13367"/>
                </a:moveTo>
                <a:cubicBezTo>
                  <a:pt x="7969" y="13570"/>
                  <a:pt x="7981" y="13777"/>
                  <a:pt x="7938" y="13970"/>
                </a:cubicBezTo>
                <a:cubicBezTo>
                  <a:pt x="7938" y="13981"/>
                  <a:pt x="7938" y="13991"/>
                  <a:pt x="7938" y="14002"/>
                </a:cubicBezTo>
              </a:path>
              <a:path w="5494" h="2573">
                <a:moveTo>
                  <a:pt x="9462" y="13494"/>
                </a:moveTo>
                <a:cubicBezTo>
                  <a:pt x="9462" y="13569"/>
                  <a:pt x="9453" y="13648"/>
                  <a:pt x="9430" y="13716"/>
                </a:cubicBezTo>
                <a:cubicBezTo>
                  <a:pt x="9406" y="13789"/>
                  <a:pt x="9374" y="13862"/>
                  <a:pt x="9366" y="13938"/>
                </a:cubicBezTo>
                <a:cubicBezTo>
                  <a:pt x="9363" y="13969"/>
                  <a:pt x="9366" y="14003"/>
                  <a:pt x="9366" y="14034"/>
                </a:cubicBezTo>
              </a:path>
              <a:path w="5494" h="2573">
                <a:moveTo>
                  <a:pt x="9271" y="13652"/>
                </a:moveTo>
                <a:cubicBezTo>
                  <a:pt x="9271" y="13663"/>
                  <a:pt x="9271" y="13673"/>
                  <a:pt x="9271" y="13684"/>
                </a:cubicBezTo>
                <a:cubicBezTo>
                  <a:pt x="9302" y="13692"/>
                  <a:pt x="9370" y="13701"/>
                  <a:pt x="9398" y="13716"/>
                </a:cubicBezTo>
                <a:cubicBezTo>
                  <a:pt x="9447" y="13743"/>
                  <a:pt x="9463" y="13748"/>
                  <a:pt x="9525" y="13748"/>
                </a:cubicBezTo>
              </a:path>
              <a:path w="5494" h="2573">
                <a:moveTo>
                  <a:pt x="9684" y="13621"/>
                </a:moveTo>
                <a:cubicBezTo>
                  <a:pt x="9684" y="13589"/>
                  <a:pt x="9684" y="13578"/>
                  <a:pt x="9684" y="13557"/>
                </a:cubicBezTo>
                <a:cubicBezTo>
                  <a:pt x="9756" y="13557"/>
                  <a:pt x="9784" y="13569"/>
                  <a:pt x="9842" y="13589"/>
                </a:cubicBezTo>
                <a:cubicBezTo>
                  <a:pt x="9879" y="13601"/>
                  <a:pt x="9900" y="13632"/>
                  <a:pt x="9906" y="13684"/>
                </a:cubicBezTo>
                <a:cubicBezTo>
                  <a:pt x="9911" y="13726"/>
                  <a:pt x="9868" y="13781"/>
                  <a:pt x="9842" y="13811"/>
                </a:cubicBezTo>
                <a:cubicBezTo>
                  <a:pt x="9794" y="13866"/>
                  <a:pt x="9751" y="13918"/>
                  <a:pt x="9716" y="13970"/>
                </a:cubicBezTo>
                <a:cubicBezTo>
                  <a:pt x="9706" y="13985"/>
                  <a:pt x="9650" y="14070"/>
                  <a:pt x="9684" y="14097"/>
                </a:cubicBezTo>
                <a:cubicBezTo>
                  <a:pt x="9696" y="14107"/>
                  <a:pt x="9793" y="14156"/>
                  <a:pt x="9811" y="14160"/>
                </a:cubicBezTo>
                <a:cubicBezTo>
                  <a:pt x="9875" y="14173"/>
                  <a:pt x="9894" y="14161"/>
                  <a:pt x="9938" y="14129"/>
                </a:cubicBezTo>
              </a:path>
              <a:path w="5494" h="2573">
                <a:moveTo>
                  <a:pt x="10160" y="13621"/>
                </a:moveTo>
                <a:cubicBezTo>
                  <a:pt x="10160" y="13713"/>
                  <a:pt x="10139" y="13790"/>
                  <a:pt x="10128" y="13875"/>
                </a:cubicBezTo>
                <a:cubicBezTo>
                  <a:pt x="10108" y="14028"/>
                  <a:pt x="10128" y="14196"/>
                  <a:pt x="10128" y="14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Ink 13"/>
          <p:cNvSpPr/>
          <p:nvPr/>
        </p:nvSpPr>
        <p:spPr>
          <a:xfrm>
            <a:off x="2022480" y="5315040"/>
            <a:ext cx="1201680" cy="377640"/>
          </a:xfrm>
          <a:custGeom>
            <a:avLst/>
            <a:gdLst/>
            <a:ahLst/>
            <a:rect l="l" t="t" r="r" b="b"/>
            <a:pathLst>
              <a:path w="3335" h="1049">
                <a:moveTo>
                  <a:pt x="5747" y="14827"/>
                </a:moveTo>
                <a:cubicBezTo>
                  <a:pt x="5785" y="14798"/>
                  <a:pt x="5825" y="14768"/>
                  <a:pt x="5874" y="14764"/>
                </a:cubicBezTo>
                <a:cubicBezTo>
                  <a:pt x="5954" y="14758"/>
                  <a:pt x="5999" y="14777"/>
                  <a:pt x="6064" y="14796"/>
                </a:cubicBezTo>
                <a:cubicBezTo>
                  <a:pt x="6101" y="14807"/>
                  <a:pt x="6161" y="14833"/>
                  <a:pt x="6128" y="14891"/>
                </a:cubicBezTo>
                <a:cubicBezTo>
                  <a:pt x="6094" y="14951"/>
                  <a:pt x="6019" y="14980"/>
                  <a:pt x="5969" y="15018"/>
                </a:cubicBezTo>
                <a:cubicBezTo>
                  <a:pt x="5895" y="15074"/>
                  <a:pt x="5831" y="15128"/>
                  <a:pt x="5778" y="15208"/>
                </a:cubicBezTo>
                <a:cubicBezTo>
                  <a:pt x="5735" y="15273"/>
                  <a:pt x="5705" y="15341"/>
                  <a:pt x="5652" y="15399"/>
                </a:cubicBezTo>
                <a:cubicBezTo>
                  <a:pt x="5623" y="15427"/>
                  <a:pt x="5612" y="15433"/>
                  <a:pt x="5620" y="15462"/>
                </a:cubicBezTo>
                <a:cubicBezTo>
                  <a:pt x="5662" y="15452"/>
                  <a:pt x="5741" y="15417"/>
                  <a:pt x="5778" y="15399"/>
                </a:cubicBezTo>
                <a:cubicBezTo>
                  <a:pt x="5838" y="15369"/>
                  <a:pt x="5860" y="15367"/>
                  <a:pt x="5937" y="15367"/>
                </a:cubicBezTo>
                <a:cubicBezTo>
                  <a:pt x="5996" y="15367"/>
                  <a:pt x="6012" y="15393"/>
                  <a:pt x="6064" y="15399"/>
                </a:cubicBezTo>
                <a:cubicBezTo>
                  <a:pt x="6075" y="15399"/>
                  <a:pt x="6085" y="15399"/>
                  <a:pt x="6096" y="15399"/>
                </a:cubicBezTo>
              </a:path>
              <a:path w="3335" h="1049">
                <a:moveTo>
                  <a:pt x="6540" y="14891"/>
                </a:moveTo>
                <a:cubicBezTo>
                  <a:pt x="6485" y="14849"/>
                  <a:pt x="6457" y="14855"/>
                  <a:pt x="6414" y="14922"/>
                </a:cubicBezTo>
                <a:cubicBezTo>
                  <a:pt x="6366" y="14997"/>
                  <a:pt x="6269" y="15044"/>
                  <a:pt x="6255" y="15145"/>
                </a:cubicBezTo>
                <a:cubicBezTo>
                  <a:pt x="6244" y="15223"/>
                  <a:pt x="6236" y="15368"/>
                  <a:pt x="6286" y="15430"/>
                </a:cubicBezTo>
                <a:cubicBezTo>
                  <a:pt x="6327" y="15481"/>
                  <a:pt x="6376" y="15517"/>
                  <a:pt x="6445" y="15494"/>
                </a:cubicBezTo>
                <a:cubicBezTo>
                  <a:pt x="6524" y="15467"/>
                  <a:pt x="6586" y="15385"/>
                  <a:pt x="6604" y="15304"/>
                </a:cubicBezTo>
                <a:cubicBezTo>
                  <a:pt x="6625" y="15208"/>
                  <a:pt x="6627" y="15010"/>
                  <a:pt x="6572" y="14922"/>
                </a:cubicBezTo>
                <a:cubicBezTo>
                  <a:pt x="6548" y="14883"/>
                  <a:pt x="6536" y="14865"/>
                  <a:pt x="6509" y="14827"/>
                </a:cubicBezTo>
              </a:path>
              <a:path w="3335" h="1049">
                <a:moveTo>
                  <a:pt x="6731" y="14922"/>
                </a:moveTo>
                <a:cubicBezTo>
                  <a:pt x="6745" y="14964"/>
                  <a:pt x="6764" y="14994"/>
                  <a:pt x="6794" y="15050"/>
                </a:cubicBezTo>
                <a:cubicBezTo>
                  <a:pt x="6843" y="15142"/>
                  <a:pt x="6876" y="15241"/>
                  <a:pt x="6922" y="15335"/>
                </a:cubicBezTo>
                <a:cubicBezTo>
                  <a:pt x="6953" y="15399"/>
                  <a:pt x="6985" y="15462"/>
                  <a:pt x="7017" y="15526"/>
                </a:cubicBezTo>
              </a:path>
              <a:path w="3335" h="1049">
                <a:moveTo>
                  <a:pt x="7080" y="15050"/>
                </a:moveTo>
                <a:cubicBezTo>
                  <a:pt x="7041" y="15078"/>
                  <a:pt x="6977" y="15094"/>
                  <a:pt x="6953" y="15145"/>
                </a:cubicBezTo>
                <a:cubicBezTo>
                  <a:pt x="6921" y="15212"/>
                  <a:pt x="6884" y="15346"/>
                  <a:pt x="6826" y="15399"/>
                </a:cubicBezTo>
                <a:cubicBezTo>
                  <a:pt x="6761" y="15459"/>
                  <a:pt x="6730" y="15520"/>
                  <a:pt x="6668" y="15589"/>
                </a:cubicBezTo>
                <a:cubicBezTo>
                  <a:pt x="6657" y="15600"/>
                  <a:pt x="6647" y="15610"/>
                  <a:pt x="6636" y="15621"/>
                </a:cubicBezTo>
              </a:path>
              <a:path w="3335" h="1049">
                <a:moveTo>
                  <a:pt x="7398" y="14986"/>
                </a:moveTo>
                <a:cubicBezTo>
                  <a:pt x="7466" y="14986"/>
                  <a:pt x="7492" y="15007"/>
                  <a:pt x="7556" y="15018"/>
                </a:cubicBezTo>
                <a:cubicBezTo>
                  <a:pt x="7577" y="15018"/>
                  <a:pt x="7599" y="15018"/>
                  <a:pt x="7620" y="15018"/>
                </a:cubicBezTo>
              </a:path>
              <a:path w="3335" h="1049">
                <a:moveTo>
                  <a:pt x="7302" y="15430"/>
                </a:moveTo>
                <a:cubicBezTo>
                  <a:pt x="7356" y="15471"/>
                  <a:pt x="7389" y="15462"/>
                  <a:pt x="7461" y="15462"/>
                </a:cubicBezTo>
                <a:cubicBezTo>
                  <a:pt x="7514" y="15462"/>
                  <a:pt x="7567" y="15462"/>
                  <a:pt x="7620" y="15462"/>
                </a:cubicBezTo>
              </a:path>
              <a:path w="3335" h="1049">
                <a:moveTo>
                  <a:pt x="8096" y="14859"/>
                </a:moveTo>
                <a:cubicBezTo>
                  <a:pt x="8144" y="14811"/>
                  <a:pt x="8156" y="14796"/>
                  <a:pt x="8223" y="14796"/>
                </a:cubicBezTo>
                <a:cubicBezTo>
                  <a:pt x="8304" y="14796"/>
                  <a:pt x="8319" y="14818"/>
                  <a:pt x="8350" y="14859"/>
                </a:cubicBezTo>
                <a:cubicBezTo>
                  <a:pt x="8387" y="14908"/>
                  <a:pt x="8382" y="14924"/>
                  <a:pt x="8382" y="14986"/>
                </a:cubicBezTo>
                <a:cubicBezTo>
                  <a:pt x="8382" y="15060"/>
                  <a:pt x="8320" y="15142"/>
                  <a:pt x="8287" y="15208"/>
                </a:cubicBezTo>
                <a:cubicBezTo>
                  <a:pt x="8250" y="15283"/>
                  <a:pt x="8210" y="15363"/>
                  <a:pt x="8160" y="15430"/>
                </a:cubicBezTo>
                <a:cubicBezTo>
                  <a:pt x="8126" y="15474"/>
                  <a:pt x="8090" y="15519"/>
                  <a:pt x="8064" y="15558"/>
                </a:cubicBezTo>
                <a:cubicBezTo>
                  <a:pt x="8036" y="15586"/>
                  <a:pt x="8025" y="15593"/>
                  <a:pt x="8033" y="15621"/>
                </a:cubicBezTo>
                <a:cubicBezTo>
                  <a:pt x="8083" y="15608"/>
                  <a:pt x="8103" y="15589"/>
                  <a:pt x="8160" y="15589"/>
                </a:cubicBezTo>
                <a:cubicBezTo>
                  <a:pt x="8232" y="15589"/>
                  <a:pt x="8260" y="15601"/>
                  <a:pt x="8318" y="15621"/>
                </a:cubicBezTo>
                <a:cubicBezTo>
                  <a:pt x="8351" y="15632"/>
                  <a:pt x="8410" y="15621"/>
                  <a:pt x="8446" y="15621"/>
                </a:cubicBezTo>
              </a:path>
              <a:path w="3335" h="1049">
                <a:moveTo>
                  <a:pt x="8954" y="14922"/>
                </a:moveTo>
                <a:cubicBezTo>
                  <a:pt x="8866" y="14922"/>
                  <a:pt x="8733" y="14896"/>
                  <a:pt x="8668" y="14954"/>
                </a:cubicBezTo>
                <a:cubicBezTo>
                  <a:pt x="8622" y="14995"/>
                  <a:pt x="8599" y="15039"/>
                  <a:pt x="8572" y="15081"/>
                </a:cubicBezTo>
                <a:cubicBezTo>
                  <a:pt x="8535" y="15137"/>
                  <a:pt x="8541" y="15167"/>
                  <a:pt x="8541" y="15240"/>
                </a:cubicBezTo>
                <a:cubicBezTo>
                  <a:pt x="8541" y="15276"/>
                  <a:pt x="8544" y="15290"/>
                  <a:pt x="8572" y="15304"/>
                </a:cubicBezTo>
                <a:cubicBezTo>
                  <a:pt x="8582" y="15275"/>
                  <a:pt x="8627" y="15254"/>
                  <a:pt x="8668" y="15240"/>
                </a:cubicBezTo>
                <a:cubicBezTo>
                  <a:pt x="8732" y="15219"/>
                  <a:pt x="8779" y="15256"/>
                  <a:pt x="8826" y="15272"/>
                </a:cubicBezTo>
                <a:cubicBezTo>
                  <a:pt x="8877" y="15289"/>
                  <a:pt x="8915" y="15305"/>
                  <a:pt x="8922" y="15367"/>
                </a:cubicBezTo>
                <a:cubicBezTo>
                  <a:pt x="8930" y="15443"/>
                  <a:pt x="8929" y="15506"/>
                  <a:pt x="8922" y="15558"/>
                </a:cubicBezTo>
                <a:cubicBezTo>
                  <a:pt x="8909" y="15656"/>
                  <a:pt x="8931" y="15675"/>
                  <a:pt x="8858" y="15748"/>
                </a:cubicBezTo>
                <a:cubicBezTo>
                  <a:pt x="8804" y="15802"/>
                  <a:pt x="8743" y="15786"/>
                  <a:pt x="8700" y="15780"/>
                </a:cubicBezTo>
                <a:cubicBezTo>
                  <a:pt x="8602" y="15766"/>
                  <a:pt x="8624" y="15754"/>
                  <a:pt x="8572" y="15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Ink 14"/>
          <p:cNvSpPr/>
          <p:nvPr/>
        </p:nvSpPr>
        <p:spPr>
          <a:xfrm>
            <a:off x="6012000" y="4046400"/>
            <a:ext cx="457200" cy="835200"/>
          </a:xfrm>
          <a:custGeom>
            <a:avLst/>
            <a:gdLst/>
            <a:ahLst/>
            <a:rect l="l" t="t" r="r" b="b"/>
            <a:pathLst>
              <a:path w="1271" h="2318">
                <a:moveTo>
                  <a:pt x="16764" y="11240"/>
                </a:moveTo>
                <a:cubicBezTo>
                  <a:pt x="16756" y="11331"/>
                  <a:pt x="16736" y="11402"/>
                  <a:pt x="16732" y="11494"/>
                </a:cubicBezTo>
                <a:cubicBezTo>
                  <a:pt x="16726" y="11618"/>
                  <a:pt x="16753" y="11725"/>
                  <a:pt x="16764" y="11843"/>
                </a:cubicBezTo>
                <a:cubicBezTo>
                  <a:pt x="16777" y="11980"/>
                  <a:pt x="16760" y="12124"/>
                  <a:pt x="16796" y="12256"/>
                </a:cubicBezTo>
                <a:cubicBezTo>
                  <a:pt x="16821" y="12347"/>
                  <a:pt x="16823" y="12410"/>
                  <a:pt x="16891" y="12478"/>
                </a:cubicBezTo>
                <a:cubicBezTo>
                  <a:pt x="16902" y="12489"/>
                  <a:pt x="16912" y="12499"/>
                  <a:pt x="16923" y="12510"/>
                </a:cubicBezTo>
                <a:cubicBezTo>
                  <a:pt x="16987" y="12473"/>
                  <a:pt x="17008" y="12460"/>
                  <a:pt x="17050" y="12382"/>
                </a:cubicBezTo>
                <a:cubicBezTo>
                  <a:pt x="17121" y="12249"/>
                  <a:pt x="17113" y="12114"/>
                  <a:pt x="17145" y="11970"/>
                </a:cubicBezTo>
                <a:cubicBezTo>
                  <a:pt x="17180" y="11812"/>
                  <a:pt x="17202" y="11655"/>
                  <a:pt x="17208" y="11494"/>
                </a:cubicBezTo>
                <a:cubicBezTo>
                  <a:pt x="17211" y="11421"/>
                  <a:pt x="17211" y="11392"/>
                  <a:pt x="17177" y="11335"/>
                </a:cubicBezTo>
                <a:cubicBezTo>
                  <a:pt x="17177" y="11519"/>
                  <a:pt x="17192" y="11696"/>
                  <a:pt x="17208" y="11874"/>
                </a:cubicBezTo>
                <a:cubicBezTo>
                  <a:pt x="17225" y="12062"/>
                  <a:pt x="17216" y="12260"/>
                  <a:pt x="17240" y="12446"/>
                </a:cubicBezTo>
                <a:cubicBezTo>
                  <a:pt x="17265" y="12638"/>
                  <a:pt x="17245" y="12792"/>
                  <a:pt x="17240" y="12986"/>
                </a:cubicBezTo>
                <a:cubicBezTo>
                  <a:pt x="17236" y="13135"/>
                  <a:pt x="17196" y="13230"/>
                  <a:pt x="17145" y="13367"/>
                </a:cubicBezTo>
                <a:cubicBezTo>
                  <a:pt x="17113" y="13452"/>
                  <a:pt x="17068" y="13577"/>
                  <a:pt x="16954" y="13557"/>
                </a:cubicBezTo>
                <a:cubicBezTo>
                  <a:pt x="16867" y="13542"/>
                  <a:pt x="16802" y="13514"/>
                  <a:pt x="16764" y="13430"/>
                </a:cubicBezTo>
                <a:cubicBezTo>
                  <a:pt x="16732" y="13335"/>
                  <a:pt x="16721" y="13303"/>
                  <a:pt x="16700" y="13240"/>
                </a:cubicBezTo>
              </a:path>
              <a:path w="1271" h="2318">
                <a:moveTo>
                  <a:pt x="17494" y="11557"/>
                </a:moveTo>
                <a:cubicBezTo>
                  <a:pt x="17567" y="11557"/>
                  <a:pt x="17618" y="11530"/>
                  <a:pt x="17685" y="11525"/>
                </a:cubicBezTo>
                <a:cubicBezTo>
                  <a:pt x="17764" y="11520"/>
                  <a:pt x="17791" y="11494"/>
                  <a:pt x="17875" y="11494"/>
                </a:cubicBezTo>
                <a:cubicBezTo>
                  <a:pt x="17911" y="11494"/>
                  <a:pt x="17925" y="11491"/>
                  <a:pt x="17939" y="11462"/>
                </a:cubicBezTo>
              </a:path>
              <a:path w="1271" h="2318">
                <a:moveTo>
                  <a:pt x="17685" y="11906"/>
                </a:moveTo>
                <a:cubicBezTo>
                  <a:pt x="17674" y="11917"/>
                  <a:pt x="17664" y="11927"/>
                  <a:pt x="17653" y="11938"/>
                </a:cubicBezTo>
                <a:cubicBezTo>
                  <a:pt x="17711" y="11938"/>
                  <a:pt x="17728" y="11910"/>
                  <a:pt x="17780" y="11906"/>
                </a:cubicBezTo>
                <a:cubicBezTo>
                  <a:pt x="17855" y="11901"/>
                  <a:pt x="17889" y="11874"/>
                  <a:pt x="17970" y="11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Ink 15"/>
          <p:cNvSpPr/>
          <p:nvPr/>
        </p:nvSpPr>
        <p:spPr>
          <a:xfrm>
            <a:off x="6686640" y="3760920"/>
            <a:ext cx="1303200" cy="663480"/>
          </a:xfrm>
          <a:custGeom>
            <a:avLst/>
            <a:gdLst/>
            <a:ahLst/>
            <a:rect l="l" t="t" r="r" b="b"/>
            <a:pathLst>
              <a:path w="3620" h="1842">
                <a:moveTo>
                  <a:pt x="18574" y="11112"/>
                </a:moveTo>
                <a:lnTo>
                  <a:pt x="18574" y="11112"/>
                </a:lnTo>
              </a:path>
              <a:path w="3620" h="1842">
                <a:moveTo>
                  <a:pt x="18574" y="11112"/>
                </a:moveTo>
                <a:cubicBezTo>
                  <a:pt x="18585" y="11123"/>
                  <a:pt x="18595" y="11133"/>
                  <a:pt x="18606" y="11144"/>
                </a:cubicBezTo>
              </a:path>
              <a:path w="3620" h="1842">
                <a:moveTo>
                  <a:pt x="18606" y="11144"/>
                </a:moveTo>
                <a:cubicBezTo>
                  <a:pt x="18670" y="11144"/>
                  <a:pt x="18681" y="11129"/>
                  <a:pt x="18732" y="11112"/>
                </a:cubicBezTo>
                <a:cubicBezTo>
                  <a:pt x="18775" y="11098"/>
                  <a:pt x="18823" y="11106"/>
                  <a:pt x="18860" y="11081"/>
                </a:cubicBezTo>
                <a:cubicBezTo>
                  <a:pt x="18901" y="11053"/>
                  <a:pt x="18935" y="11023"/>
                  <a:pt x="18986" y="11017"/>
                </a:cubicBezTo>
                <a:cubicBezTo>
                  <a:pt x="19035" y="11011"/>
                  <a:pt x="19151" y="10998"/>
                  <a:pt x="19177" y="11049"/>
                </a:cubicBezTo>
                <a:cubicBezTo>
                  <a:pt x="19202" y="11099"/>
                  <a:pt x="19148" y="11160"/>
                  <a:pt x="19145" y="11208"/>
                </a:cubicBezTo>
                <a:cubicBezTo>
                  <a:pt x="19140" y="11281"/>
                  <a:pt x="19134" y="11391"/>
                  <a:pt x="19114" y="11462"/>
                </a:cubicBezTo>
                <a:cubicBezTo>
                  <a:pt x="19081" y="11580"/>
                  <a:pt x="19105" y="11691"/>
                  <a:pt x="19082" y="11811"/>
                </a:cubicBezTo>
                <a:cubicBezTo>
                  <a:pt x="19064" y="11909"/>
                  <a:pt x="19075" y="12035"/>
                  <a:pt x="19050" y="12128"/>
                </a:cubicBezTo>
                <a:cubicBezTo>
                  <a:pt x="19035" y="12183"/>
                  <a:pt x="19018" y="12245"/>
                  <a:pt x="18986" y="12287"/>
                </a:cubicBezTo>
              </a:path>
              <a:path w="3620" h="1842">
                <a:moveTo>
                  <a:pt x="19494" y="12033"/>
                </a:moveTo>
                <a:lnTo>
                  <a:pt x="19494" y="12033"/>
                </a:lnTo>
              </a:path>
              <a:path w="3620" h="1842">
                <a:moveTo>
                  <a:pt x="20320" y="10668"/>
                </a:moveTo>
                <a:cubicBezTo>
                  <a:pt x="20275" y="10683"/>
                  <a:pt x="20279" y="10728"/>
                  <a:pt x="20225" y="10763"/>
                </a:cubicBezTo>
                <a:cubicBezTo>
                  <a:pt x="20165" y="10802"/>
                  <a:pt x="20135" y="10827"/>
                  <a:pt x="20066" y="10827"/>
                </a:cubicBezTo>
                <a:cubicBezTo>
                  <a:pt x="19992" y="10827"/>
                  <a:pt x="19918" y="10827"/>
                  <a:pt x="19844" y="10827"/>
                </a:cubicBezTo>
                <a:cubicBezTo>
                  <a:pt x="19844" y="10971"/>
                  <a:pt x="19834" y="11104"/>
                  <a:pt x="19812" y="11240"/>
                </a:cubicBezTo>
                <a:cubicBezTo>
                  <a:pt x="19800" y="11314"/>
                  <a:pt x="19796" y="11365"/>
                  <a:pt x="19780" y="11430"/>
                </a:cubicBezTo>
                <a:cubicBezTo>
                  <a:pt x="19836" y="11416"/>
                  <a:pt x="19864" y="11378"/>
                  <a:pt x="19907" y="11335"/>
                </a:cubicBezTo>
                <a:cubicBezTo>
                  <a:pt x="19969" y="11273"/>
                  <a:pt x="19984" y="11233"/>
                  <a:pt x="20066" y="11208"/>
                </a:cubicBezTo>
                <a:cubicBezTo>
                  <a:pt x="20128" y="11189"/>
                  <a:pt x="20172" y="11172"/>
                  <a:pt x="20225" y="11208"/>
                </a:cubicBezTo>
                <a:cubicBezTo>
                  <a:pt x="20293" y="11254"/>
                  <a:pt x="20348" y="11320"/>
                  <a:pt x="20352" y="11398"/>
                </a:cubicBezTo>
                <a:cubicBezTo>
                  <a:pt x="20357" y="11501"/>
                  <a:pt x="20350" y="11621"/>
                  <a:pt x="20320" y="11716"/>
                </a:cubicBezTo>
                <a:cubicBezTo>
                  <a:pt x="20289" y="11812"/>
                  <a:pt x="20227" y="11898"/>
                  <a:pt x="20161" y="11970"/>
                </a:cubicBezTo>
                <a:cubicBezTo>
                  <a:pt x="20124" y="12011"/>
                  <a:pt x="20054" y="12061"/>
                  <a:pt x="20002" y="12065"/>
                </a:cubicBezTo>
                <a:cubicBezTo>
                  <a:pt x="19902" y="12072"/>
                  <a:pt x="19887" y="12020"/>
                  <a:pt x="19876" y="11938"/>
                </a:cubicBezTo>
              </a:path>
              <a:path w="3620" h="1842">
                <a:moveTo>
                  <a:pt x="20733" y="11271"/>
                </a:moveTo>
                <a:cubicBezTo>
                  <a:pt x="20785" y="11271"/>
                  <a:pt x="20899" y="11237"/>
                  <a:pt x="20923" y="11240"/>
                </a:cubicBezTo>
                <a:cubicBezTo>
                  <a:pt x="21019" y="11253"/>
                  <a:pt x="21042" y="11253"/>
                  <a:pt x="21146" y="11240"/>
                </a:cubicBezTo>
              </a:path>
              <a:path w="3620" h="1842">
                <a:moveTo>
                  <a:pt x="21463" y="10700"/>
                </a:moveTo>
                <a:cubicBezTo>
                  <a:pt x="21517" y="10686"/>
                  <a:pt x="21566" y="10663"/>
                  <a:pt x="21622" y="10636"/>
                </a:cubicBezTo>
                <a:cubicBezTo>
                  <a:pt x="21717" y="10591"/>
                  <a:pt x="21813" y="10554"/>
                  <a:pt x="21908" y="10509"/>
                </a:cubicBezTo>
                <a:cubicBezTo>
                  <a:pt x="21947" y="10491"/>
                  <a:pt x="22090" y="10430"/>
                  <a:pt x="22130" y="10446"/>
                </a:cubicBezTo>
                <a:cubicBezTo>
                  <a:pt x="22201" y="10474"/>
                  <a:pt x="22193" y="10496"/>
                  <a:pt x="22193" y="10573"/>
                </a:cubicBezTo>
                <a:cubicBezTo>
                  <a:pt x="22193" y="10658"/>
                  <a:pt x="22112" y="10715"/>
                  <a:pt x="22098" y="10795"/>
                </a:cubicBezTo>
                <a:cubicBezTo>
                  <a:pt x="22077" y="10912"/>
                  <a:pt x="22020" y="11025"/>
                  <a:pt x="22003" y="11144"/>
                </a:cubicBezTo>
                <a:cubicBezTo>
                  <a:pt x="21983" y="11282"/>
                  <a:pt x="21962" y="11420"/>
                  <a:pt x="21939" y="11557"/>
                </a:cubicBezTo>
                <a:cubicBezTo>
                  <a:pt x="21929" y="11599"/>
                  <a:pt x="21918" y="11642"/>
                  <a:pt x="21908" y="11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Ink 16"/>
          <p:cNvSpPr/>
          <p:nvPr/>
        </p:nvSpPr>
        <p:spPr>
          <a:xfrm>
            <a:off x="1978200" y="5668920"/>
            <a:ext cx="571320" cy="343080"/>
          </a:xfrm>
          <a:custGeom>
            <a:avLst/>
            <a:gdLst/>
            <a:ahLst/>
            <a:rect l="l" t="t" r="r" b="b"/>
            <a:pathLst>
              <a:path w="1588" h="953">
                <a:moveTo>
                  <a:pt x="5493" y="15780"/>
                </a:moveTo>
                <a:cubicBezTo>
                  <a:pt x="5509" y="15732"/>
                  <a:pt x="5531" y="15748"/>
                  <a:pt x="5588" y="15748"/>
                </a:cubicBezTo>
                <a:cubicBezTo>
                  <a:pt x="5672" y="15748"/>
                  <a:pt x="5742" y="15765"/>
                  <a:pt x="5810" y="15780"/>
                </a:cubicBezTo>
                <a:cubicBezTo>
                  <a:pt x="5880" y="15795"/>
                  <a:pt x="5962" y="15808"/>
                  <a:pt x="6032" y="15812"/>
                </a:cubicBezTo>
                <a:cubicBezTo>
                  <a:pt x="6123" y="15817"/>
                  <a:pt x="6198" y="15839"/>
                  <a:pt x="6286" y="15843"/>
                </a:cubicBezTo>
                <a:cubicBezTo>
                  <a:pt x="6471" y="15851"/>
                  <a:pt x="6651" y="15840"/>
                  <a:pt x="6826" y="15812"/>
                </a:cubicBezTo>
                <a:cubicBezTo>
                  <a:pt x="6904" y="15799"/>
                  <a:pt x="6952" y="15802"/>
                  <a:pt x="7017" y="15780"/>
                </a:cubicBezTo>
                <a:cubicBezTo>
                  <a:pt x="7053" y="15780"/>
                  <a:pt x="7066" y="15783"/>
                  <a:pt x="7080" y="15812"/>
                </a:cubicBezTo>
              </a:path>
              <a:path w="1588" h="953">
                <a:moveTo>
                  <a:pt x="6255" y="16129"/>
                </a:moveTo>
                <a:cubicBezTo>
                  <a:pt x="6300" y="16118"/>
                  <a:pt x="6359" y="16069"/>
                  <a:pt x="6414" y="16097"/>
                </a:cubicBezTo>
                <a:cubicBezTo>
                  <a:pt x="6472" y="16127"/>
                  <a:pt x="6512" y="16124"/>
                  <a:pt x="6540" y="16161"/>
                </a:cubicBezTo>
                <a:cubicBezTo>
                  <a:pt x="6581" y="16214"/>
                  <a:pt x="6587" y="16234"/>
                  <a:pt x="6540" y="16288"/>
                </a:cubicBezTo>
                <a:cubicBezTo>
                  <a:pt x="6503" y="16330"/>
                  <a:pt x="6433" y="16424"/>
                  <a:pt x="6382" y="16446"/>
                </a:cubicBezTo>
                <a:cubicBezTo>
                  <a:pt x="6345" y="16462"/>
                  <a:pt x="6300" y="16503"/>
                  <a:pt x="6286" y="16510"/>
                </a:cubicBezTo>
                <a:cubicBezTo>
                  <a:pt x="6255" y="16510"/>
                  <a:pt x="6244" y="16510"/>
                  <a:pt x="6255" y="16542"/>
                </a:cubicBezTo>
                <a:cubicBezTo>
                  <a:pt x="6265" y="16545"/>
                  <a:pt x="6379" y="16570"/>
                  <a:pt x="6382" y="16574"/>
                </a:cubicBezTo>
                <a:cubicBezTo>
                  <a:pt x="6411" y="16609"/>
                  <a:pt x="6411" y="16605"/>
                  <a:pt x="6477" y="16605"/>
                </a:cubicBezTo>
                <a:cubicBezTo>
                  <a:pt x="6513" y="16605"/>
                  <a:pt x="6526" y="16602"/>
                  <a:pt x="6540" y="16574"/>
                </a:cubicBezTo>
              </a:path>
              <a:path w="1588" h="953">
                <a:moveTo>
                  <a:pt x="6826" y="16224"/>
                </a:moveTo>
                <a:cubicBezTo>
                  <a:pt x="6759" y="16224"/>
                  <a:pt x="6747" y="16239"/>
                  <a:pt x="6699" y="16288"/>
                </a:cubicBezTo>
                <a:cubicBezTo>
                  <a:pt x="6637" y="16351"/>
                  <a:pt x="6609" y="16386"/>
                  <a:pt x="6604" y="16478"/>
                </a:cubicBezTo>
                <a:cubicBezTo>
                  <a:pt x="6600" y="16555"/>
                  <a:pt x="6580" y="16661"/>
                  <a:pt x="6668" y="16700"/>
                </a:cubicBezTo>
                <a:cubicBezTo>
                  <a:pt x="6756" y="16739"/>
                  <a:pt x="6793" y="16667"/>
                  <a:pt x="6826" y="16605"/>
                </a:cubicBezTo>
                <a:cubicBezTo>
                  <a:pt x="6868" y="16527"/>
                  <a:pt x="6915" y="16466"/>
                  <a:pt x="6922" y="16383"/>
                </a:cubicBezTo>
                <a:cubicBezTo>
                  <a:pt x="6928" y="16313"/>
                  <a:pt x="6869" y="16278"/>
                  <a:pt x="6858" y="16256"/>
                </a:cubicBezTo>
                <a:cubicBezTo>
                  <a:pt x="6858" y="16224"/>
                  <a:pt x="6858" y="16213"/>
                  <a:pt x="6858" y="162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Ink 17"/>
          <p:cNvSpPr/>
          <p:nvPr/>
        </p:nvSpPr>
        <p:spPr>
          <a:xfrm>
            <a:off x="2868480" y="5715000"/>
            <a:ext cx="355680" cy="285840"/>
          </a:xfrm>
          <a:custGeom>
            <a:avLst/>
            <a:gdLst/>
            <a:ahLst/>
            <a:rect l="l" t="t" r="r" b="b"/>
            <a:pathLst>
              <a:path w="986" h="795">
                <a:moveTo>
                  <a:pt x="7969" y="15875"/>
                </a:moveTo>
                <a:cubicBezTo>
                  <a:pt x="8008" y="15888"/>
                  <a:pt x="8012" y="15927"/>
                  <a:pt x="8064" y="15938"/>
                </a:cubicBezTo>
                <a:cubicBezTo>
                  <a:pt x="8141" y="15954"/>
                  <a:pt x="8344" y="15977"/>
                  <a:pt x="8414" y="15970"/>
                </a:cubicBezTo>
                <a:cubicBezTo>
                  <a:pt x="8476" y="15964"/>
                  <a:pt x="8604" y="15955"/>
                  <a:pt x="8668" y="15938"/>
                </a:cubicBezTo>
                <a:cubicBezTo>
                  <a:pt x="8749" y="15916"/>
                  <a:pt x="8803" y="15907"/>
                  <a:pt x="8890" y="15907"/>
                </a:cubicBezTo>
                <a:cubicBezTo>
                  <a:pt x="8926" y="15907"/>
                  <a:pt x="8940" y="15910"/>
                  <a:pt x="8954" y="15938"/>
                </a:cubicBezTo>
              </a:path>
              <a:path w="986" h="795">
                <a:moveTo>
                  <a:pt x="8318" y="16192"/>
                </a:moveTo>
                <a:cubicBezTo>
                  <a:pt x="8385" y="16192"/>
                  <a:pt x="8409" y="16167"/>
                  <a:pt x="8477" y="16161"/>
                </a:cubicBezTo>
                <a:cubicBezTo>
                  <a:pt x="8499" y="16159"/>
                  <a:pt x="8580" y="16099"/>
                  <a:pt x="8604" y="16129"/>
                </a:cubicBezTo>
                <a:cubicBezTo>
                  <a:pt x="8624" y="16154"/>
                  <a:pt x="8625" y="16159"/>
                  <a:pt x="8636" y="16192"/>
                </a:cubicBezTo>
                <a:cubicBezTo>
                  <a:pt x="8597" y="16205"/>
                  <a:pt x="8583" y="16246"/>
                  <a:pt x="8541" y="16288"/>
                </a:cubicBezTo>
                <a:cubicBezTo>
                  <a:pt x="8507" y="16322"/>
                  <a:pt x="8434" y="16371"/>
                  <a:pt x="8414" y="16415"/>
                </a:cubicBezTo>
                <a:cubicBezTo>
                  <a:pt x="8400" y="16446"/>
                  <a:pt x="8391" y="16476"/>
                  <a:pt x="8382" y="16510"/>
                </a:cubicBezTo>
                <a:cubicBezTo>
                  <a:pt x="8441" y="16510"/>
                  <a:pt x="8457" y="16536"/>
                  <a:pt x="8509" y="16542"/>
                </a:cubicBezTo>
                <a:cubicBezTo>
                  <a:pt x="8584" y="16550"/>
                  <a:pt x="8565" y="16595"/>
                  <a:pt x="8636" y="16542"/>
                </a:cubicBezTo>
              </a:path>
              <a:path w="986" h="795">
                <a:moveTo>
                  <a:pt x="8858" y="16256"/>
                </a:moveTo>
                <a:cubicBezTo>
                  <a:pt x="8813" y="16301"/>
                  <a:pt x="8785" y="16332"/>
                  <a:pt x="8763" y="16383"/>
                </a:cubicBezTo>
                <a:cubicBezTo>
                  <a:pt x="8732" y="16454"/>
                  <a:pt x="8676" y="16494"/>
                  <a:pt x="8668" y="16574"/>
                </a:cubicBezTo>
                <a:cubicBezTo>
                  <a:pt x="8663" y="16628"/>
                  <a:pt x="8718" y="16664"/>
                  <a:pt x="8763" y="16669"/>
                </a:cubicBezTo>
                <a:cubicBezTo>
                  <a:pt x="8822" y="16676"/>
                  <a:pt x="8874" y="16590"/>
                  <a:pt x="8890" y="16542"/>
                </a:cubicBezTo>
                <a:cubicBezTo>
                  <a:pt x="8900" y="16512"/>
                  <a:pt x="8944" y="16453"/>
                  <a:pt x="8922" y="16415"/>
                </a:cubicBezTo>
                <a:cubicBezTo>
                  <a:pt x="8894" y="16365"/>
                  <a:pt x="8883" y="16334"/>
                  <a:pt x="8826" y="163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Ink 18"/>
          <p:cNvSpPr/>
          <p:nvPr/>
        </p:nvSpPr>
        <p:spPr>
          <a:xfrm>
            <a:off x="2057400" y="6126120"/>
            <a:ext cx="492120" cy="285840"/>
          </a:xfrm>
          <a:custGeom>
            <a:avLst/>
            <a:gdLst/>
            <a:ahLst/>
            <a:rect l="l" t="t" r="r" b="b"/>
            <a:pathLst>
              <a:path w="1366" h="795">
                <a:moveTo>
                  <a:pt x="6032" y="17018"/>
                </a:moveTo>
                <a:cubicBezTo>
                  <a:pt x="6032" y="17097"/>
                  <a:pt x="6080" y="17135"/>
                  <a:pt x="6096" y="17208"/>
                </a:cubicBezTo>
                <a:cubicBezTo>
                  <a:pt x="6122" y="17325"/>
                  <a:pt x="6174" y="17436"/>
                  <a:pt x="6191" y="17558"/>
                </a:cubicBezTo>
                <a:cubicBezTo>
                  <a:pt x="6203" y="17647"/>
                  <a:pt x="6223" y="17718"/>
                  <a:pt x="6223" y="17812"/>
                </a:cubicBezTo>
              </a:path>
              <a:path w="1366" h="795">
                <a:moveTo>
                  <a:pt x="6255" y="17082"/>
                </a:moveTo>
                <a:cubicBezTo>
                  <a:pt x="6223" y="17123"/>
                  <a:pt x="6190" y="17161"/>
                  <a:pt x="6160" y="17208"/>
                </a:cubicBezTo>
                <a:cubicBezTo>
                  <a:pt x="6105" y="17294"/>
                  <a:pt x="6042" y="17358"/>
                  <a:pt x="5969" y="17431"/>
                </a:cubicBezTo>
                <a:cubicBezTo>
                  <a:pt x="5898" y="17502"/>
                  <a:pt x="5804" y="17582"/>
                  <a:pt x="5747" y="17653"/>
                </a:cubicBezTo>
                <a:cubicBezTo>
                  <a:pt x="5736" y="17674"/>
                  <a:pt x="5726" y="17695"/>
                  <a:pt x="5715" y="17716"/>
                </a:cubicBezTo>
              </a:path>
              <a:path w="1366" h="795">
                <a:moveTo>
                  <a:pt x="6445" y="17336"/>
                </a:moveTo>
                <a:cubicBezTo>
                  <a:pt x="6530" y="17336"/>
                  <a:pt x="6614" y="17336"/>
                  <a:pt x="6699" y="17336"/>
                </a:cubicBezTo>
              </a:path>
              <a:path w="1366" h="795">
                <a:moveTo>
                  <a:pt x="6414" y="17558"/>
                </a:moveTo>
                <a:cubicBezTo>
                  <a:pt x="6493" y="17574"/>
                  <a:pt x="6551" y="17590"/>
                  <a:pt x="6636" y="17590"/>
                </a:cubicBezTo>
              </a:path>
              <a:path w="1366" h="795">
                <a:moveTo>
                  <a:pt x="7080" y="17018"/>
                </a:moveTo>
                <a:cubicBezTo>
                  <a:pt x="7080" y="17164"/>
                  <a:pt x="7071" y="17294"/>
                  <a:pt x="7048" y="17431"/>
                </a:cubicBezTo>
                <a:cubicBezTo>
                  <a:pt x="7034" y="17515"/>
                  <a:pt x="7023" y="17602"/>
                  <a:pt x="7017" y="17685"/>
                </a:cubicBezTo>
                <a:cubicBezTo>
                  <a:pt x="7015" y="17716"/>
                  <a:pt x="7017" y="17749"/>
                  <a:pt x="7017" y="17780"/>
                </a:cubicBezTo>
              </a:path>
              <a:path w="1366" h="795">
                <a:moveTo>
                  <a:pt x="7080" y="17748"/>
                </a:moveTo>
                <a:lnTo>
                  <a:pt x="7080" y="1774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Ink 19"/>
          <p:cNvSpPr/>
          <p:nvPr/>
        </p:nvSpPr>
        <p:spPr>
          <a:xfrm>
            <a:off x="2697120" y="6126120"/>
            <a:ext cx="298440" cy="274680"/>
          </a:xfrm>
          <a:custGeom>
            <a:avLst/>
            <a:gdLst/>
            <a:ahLst/>
            <a:rect l="l" t="t" r="r" b="b"/>
            <a:pathLst>
              <a:path w="826" h="763">
                <a:moveTo>
                  <a:pt x="7556" y="17018"/>
                </a:moveTo>
                <a:cubicBezTo>
                  <a:pt x="7642" y="17018"/>
                  <a:pt x="7703" y="17028"/>
                  <a:pt x="7747" y="17050"/>
                </a:cubicBezTo>
                <a:cubicBezTo>
                  <a:pt x="7770" y="17062"/>
                  <a:pt x="7806" y="17097"/>
                  <a:pt x="7779" y="17145"/>
                </a:cubicBezTo>
                <a:cubicBezTo>
                  <a:pt x="7751" y="17195"/>
                  <a:pt x="7716" y="17255"/>
                  <a:pt x="7684" y="17304"/>
                </a:cubicBezTo>
                <a:cubicBezTo>
                  <a:pt x="7646" y="17361"/>
                  <a:pt x="7605" y="17413"/>
                  <a:pt x="7556" y="17462"/>
                </a:cubicBezTo>
                <a:cubicBezTo>
                  <a:pt x="7521" y="17497"/>
                  <a:pt x="7523" y="17519"/>
                  <a:pt x="7493" y="17558"/>
                </a:cubicBezTo>
                <a:cubicBezTo>
                  <a:pt x="7504" y="17592"/>
                  <a:pt x="7516" y="17616"/>
                  <a:pt x="7556" y="17621"/>
                </a:cubicBezTo>
                <a:cubicBezTo>
                  <a:pt x="7608" y="17627"/>
                  <a:pt x="7625" y="17653"/>
                  <a:pt x="7684" y="17653"/>
                </a:cubicBezTo>
                <a:cubicBezTo>
                  <a:pt x="7726" y="17653"/>
                  <a:pt x="7747" y="17653"/>
                  <a:pt x="7779" y="17653"/>
                </a:cubicBezTo>
              </a:path>
              <a:path w="826" h="763">
                <a:moveTo>
                  <a:pt x="8287" y="17145"/>
                </a:moveTo>
                <a:cubicBezTo>
                  <a:pt x="8370" y="17145"/>
                  <a:pt x="8237" y="17145"/>
                  <a:pt x="8223" y="17145"/>
                </a:cubicBezTo>
                <a:cubicBezTo>
                  <a:pt x="8144" y="17145"/>
                  <a:pt x="8102" y="17158"/>
                  <a:pt x="8064" y="17177"/>
                </a:cubicBezTo>
                <a:cubicBezTo>
                  <a:pt x="8007" y="17206"/>
                  <a:pt x="8001" y="17152"/>
                  <a:pt x="8001" y="17240"/>
                </a:cubicBezTo>
                <a:cubicBezTo>
                  <a:pt x="8001" y="17305"/>
                  <a:pt x="8016" y="17315"/>
                  <a:pt x="8033" y="17367"/>
                </a:cubicBezTo>
                <a:cubicBezTo>
                  <a:pt x="8049" y="17415"/>
                  <a:pt x="8060" y="17405"/>
                  <a:pt x="8096" y="17431"/>
                </a:cubicBezTo>
                <a:cubicBezTo>
                  <a:pt x="8118" y="17447"/>
                  <a:pt x="8215" y="17481"/>
                  <a:pt x="8223" y="17494"/>
                </a:cubicBezTo>
                <a:cubicBezTo>
                  <a:pt x="8246" y="17529"/>
                  <a:pt x="8255" y="17574"/>
                  <a:pt x="8255" y="17621"/>
                </a:cubicBezTo>
                <a:cubicBezTo>
                  <a:pt x="8255" y="17669"/>
                  <a:pt x="8275" y="17753"/>
                  <a:pt x="8223" y="17780"/>
                </a:cubicBezTo>
                <a:cubicBezTo>
                  <a:pt x="8167" y="17808"/>
                  <a:pt x="8104" y="17762"/>
                  <a:pt x="8064" y="17748"/>
                </a:cubicBezTo>
                <a:cubicBezTo>
                  <a:pt x="8022" y="17734"/>
                  <a:pt x="7979" y="17727"/>
                  <a:pt x="7938" y="17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Ink 20"/>
          <p:cNvSpPr/>
          <p:nvPr/>
        </p:nvSpPr>
        <p:spPr>
          <a:xfrm>
            <a:off x="2103480" y="2468520"/>
            <a:ext cx="1360440" cy="285840"/>
          </a:xfrm>
          <a:custGeom>
            <a:avLst/>
            <a:gdLst/>
            <a:ahLst/>
            <a:rect l="l" t="t" r="r" b="b"/>
            <a:pathLst>
              <a:path w="3779" h="795">
                <a:moveTo>
                  <a:pt x="5842" y="7398"/>
                </a:moveTo>
                <a:lnTo>
                  <a:pt x="5842" y="7398"/>
                </a:lnTo>
              </a:path>
              <a:path w="3779" h="795">
                <a:moveTo>
                  <a:pt x="5842" y="7398"/>
                </a:moveTo>
                <a:cubicBezTo>
                  <a:pt x="5853" y="7387"/>
                  <a:pt x="5863" y="7377"/>
                  <a:pt x="5874" y="7366"/>
                </a:cubicBezTo>
              </a:path>
              <a:path w="3779" h="795">
                <a:moveTo>
                  <a:pt x="5874" y="7366"/>
                </a:moveTo>
                <a:cubicBezTo>
                  <a:pt x="5894" y="7346"/>
                  <a:pt x="5939" y="7325"/>
                  <a:pt x="5969" y="7302"/>
                </a:cubicBezTo>
                <a:cubicBezTo>
                  <a:pt x="6042" y="7248"/>
                  <a:pt x="6084" y="7233"/>
                  <a:pt x="6160" y="7207"/>
                </a:cubicBezTo>
                <a:cubicBezTo>
                  <a:pt x="6246" y="7177"/>
                  <a:pt x="6332" y="7139"/>
                  <a:pt x="6414" y="7112"/>
                </a:cubicBezTo>
                <a:cubicBezTo>
                  <a:pt x="6534" y="7072"/>
                  <a:pt x="6602" y="7048"/>
                  <a:pt x="6731" y="7048"/>
                </a:cubicBezTo>
                <a:cubicBezTo>
                  <a:pt x="6856" y="7048"/>
                  <a:pt x="6960" y="7064"/>
                  <a:pt x="7080" y="7080"/>
                </a:cubicBezTo>
                <a:cubicBezTo>
                  <a:pt x="7178" y="7093"/>
                  <a:pt x="7248" y="7129"/>
                  <a:pt x="7334" y="7176"/>
                </a:cubicBezTo>
                <a:cubicBezTo>
                  <a:pt x="7408" y="7217"/>
                  <a:pt x="7465" y="7242"/>
                  <a:pt x="7525" y="7302"/>
                </a:cubicBezTo>
                <a:cubicBezTo>
                  <a:pt x="7566" y="7343"/>
                  <a:pt x="7593" y="7394"/>
                  <a:pt x="7620" y="7430"/>
                </a:cubicBezTo>
                <a:cubicBezTo>
                  <a:pt x="7631" y="7440"/>
                  <a:pt x="7641" y="7451"/>
                  <a:pt x="7652" y="7461"/>
                </a:cubicBezTo>
              </a:path>
              <a:path w="3779" h="795">
                <a:moveTo>
                  <a:pt x="6001" y="7334"/>
                </a:moveTo>
                <a:lnTo>
                  <a:pt x="6001" y="7334"/>
                </a:lnTo>
              </a:path>
              <a:path w="3779" h="795">
                <a:moveTo>
                  <a:pt x="6001" y="7334"/>
                </a:moveTo>
                <a:cubicBezTo>
                  <a:pt x="6011" y="7334"/>
                  <a:pt x="6022" y="7334"/>
                  <a:pt x="6032" y="7334"/>
                </a:cubicBezTo>
              </a:path>
              <a:path w="3779" h="795">
                <a:moveTo>
                  <a:pt x="6032" y="7334"/>
                </a:moveTo>
                <a:cubicBezTo>
                  <a:pt x="6073" y="7277"/>
                  <a:pt x="6100" y="7254"/>
                  <a:pt x="6160" y="7207"/>
                </a:cubicBezTo>
                <a:cubicBezTo>
                  <a:pt x="6237" y="7147"/>
                  <a:pt x="6300" y="7143"/>
                  <a:pt x="6382" y="7112"/>
                </a:cubicBezTo>
                <a:cubicBezTo>
                  <a:pt x="6496" y="7069"/>
                  <a:pt x="6584" y="7025"/>
                  <a:pt x="6699" y="6985"/>
                </a:cubicBezTo>
                <a:cubicBezTo>
                  <a:pt x="6833" y="6938"/>
                  <a:pt x="6971" y="6904"/>
                  <a:pt x="7112" y="6890"/>
                </a:cubicBezTo>
                <a:cubicBezTo>
                  <a:pt x="7262" y="6875"/>
                  <a:pt x="7403" y="6858"/>
                  <a:pt x="7556" y="6858"/>
                </a:cubicBezTo>
                <a:cubicBezTo>
                  <a:pt x="7783" y="6858"/>
                  <a:pt x="7999" y="6873"/>
                  <a:pt x="8223" y="6890"/>
                </a:cubicBezTo>
                <a:cubicBezTo>
                  <a:pt x="8391" y="6903"/>
                  <a:pt x="8570" y="6923"/>
                  <a:pt x="8731" y="6985"/>
                </a:cubicBezTo>
                <a:cubicBezTo>
                  <a:pt x="8893" y="7048"/>
                  <a:pt x="9022" y="7133"/>
                  <a:pt x="9176" y="7207"/>
                </a:cubicBezTo>
                <a:cubicBezTo>
                  <a:pt x="9268" y="7251"/>
                  <a:pt x="9379" y="7301"/>
                  <a:pt x="9462" y="7366"/>
                </a:cubicBezTo>
                <a:cubicBezTo>
                  <a:pt x="9506" y="7401"/>
                  <a:pt x="9532" y="7448"/>
                  <a:pt x="9557" y="7493"/>
                </a:cubicBezTo>
                <a:cubicBezTo>
                  <a:pt x="9576" y="7528"/>
                  <a:pt x="9570" y="7587"/>
                  <a:pt x="9588" y="7620"/>
                </a:cubicBezTo>
                <a:cubicBezTo>
                  <a:pt x="9599" y="7631"/>
                  <a:pt x="9609" y="7641"/>
                  <a:pt x="9620" y="7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Ink 21"/>
          <p:cNvSpPr/>
          <p:nvPr/>
        </p:nvSpPr>
        <p:spPr>
          <a:xfrm>
            <a:off x="6651720" y="4525920"/>
            <a:ext cx="1052280" cy="1212840"/>
          </a:xfrm>
          <a:custGeom>
            <a:avLst/>
            <a:gdLst/>
            <a:ahLst/>
            <a:rect l="l" t="t" r="r" b="b"/>
            <a:pathLst>
              <a:path w="2923" h="3366">
                <a:moveTo>
                  <a:pt x="18478" y="13208"/>
                </a:moveTo>
                <a:cubicBezTo>
                  <a:pt x="18507" y="13284"/>
                  <a:pt x="18510" y="13336"/>
                  <a:pt x="18510" y="13430"/>
                </a:cubicBezTo>
                <a:cubicBezTo>
                  <a:pt x="18510" y="13574"/>
                  <a:pt x="18538" y="13703"/>
                  <a:pt x="18542" y="13843"/>
                </a:cubicBezTo>
                <a:cubicBezTo>
                  <a:pt x="18547" y="13998"/>
                  <a:pt x="18591" y="14135"/>
                  <a:pt x="18606" y="14288"/>
                </a:cubicBezTo>
                <a:cubicBezTo>
                  <a:pt x="18618" y="14405"/>
                  <a:pt x="18625" y="14427"/>
                  <a:pt x="18701" y="14510"/>
                </a:cubicBezTo>
                <a:cubicBezTo>
                  <a:pt x="18711" y="14521"/>
                  <a:pt x="18722" y="14531"/>
                  <a:pt x="18732" y="14542"/>
                </a:cubicBezTo>
                <a:cubicBezTo>
                  <a:pt x="18772" y="14517"/>
                  <a:pt x="18829" y="14499"/>
                  <a:pt x="18860" y="14446"/>
                </a:cubicBezTo>
                <a:cubicBezTo>
                  <a:pt x="18929" y="14328"/>
                  <a:pt x="18932" y="14193"/>
                  <a:pt x="18955" y="14065"/>
                </a:cubicBezTo>
                <a:cubicBezTo>
                  <a:pt x="18982" y="13914"/>
                  <a:pt x="19034" y="13771"/>
                  <a:pt x="19050" y="13621"/>
                </a:cubicBezTo>
                <a:cubicBezTo>
                  <a:pt x="19062" y="13512"/>
                  <a:pt x="19075" y="13413"/>
                  <a:pt x="19082" y="13303"/>
                </a:cubicBezTo>
                <a:cubicBezTo>
                  <a:pt x="19106" y="13376"/>
                  <a:pt x="19137" y="13469"/>
                  <a:pt x="19145" y="13557"/>
                </a:cubicBezTo>
                <a:cubicBezTo>
                  <a:pt x="19161" y="13736"/>
                  <a:pt x="19172" y="13918"/>
                  <a:pt x="19177" y="14097"/>
                </a:cubicBezTo>
                <a:cubicBezTo>
                  <a:pt x="19182" y="14290"/>
                  <a:pt x="19227" y="14478"/>
                  <a:pt x="19240" y="14668"/>
                </a:cubicBezTo>
                <a:cubicBezTo>
                  <a:pt x="19261" y="14971"/>
                  <a:pt x="19273" y="15326"/>
                  <a:pt x="19209" y="15621"/>
                </a:cubicBezTo>
                <a:cubicBezTo>
                  <a:pt x="19183" y="15744"/>
                  <a:pt x="19158" y="15845"/>
                  <a:pt x="19050" y="15907"/>
                </a:cubicBezTo>
                <a:cubicBezTo>
                  <a:pt x="18969" y="15954"/>
                  <a:pt x="18895" y="15941"/>
                  <a:pt x="18828" y="15875"/>
                </a:cubicBezTo>
                <a:cubicBezTo>
                  <a:pt x="18764" y="15780"/>
                  <a:pt x="18743" y="15748"/>
                  <a:pt x="18701" y="15684"/>
                </a:cubicBezTo>
              </a:path>
              <a:path w="2923" h="3366">
                <a:moveTo>
                  <a:pt x="19558" y="13621"/>
                </a:moveTo>
                <a:cubicBezTo>
                  <a:pt x="19624" y="13555"/>
                  <a:pt x="19656" y="13502"/>
                  <a:pt x="19748" y="13494"/>
                </a:cubicBezTo>
                <a:cubicBezTo>
                  <a:pt x="19818" y="13488"/>
                  <a:pt x="19851" y="13505"/>
                  <a:pt x="19907" y="13462"/>
                </a:cubicBezTo>
              </a:path>
              <a:path w="2923" h="3366">
                <a:moveTo>
                  <a:pt x="19653" y="14034"/>
                </a:moveTo>
                <a:cubicBezTo>
                  <a:pt x="19653" y="14023"/>
                  <a:pt x="19653" y="14013"/>
                  <a:pt x="19653" y="14002"/>
                </a:cubicBezTo>
                <a:cubicBezTo>
                  <a:pt x="19738" y="14002"/>
                  <a:pt x="19806" y="13984"/>
                  <a:pt x="19876" y="13970"/>
                </a:cubicBezTo>
                <a:cubicBezTo>
                  <a:pt x="19929" y="13970"/>
                  <a:pt x="19939" y="13970"/>
                  <a:pt x="19971" y="13970"/>
                </a:cubicBezTo>
              </a:path>
              <a:path w="2923" h="3366">
                <a:moveTo>
                  <a:pt x="20542" y="14002"/>
                </a:moveTo>
                <a:lnTo>
                  <a:pt x="20542" y="14002"/>
                </a:lnTo>
              </a:path>
              <a:path w="2923" h="3366">
                <a:moveTo>
                  <a:pt x="20542" y="14002"/>
                </a:moveTo>
                <a:lnTo>
                  <a:pt x="20542" y="14002"/>
                </a:lnTo>
              </a:path>
              <a:path w="2923" h="3366">
                <a:moveTo>
                  <a:pt x="20510" y="14002"/>
                </a:moveTo>
                <a:cubicBezTo>
                  <a:pt x="20510" y="14097"/>
                  <a:pt x="20526" y="14177"/>
                  <a:pt x="20542" y="14256"/>
                </a:cubicBezTo>
                <a:cubicBezTo>
                  <a:pt x="20542" y="14313"/>
                  <a:pt x="20538" y="14330"/>
                  <a:pt x="20574" y="14351"/>
                </a:cubicBezTo>
                <a:cubicBezTo>
                  <a:pt x="20574" y="14293"/>
                  <a:pt x="20602" y="14276"/>
                  <a:pt x="20606" y="14224"/>
                </a:cubicBezTo>
                <a:cubicBezTo>
                  <a:pt x="20611" y="14151"/>
                  <a:pt x="20606" y="14075"/>
                  <a:pt x="20606" y="14002"/>
                </a:cubicBezTo>
                <a:cubicBezTo>
                  <a:pt x="20573" y="14013"/>
                  <a:pt x="20549" y="14081"/>
                  <a:pt x="20542" y="14097"/>
                </a:cubicBezTo>
                <a:cubicBezTo>
                  <a:pt x="20522" y="14145"/>
                  <a:pt x="20562" y="14133"/>
                  <a:pt x="20574" y="14097"/>
                </a:cubicBezTo>
              </a:path>
              <a:path w="2923" h="3366">
                <a:moveTo>
                  <a:pt x="21304" y="12573"/>
                </a:moveTo>
                <a:cubicBezTo>
                  <a:pt x="21261" y="12616"/>
                  <a:pt x="21218" y="12640"/>
                  <a:pt x="21177" y="12668"/>
                </a:cubicBezTo>
                <a:cubicBezTo>
                  <a:pt x="21116" y="12709"/>
                  <a:pt x="21046" y="12751"/>
                  <a:pt x="20987" y="12795"/>
                </a:cubicBezTo>
                <a:cubicBezTo>
                  <a:pt x="20950" y="12823"/>
                  <a:pt x="20877" y="12850"/>
                  <a:pt x="20860" y="12859"/>
                </a:cubicBezTo>
                <a:cubicBezTo>
                  <a:pt x="20796" y="12891"/>
                  <a:pt x="20840" y="12895"/>
                  <a:pt x="20860" y="12954"/>
                </a:cubicBezTo>
                <a:cubicBezTo>
                  <a:pt x="20878" y="13009"/>
                  <a:pt x="20889" y="13088"/>
                  <a:pt x="20892" y="13144"/>
                </a:cubicBezTo>
                <a:cubicBezTo>
                  <a:pt x="20896" y="13218"/>
                  <a:pt x="20892" y="13293"/>
                  <a:pt x="20892" y="13367"/>
                </a:cubicBezTo>
                <a:cubicBezTo>
                  <a:pt x="20959" y="13344"/>
                  <a:pt x="20893" y="13326"/>
                  <a:pt x="20923" y="13272"/>
                </a:cubicBezTo>
                <a:cubicBezTo>
                  <a:pt x="20944" y="13234"/>
                  <a:pt x="21016" y="13132"/>
                  <a:pt x="21050" y="13113"/>
                </a:cubicBezTo>
                <a:cubicBezTo>
                  <a:pt x="21118" y="13076"/>
                  <a:pt x="21115" y="13092"/>
                  <a:pt x="21177" y="13113"/>
                </a:cubicBezTo>
                <a:cubicBezTo>
                  <a:pt x="21224" y="13129"/>
                  <a:pt x="21273" y="13159"/>
                  <a:pt x="21304" y="13208"/>
                </a:cubicBezTo>
                <a:cubicBezTo>
                  <a:pt x="21358" y="13293"/>
                  <a:pt x="21385" y="13400"/>
                  <a:pt x="21400" y="13494"/>
                </a:cubicBezTo>
                <a:cubicBezTo>
                  <a:pt x="21416" y="13595"/>
                  <a:pt x="21400" y="13689"/>
                  <a:pt x="21368" y="13780"/>
                </a:cubicBezTo>
                <a:cubicBezTo>
                  <a:pt x="21329" y="13892"/>
                  <a:pt x="21294" y="13930"/>
                  <a:pt x="21209" y="14002"/>
                </a:cubicBezTo>
                <a:cubicBezTo>
                  <a:pt x="21172" y="14033"/>
                  <a:pt x="21103" y="14053"/>
                  <a:pt x="21050" y="14034"/>
                </a:cubicBezTo>
                <a:cubicBezTo>
                  <a:pt x="20983" y="14010"/>
                  <a:pt x="20939" y="13969"/>
                  <a:pt x="20923" y="13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Ink 22"/>
          <p:cNvSpPr/>
          <p:nvPr/>
        </p:nvSpPr>
        <p:spPr>
          <a:xfrm>
            <a:off x="8161200" y="1600200"/>
            <a:ext cx="857520" cy="766800"/>
          </a:xfrm>
          <a:custGeom>
            <a:avLst/>
            <a:gdLst/>
            <a:ahLst/>
            <a:rect l="l" t="t" r="r" b="b"/>
            <a:pathLst>
              <a:path w="2382" h="2128">
                <a:moveTo>
                  <a:pt x="22987" y="4667"/>
                </a:moveTo>
                <a:cubicBezTo>
                  <a:pt x="22928" y="4726"/>
                  <a:pt x="22910" y="4795"/>
                  <a:pt x="22860" y="4858"/>
                </a:cubicBezTo>
                <a:cubicBezTo>
                  <a:pt x="22777" y="4963"/>
                  <a:pt x="22744" y="5044"/>
                  <a:pt x="22701" y="5175"/>
                </a:cubicBezTo>
                <a:cubicBezTo>
                  <a:pt x="22661" y="5295"/>
                  <a:pt x="22649" y="5461"/>
                  <a:pt x="22670" y="5588"/>
                </a:cubicBezTo>
                <a:cubicBezTo>
                  <a:pt x="22690" y="5709"/>
                  <a:pt x="22716" y="5822"/>
                  <a:pt x="22765" y="5937"/>
                </a:cubicBezTo>
                <a:cubicBezTo>
                  <a:pt x="22793" y="6004"/>
                  <a:pt x="22844" y="6074"/>
                  <a:pt x="22892" y="6128"/>
                </a:cubicBezTo>
                <a:cubicBezTo>
                  <a:pt x="22929" y="6170"/>
                  <a:pt x="22965" y="6217"/>
                  <a:pt x="23019" y="6223"/>
                </a:cubicBezTo>
                <a:cubicBezTo>
                  <a:pt x="23029" y="6223"/>
                  <a:pt x="23040" y="6223"/>
                  <a:pt x="23050" y="6223"/>
                </a:cubicBezTo>
              </a:path>
              <a:path w="2382" h="2128">
                <a:moveTo>
                  <a:pt x="23178" y="4953"/>
                </a:moveTo>
                <a:cubicBezTo>
                  <a:pt x="23178" y="4942"/>
                  <a:pt x="23178" y="4932"/>
                  <a:pt x="23178" y="4921"/>
                </a:cubicBezTo>
              </a:path>
              <a:path w="2382" h="2128">
                <a:moveTo>
                  <a:pt x="23178" y="4953"/>
                </a:moveTo>
                <a:lnTo>
                  <a:pt x="23178" y="4953"/>
                </a:lnTo>
                <a:lnTo>
                  <a:pt x="23178" y="4953"/>
                </a:lnTo>
              </a:path>
              <a:path w="2382" h="2128">
                <a:moveTo>
                  <a:pt x="23178" y="4953"/>
                </a:moveTo>
                <a:cubicBezTo>
                  <a:pt x="23178" y="5128"/>
                  <a:pt x="23178" y="5291"/>
                  <a:pt x="23209" y="5461"/>
                </a:cubicBezTo>
                <a:cubicBezTo>
                  <a:pt x="23241" y="5636"/>
                  <a:pt x="23208" y="5838"/>
                  <a:pt x="23241" y="6001"/>
                </a:cubicBezTo>
                <a:cubicBezTo>
                  <a:pt x="23241" y="6054"/>
                  <a:pt x="23241" y="6085"/>
                  <a:pt x="23241" y="6032"/>
                </a:cubicBezTo>
              </a:path>
              <a:path w="2382" h="2128">
                <a:moveTo>
                  <a:pt x="23654" y="4826"/>
                </a:moveTo>
                <a:cubicBezTo>
                  <a:pt x="23654" y="4885"/>
                  <a:pt x="23682" y="4901"/>
                  <a:pt x="23686" y="4953"/>
                </a:cubicBezTo>
                <a:cubicBezTo>
                  <a:pt x="23692" y="5039"/>
                  <a:pt x="23709" y="5234"/>
                  <a:pt x="23654" y="5270"/>
                </a:cubicBezTo>
              </a:path>
              <a:path w="2382" h="2128">
                <a:moveTo>
                  <a:pt x="23495" y="5366"/>
                </a:moveTo>
                <a:cubicBezTo>
                  <a:pt x="23484" y="5366"/>
                  <a:pt x="23474" y="5366"/>
                  <a:pt x="23463" y="5366"/>
                </a:cubicBezTo>
                <a:cubicBezTo>
                  <a:pt x="23536" y="5421"/>
                  <a:pt x="23514" y="5371"/>
                  <a:pt x="23590" y="5366"/>
                </a:cubicBezTo>
                <a:cubicBezTo>
                  <a:pt x="23665" y="5361"/>
                  <a:pt x="23701" y="5334"/>
                  <a:pt x="23781" y="5334"/>
                </a:cubicBezTo>
                <a:cubicBezTo>
                  <a:pt x="23812" y="5334"/>
                  <a:pt x="23823" y="5334"/>
                  <a:pt x="23844" y="5334"/>
                </a:cubicBezTo>
              </a:path>
              <a:path w="2382" h="2128">
                <a:moveTo>
                  <a:pt x="23686" y="5620"/>
                </a:moveTo>
                <a:cubicBezTo>
                  <a:pt x="23686" y="5705"/>
                  <a:pt x="23686" y="5789"/>
                  <a:pt x="23686" y="5874"/>
                </a:cubicBezTo>
                <a:cubicBezTo>
                  <a:pt x="23733" y="5858"/>
                  <a:pt x="23712" y="5842"/>
                  <a:pt x="23781" y="5842"/>
                </a:cubicBezTo>
                <a:cubicBezTo>
                  <a:pt x="23842" y="5842"/>
                  <a:pt x="23891" y="5861"/>
                  <a:pt x="23908" y="5810"/>
                </a:cubicBezTo>
              </a:path>
              <a:path w="2382" h="2128">
                <a:moveTo>
                  <a:pt x="23908" y="5429"/>
                </a:moveTo>
                <a:cubicBezTo>
                  <a:pt x="23888" y="5488"/>
                  <a:pt x="23876" y="5460"/>
                  <a:pt x="23876" y="5556"/>
                </a:cubicBezTo>
                <a:cubicBezTo>
                  <a:pt x="23876" y="5672"/>
                  <a:pt x="23890" y="5766"/>
                  <a:pt x="23908" y="5874"/>
                </a:cubicBezTo>
                <a:cubicBezTo>
                  <a:pt x="23926" y="5979"/>
                  <a:pt x="23886" y="6070"/>
                  <a:pt x="23940" y="6160"/>
                </a:cubicBezTo>
              </a:path>
              <a:path w="2382" h="2128">
                <a:moveTo>
                  <a:pt x="24225" y="5969"/>
                </a:moveTo>
                <a:cubicBezTo>
                  <a:pt x="24225" y="6170"/>
                  <a:pt x="24225" y="6371"/>
                  <a:pt x="24225" y="6572"/>
                </a:cubicBezTo>
              </a:path>
              <a:path w="2382" h="2128">
                <a:moveTo>
                  <a:pt x="24511" y="4953"/>
                </a:moveTo>
                <a:cubicBezTo>
                  <a:pt x="24523" y="5035"/>
                  <a:pt x="24543" y="5084"/>
                  <a:pt x="24543" y="5175"/>
                </a:cubicBezTo>
                <a:cubicBezTo>
                  <a:pt x="24543" y="5270"/>
                  <a:pt x="24543" y="5366"/>
                  <a:pt x="24543" y="5461"/>
                </a:cubicBezTo>
              </a:path>
              <a:path w="2382" h="2128">
                <a:moveTo>
                  <a:pt x="24384" y="5524"/>
                </a:moveTo>
                <a:cubicBezTo>
                  <a:pt x="24430" y="5490"/>
                  <a:pt x="24482" y="5467"/>
                  <a:pt x="24543" y="5461"/>
                </a:cubicBezTo>
                <a:cubicBezTo>
                  <a:pt x="24605" y="5455"/>
                  <a:pt x="24671" y="5461"/>
                  <a:pt x="24733" y="5461"/>
                </a:cubicBezTo>
              </a:path>
              <a:path w="2382" h="2128">
                <a:moveTo>
                  <a:pt x="24511" y="5620"/>
                </a:moveTo>
                <a:cubicBezTo>
                  <a:pt x="24511" y="5639"/>
                  <a:pt x="24524" y="5648"/>
                  <a:pt x="24574" y="5620"/>
                </a:cubicBezTo>
                <a:cubicBezTo>
                  <a:pt x="24627" y="5590"/>
                  <a:pt x="24637" y="5588"/>
                  <a:pt x="24702" y="5588"/>
                </a:cubicBezTo>
                <a:cubicBezTo>
                  <a:pt x="24702" y="5680"/>
                  <a:pt x="24677" y="5727"/>
                  <a:pt x="24670" y="5810"/>
                </a:cubicBezTo>
                <a:cubicBezTo>
                  <a:pt x="24665" y="5868"/>
                  <a:pt x="24638" y="5908"/>
                  <a:pt x="24638" y="5969"/>
                </a:cubicBezTo>
                <a:cubicBezTo>
                  <a:pt x="24638" y="6005"/>
                  <a:pt x="24641" y="6019"/>
                  <a:pt x="24670" y="6032"/>
                </a:cubicBezTo>
                <a:cubicBezTo>
                  <a:pt x="24710" y="6002"/>
                  <a:pt x="24725" y="5999"/>
                  <a:pt x="24765" y="5969"/>
                </a:cubicBezTo>
              </a:path>
              <a:path w="2382" h="2128">
                <a:moveTo>
                  <a:pt x="24670" y="4445"/>
                </a:moveTo>
                <a:cubicBezTo>
                  <a:pt x="24725" y="4514"/>
                  <a:pt x="24793" y="4586"/>
                  <a:pt x="24828" y="4667"/>
                </a:cubicBezTo>
                <a:cubicBezTo>
                  <a:pt x="24911" y="4859"/>
                  <a:pt x="24959" y="5071"/>
                  <a:pt x="25019" y="5270"/>
                </a:cubicBezTo>
                <a:cubicBezTo>
                  <a:pt x="25057" y="5397"/>
                  <a:pt x="25071" y="5549"/>
                  <a:pt x="25051" y="5683"/>
                </a:cubicBezTo>
                <a:cubicBezTo>
                  <a:pt x="25030" y="5818"/>
                  <a:pt x="25016" y="5964"/>
                  <a:pt x="24987" y="6096"/>
                </a:cubicBezTo>
                <a:cubicBezTo>
                  <a:pt x="24962" y="6208"/>
                  <a:pt x="24911" y="6312"/>
                  <a:pt x="24860" y="64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21:28:28Z</dcterms:created>
  <dc:creator>Sharon Fieldman</dc:creator>
  <dc:description/>
  <dc:language>en-US</dc:language>
  <cp:lastModifiedBy>njamison</cp:lastModifiedBy>
  <cp:lastPrinted>2010-05-25T09:36:07Z</cp:lastPrinted>
  <dcterms:modified xsi:type="dcterms:W3CDTF">2011-05-23T16:15:34Z</dcterms:modified>
  <cp:revision>19</cp:revision>
  <dc:subject/>
  <dc:title>Goal 4.03: Systems of Equations</dc:title>
</cp:coreProperties>
</file>